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289080" y="8709120"/>
            <a:ext cx="6299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LL HAM    DIGITAL EQUIPMENT  SPI-2 WORKING GROUP NOV 4, 19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085760" y="233280"/>
            <a:ext cx="4686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TEST RESULT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MMETRICAL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REAL TERMINATORS (FAST 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514440" y="1422360"/>
            <a:ext cx="5829480" cy="64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DATA WAS ACQUIRED USING REAL LVD DEVICES AND TERMINATORS (POINT TO POINT ONLY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LAB DEVICES HAD GROSSLY  EXCESSIVE CAPACITANCE YET FULL PROTOCOL POINT TO POINT OPERATION WAS SUCCESSFUL AT 22 MET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 OF ASYMMETRICAL DRIVERS APPEARS TO COMPENSATE FOR THE BIAS FROM THE TERMINATO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STERMINATION CAUSED BY EXCESSIVE CAPACITANCE APPEARS TO BE A LIMITING FACTOR (PRESENT SPECS ARE OK BUT NEED TO BE OBSERVED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ALL THIS DATA APPEARS TO CONFIRM THE ASSUMPTIONS USED FOR THE LVD STANDAR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SIGNAL TEST  LOADS ARE BEING BUILT TO ENABLE FULL PROTOCOL TESTING FOR MULTIDROP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43080" y="487440"/>
            <a:ext cx="4686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TEST RESULT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MMETRICAL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REAL TERMINATORS (FAST 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715000" y="8273880"/>
            <a:ext cx="720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YMLVD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19280" y="5438880"/>
            <a:ext cx="4667400" cy="2781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42960" y="3351240"/>
            <a:ext cx="55245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SE LAB DEVICES HAD EXCESSIVE CAPACI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Y A FACTOR OF MORE THAN 2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APPROX 43/43/3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32080" y="2970360"/>
            <a:ext cx="3594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 TO POINT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971800"/>
            <a:ext cx="3657600" cy="304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08040" y="4665600"/>
            <a:ext cx="4678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 SEVERE REFLECTIONS CA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Y EXCESSIVE TERMINATION CAPACI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105440" y="5210280"/>
            <a:ext cx="1371600" cy="2057400"/>
          </a:xfrm>
          <a:prstGeom prst="line">
            <a:avLst/>
          </a:prstGeom>
          <a:ln w="381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5257800"/>
            <a:ext cx="838440" cy="1752480"/>
          </a:xfrm>
          <a:prstGeom prst="line">
            <a:avLst/>
          </a:prstGeom>
          <a:ln w="381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74880" y="4265640"/>
            <a:ext cx="5027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LEGAL" DEVICES WOULD HAVE NO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4267080"/>
            <a:ext cx="5105520" cy="304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346480" y="8228160"/>
            <a:ext cx="3019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BES AT TEST POINT "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198108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17680" y="213192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41960" y="2208240"/>
            <a:ext cx="15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M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0344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1812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1788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D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18456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5124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2736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74652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28640" y="5391000"/>
            <a:ext cx="4676760" cy="2809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5622840" y="8232840"/>
            <a:ext cx="787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YMLVD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43080" y="487440"/>
            <a:ext cx="4686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TEST RESULT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MMETRICAL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REAL TERMINATORS (FAST 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98108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17680" y="213192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41960" y="2208240"/>
            <a:ext cx="15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M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0344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1812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1788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D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18456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5124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727360" y="1722600"/>
            <a:ext cx="63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46520" y="1722600"/>
            <a:ext cx="63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32080" y="2970360"/>
            <a:ext cx="3594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 TO POINT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971800"/>
            <a:ext cx="3657600" cy="304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346480" y="8228160"/>
            <a:ext cx="3019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BES AT TEST POINT "D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69960" y="4037040"/>
            <a:ext cx="56149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 EXCELLENT SYMMETRY USING ASYMMETR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VERS WITH ACTUAL LVD TERMIN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42960" y="3427560"/>
            <a:ext cx="5524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SE LAB DEVICES HAD EXCESSIVE CAPACI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Y A FACTOR OF MORE THAN 2X (APPROX 43/43/3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46280" y="4646520"/>
            <a:ext cx="58514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 ABSENSE OF REFLECTIONS NEAR DRIVER (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PACITANCE HELPS SLOW DOWN DRIVER EDGES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NG CABLE ATTENUATES TERMINATOR REFLE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09560" y="5400720"/>
            <a:ext cx="4695840" cy="2809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470560" y="8232840"/>
            <a:ext cx="787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YMVLD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43080" y="487440"/>
            <a:ext cx="4686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TEST RESULT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MMETRICAL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REAL TERMINATORS (FAST 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98108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17680" y="213192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241960" y="2208240"/>
            <a:ext cx="15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M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60344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1812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1788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D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18456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5124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727360" y="1722600"/>
            <a:ext cx="63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46520" y="1722600"/>
            <a:ext cx="63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32080" y="2970360"/>
            <a:ext cx="3594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 TO POINT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971800"/>
            <a:ext cx="3657600" cy="304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346480" y="8228160"/>
            <a:ext cx="3019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BES AT TEST POINT "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12760" y="4189320"/>
            <a:ext cx="5184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 LONG RANGE SYMMETRY BUT SOME LO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SHORT RANGE SYMMETRY CAUSED BY 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42960" y="3427560"/>
            <a:ext cx="5524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SE LAB DEVICES HAD EXCESSIVE CAPACI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Y A FACTOR OF MORE THAN 2X (APPROX 43/43/3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32080" y="4799160"/>
            <a:ext cx="4813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 REFLECTIONS BEGINNING TO SHOW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943520" y="5105520"/>
            <a:ext cx="1000080" cy="2219040"/>
          </a:xfrm>
          <a:prstGeom prst="line">
            <a:avLst/>
          </a:prstGeom>
          <a:ln w="381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057480" y="5105520"/>
            <a:ext cx="447840" cy="2000160"/>
          </a:xfrm>
          <a:prstGeom prst="line">
            <a:avLst/>
          </a:prstGeom>
          <a:ln w="381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28640" y="539100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5546880" y="8232840"/>
            <a:ext cx="787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YMLVD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43080" y="487440"/>
            <a:ext cx="4686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TEST RESULT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MMETRICAL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REAL TERMINATORS (FAST 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98108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17680" y="213192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241960" y="2208240"/>
            <a:ext cx="15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M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0344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11812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11788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D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18456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25124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727360" y="1722600"/>
            <a:ext cx="63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746520" y="1722600"/>
            <a:ext cx="63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32080" y="2970360"/>
            <a:ext cx="3594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 TO POINT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2971800"/>
            <a:ext cx="3657600" cy="304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346480" y="8228160"/>
            <a:ext cx="3019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BES AT TEST POINT "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9840" y="4189320"/>
            <a:ext cx="6664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 LONG RANGE SYMMETRY BUT SIGNIFICANT LOSS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HORT RANGE SYMMETRY CAUSED BY ISI (EXPECTED RESU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42960" y="3427560"/>
            <a:ext cx="5524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SE LAB DEVICES HAD EXCESSIVE CAPACI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Y A FACTOR OF MORE THAN 2X (APPROX 43/43/3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432080" y="4799160"/>
            <a:ext cx="4484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 REFLECTIONS ARE BECOMING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MITING FACTOR NEAR THE TERM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362320" y="5334120"/>
            <a:ext cx="685800" cy="1981080"/>
          </a:xfrm>
          <a:prstGeom prst="line">
            <a:avLst/>
          </a:prstGeom>
          <a:ln w="381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48040" y="5334120"/>
            <a:ext cx="381240" cy="1828800"/>
          </a:xfrm>
          <a:prstGeom prst="line">
            <a:avLst/>
          </a:prstGeom>
          <a:ln w="381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09560" y="5381640"/>
            <a:ext cx="4686120" cy="2828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470560" y="8308800"/>
            <a:ext cx="787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YMLVD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43080" y="487440"/>
            <a:ext cx="4686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TEST RESULT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MMETRICAL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REAL TERMINATORS (FAST 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98108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17680" y="213192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241960" y="2208240"/>
            <a:ext cx="15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M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1460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0344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11812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1788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D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18456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25124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72736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74652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432080" y="2970360"/>
            <a:ext cx="3594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 TO POINT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2971800"/>
            <a:ext cx="3657600" cy="304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346480" y="8228160"/>
            <a:ext cx="3019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BES AT TEST POINT "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7120" y="4189320"/>
            <a:ext cx="6089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 LESS ISI THAN FOR 22 METERS (EXPECTED RESU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42960" y="3427560"/>
            <a:ext cx="5524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SE LAB DEVICES HAD EXCESSIVE CAPACI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Y A FACTOR OF MORE THAN 2X (APPROX 43/43/3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041560" y="4799160"/>
            <a:ext cx="3740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 REFLECTIONS STILL SEV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AR THE TERM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990800" y="5362560"/>
            <a:ext cx="685800" cy="1981080"/>
          </a:xfrm>
          <a:prstGeom prst="line">
            <a:avLst/>
          </a:prstGeom>
          <a:ln w="381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5960" y="5486400"/>
            <a:ext cx="380880" cy="1828800"/>
          </a:xfrm>
          <a:prstGeom prst="line">
            <a:avLst/>
          </a:prstGeom>
          <a:ln w="381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19280" y="5372280"/>
            <a:ext cx="4676760" cy="2847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5546880" y="8232840"/>
            <a:ext cx="787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YMLVD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43080" y="487440"/>
            <a:ext cx="4686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TEST RESULT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MMETRICAL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REAL TERMINATORS (FAST 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198108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17680" y="213192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241960" y="2208240"/>
            <a:ext cx="15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M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0344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1812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11788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D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18456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25124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727360" y="1722600"/>
            <a:ext cx="46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74652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432080" y="2970360"/>
            <a:ext cx="3594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 TO POINT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971800"/>
            <a:ext cx="3657600" cy="304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346480" y="8228160"/>
            <a:ext cx="3019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BES AT TEST POINT "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23840" y="4189320"/>
            <a:ext cx="4756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  ISI SMALLER YET (EXPECTED RESU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42960" y="3427560"/>
            <a:ext cx="5524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SE LAB DEVICES HAD EXCESSIVE CAPACI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Y A FACTOR OF MORE THAN 2X (APPROX 43/43/3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041560" y="4799160"/>
            <a:ext cx="3740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 REFLECTIONS STILL SEV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AR THE TERM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743280" y="5372280"/>
            <a:ext cx="628560" cy="1819080"/>
          </a:xfrm>
          <a:prstGeom prst="line">
            <a:avLst/>
          </a:prstGeom>
          <a:ln w="381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43680" y="5495760"/>
            <a:ext cx="380880" cy="1828800"/>
          </a:xfrm>
          <a:prstGeom prst="line">
            <a:avLst/>
          </a:prstGeom>
          <a:ln w="381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609560" y="5400720"/>
            <a:ext cx="4686120" cy="28288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5241960" y="8308800"/>
            <a:ext cx="787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YMLVD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243080" y="487440"/>
            <a:ext cx="4686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TEST RESULT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MMETRICAL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REAL TERMINATORS (FAST 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198108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17680" y="213192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241960" y="2208240"/>
            <a:ext cx="15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M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1460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60344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11812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11788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D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18456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25124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727360" y="1722600"/>
            <a:ext cx="46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74652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432080" y="2970360"/>
            <a:ext cx="3594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 TO POINT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971800"/>
            <a:ext cx="3657600" cy="304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346480" y="8228160"/>
            <a:ext cx="3019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BES AT TEST POINT "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23840" y="4189320"/>
            <a:ext cx="4756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  ISI SMALLER YET (EXPECTED RESU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42960" y="3427560"/>
            <a:ext cx="5524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SE LAB DEVICES HAD EXCESSIVE CAPACI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Y A FACTOR OF MORE THAN 2X (APPROX 43/43/3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765440" y="4799160"/>
            <a:ext cx="4292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 REFLECTIONS STILL SEV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BUT SHORTER) NEAR THE TERM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514680" y="5372280"/>
            <a:ext cx="628560" cy="1819080"/>
          </a:xfrm>
          <a:prstGeom prst="line">
            <a:avLst/>
          </a:prstGeom>
          <a:ln w="381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91040" y="5495760"/>
            <a:ext cx="381240" cy="1828800"/>
          </a:xfrm>
          <a:prstGeom prst="line">
            <a:avLst/>
          </a:prstGeom>
          <a:ln w="381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609560" y="5381640"/>
            <a:ext cx="4695840" cy="28288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5622840" y="8308800"/>
            <a:ext cx="787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YMLVD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35080" y="5819760"/>
            <a:ext cx="66816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REQ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DB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25680" y="487440"/>
            <a:ext cx="4121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TEST RESULT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LL PROTOCOL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FAST 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98108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17680" y="2131920"/>
            <a:ext cx="1154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241960" y="2208240"/>
            <a:ext cx="15382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M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H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198108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118120" y="1722600"/>
            <a:ext cx="52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51240" y="2055960"/>
            <a:ext cx="8049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727360" y="1722600"/>
            <a:ext cx="579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3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32080" y="2970360"/>
            <a:ext cx="3594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INT TO POINT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2971800"/>
            <a:ext cx="3657600" cy="304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346480" y="8228160"/>
            <a:ext cx="3019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BES AT TEST POINT "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42960" y="3427560"/>
            <a:ext cx="5524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SE LAB DEVICES HAD EXCESSIVE CAPACI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Y A FACTOR OF MORE THAN 2X (APPROX 43/43/3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355760" y="4570560"/>
            <a:ext cx="5072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: REFLETION HURTS DATA BIT MORE T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REQ SIGNAL (TIMING COINCID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iam E. Ham</dc:creator>
  <dc:description>SPI-2 WORKING GROUP PALM SPRINGS NOV 4, 1996</dc:description>
  <dc:language>en-US</dc:language>
  <cp:lastModifiedBy>William E. Ham</cp:lastModifiedBy>
  <cp:revision>0</cp:revision>
  <dc:subject/>
  <dc:title>SYMBIOS/UNITRODE LVD REAL DATA</dc:title>
</cp:coreProperties>
</file>