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819520" y="433440"/>
            <a:ext cx="1219320" cy="452520"/>
            <a:chOff x="2819520" y="433440"/>
            <a:chExt cx="1219320" cy="4525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819520" y="522360"/>
              <a:ext cx="121932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 txBox="1"/>
            <p:nvPr/>
          </p:nvSpPr>
          <p:spPr>
            <a:xfrm>
              <a:off x="3827520" y="433440"/>
              <a:ext cx="133200" cy="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500" spc="-1" strike="noStrike">
                  <a:solidFill>
                    <a:srgbClr val="990000"/>
                  </a:solidFill>
                  <a:latin typeface="Arial"/>
                  <a:ea typeface="Arial"/>
                </a:rPr>
                <a:t>T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93720" y="2395440"/>
            <a:ext cx="5467320" cy="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711680" y="8683560"/>
            <a:ext cx="15033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Coughlan - </a:t>
            </a:r>
            <a:fld id="{9DB95E91-8559-4434-A96D-BB3D82C9A52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14760" y="149400"/>
            <a:ext cx="1793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/97-124, Rev.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A3342BF8-4B58-4665-8A22-770448485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3048120"/>
            <a:ext cx="5334120" cy="20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Read Long and Write Long have a Secure Future? 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Was:  A proposal to add a new modifier to SCSI Write commands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655308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 algn="ctr">
              <a:lnSpc>
                <a:spcPct val="7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m Coug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ctr">
              <a:lnSpc>
                <a:spcPct val="7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gital Equipment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ctr">
              <a:lnSpc>
                <a:spcPct val="7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8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93800" y="1014480"/>
            <a:ext cx="55306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nd Write Lo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6560" y="2844720"/>
            <a:ext cx="5664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orce an unrecovered rea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for disk mirror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test the error detection and correction mechanisms in the storag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93800" y="1014480"/>
            <a:ext cx="55306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nd Write Long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6560" y="2844720"/>
            <a:ext cx="5664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Long is not an ideal mechanism for creating forced err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ength is drive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ata pattern is theoretically drive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Long can be used by malicious utilities to make a drive appear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93800" y="1014480"/>
            <a:ext cx="55306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36560" y="2844720"/>
            <a:ext cx="5664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bit to the Write commands that would instruct the drive to return an unrecovered ECC error on subsequent re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one-block transfer lengths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equent writes with the "force error" bit clear would return the block to normal stat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a vendor-independent method for creating force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does not infringe on DIGITAL’s paten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93800" y="1014480"/>
            <a:ext cx="55306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6560" y="2844720"/>
            <a:ext cx="5664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ong sentiment in favor of keeping Read and Write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re used as a test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for avoiding an additional way to do the sam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Write bit is probably not worth adding unless R/W Long are obso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interest in extending the new Write functiona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a unique error when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returns the data that wa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Write modifier bits, each with unique Read error c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93800" y="1014480"/>
            <a:ext cx="55306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36560" y="2844720"/>
            <a:ext cx="5664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Long is adequate for writing forced errors, if it will remain in the Standard, and in common implem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ong desire to keep R/W Long as a testing tool, indicates that it will not be obso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61"/>
              </a:spcBef>
              <a:buClr>
                <a:srgbClr val="990000"/>
              </a:buClr>
              <a:buSzPct val="130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light of this, the additional mechanism for writing forced errors is not justifi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urther work on the proposal is plan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enVMS Engineering</dc:creator>
  <dc:description/>
  <dc:language>en-US</dc:language>
  <cp:lastModifiedBy>OpenVMS Engineering</cp:lastModifiedBy>
  <cp:revision>0</cp:revision>
  <dc:subject/>
  <dc:title/>
</cp:coreProperties>
</file>