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1360" y="6202440"/>
            <a:ext cx="4797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3T10/96-251R0  Single Ended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tor Pull Up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SI-2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ref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5 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 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 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85V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inal Re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14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41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65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0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inal Z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10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2 Oh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&lt;70 degrees 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992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27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54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79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12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07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01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28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51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190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7075 V 125C Jun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179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03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24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169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VMin 125C Jun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162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187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205 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155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ed resistors are 1200 PPM, specs are 0-7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st Case Resisto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nction temperature often reach 125 degrees C, 55 degrees high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posed SPI-2 Terminator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t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5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.4 m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 m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.4 m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mA except on &lt;0.3 M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ors must meet the 20 mA minimum with 12 lines asserted on a narrow bus, 20 lines asserted on a wide bus and 37 lines asserted on a 32 bit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or maximum capacitance  within a stub length of the last device or 12.5 pF for SE and 10-10-5 pF for LV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Paul Aloisi</cp:lastModifiedBy>
  <cp:revision>0</cp:revision>
  <dc:subject/>
  <dc:title>Terminator spcification Problems</dc:title>
</cp:coreProperties>
</file>