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7680" y="8609040"/>
            <a:ext cx="6111720" cy="59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9284784D-3C5D-45FF-89D7-BAF256194DCF}" type="datetime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 Coughlan                                                                      </a:t>
            </a:r>
            <a:fld id="{790C0ECC-AAC3-4B0C-BAA2-0CF3E9C330FB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Equipment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514440" y="304812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Additional Persistent Reservation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28880" y="5181480"/>
            <a:ext cx="4800600" cy="24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SI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ck,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9-10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 Cough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Equipment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14440" y="2793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-Initiator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14440" y="1523880"/>
            <a:ext cx="582948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SCSI initiators must use some form of coordination when accessing shared storag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esirable for one or more initiators to take over when an initiator becomes unrespons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9560" y="5808600"/>
            <a:ext cx="185760" cy="61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9560" y="593244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9560" y="605628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09560" y="617868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9560" y="630252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03400" y="5958000"/>
            <a:ext cx="79200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65400" y="5808600"/>
            <a:ext cx="185760" cy="61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65400" y="593244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65400" y="605628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5400" y="617868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5400" y="630252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58880" y="5958000"/>
            <a:ext cx="79200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38640" y="5808600"/>
            <a:ext cx="185760" cy="61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38640" y="593244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38640" y="605628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38640" y="617868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38640" y="630252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32120" y="5958000"/>
            <a:ext cx="79200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94120" y="5808600"/>
            <a:ext cx="185760" cy="61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94120" y="593244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94120" y="605628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94120" y="617868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94120" y="630252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387600" y="5958000"/>
            <a:ext cx="79200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43520" y="5808600"/>
            <a:ext cx="184320" cy="61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43520" y="5932440"/>
            <a:ext cx="183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43520" y="6056280"/>
            <a:ext cx="183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43520" y="6178680"/>
            <a:ext cx="183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43520" y="6302520"/>
            <a:ext cx="183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437000" y="5958000"/>
            <a:ext cx="79200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58880" y="5340240"/>
            <a:ext cx="53352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324240" y="5340240"/>
            <a:ext cx="53352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45160" y="5340240"/>
            <a:ext cx="53352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39840" y="5253120"/>
            <a:ext cx="1297080" cy="135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68560" y="5253120"/>
            <a:ext cx="1295280" cy="135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5360" y="5253120"/>
            <a:ext cx="739800" cy="135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5240" y="7723080"/>
            <a:ext cx="75240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51280" y="7574040"/>
            <a:ext cx="184320" cy="61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51280" y="7696080"/>
            <a:ext cx="183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1280" y="7819920"/>
            <a:ext cx="183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51280" y="7943760"/>
            <a:ext cx="183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1280" y="8067600"/>
            <a:ext cx="183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33600" y="7264440"/>
            <a:ext cx="1452600" cy="12351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695340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01720" y="6419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47840" y="6419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6419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75120" y="6419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6419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048120" y="6953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05120" y="4819680"/>
            <a:ext cx="380880" cy="457200"/>
          </a:xfrm>
          <a:prstGeom prst="line">
            <a:avLst/>
          </a:prstGeom>
          <a:ln w="38160">
            <a:solidFill>
              <a:srgbClr val="91919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648320" y="4819680"/>
            <a:ext cx="380880" cy="457200"/>
          </a:xfrm>
          <a:prstGeom prst="line">
            <a:avLst/>
          </a:prstGeom>
          <a:ln w="38160">
            <a:solidFill>
              <a:srgbClr val="91919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4819680"/>
            <a:ext cx="2362320" cy="0"/>
          </a:xfrm>
          <a:prstGeom prst="line">
            <a:avLst/>
          </a:prstGeom>
          <a:ln w="381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4819680"/>
            <a:ext cx="0" cy="457200"/>
          </a:xfrm>
          <a:prstGeom prst="line">
            <a:avLst/>
          </a:prstGeom>
          <a:ln w="381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171960" y="7626240"/>
            <a:ext cx="7239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51240" y="6951600"/>
            <a:ext cx="612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422440" y="4437000"/>
            <a:ext cx="218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ion mech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4667400"/>
            <a:ext cx="228600" cy="38088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362320" y="4667400"/>
            <a:ext cx="228600" cy="38088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42960" y="279360"/>
            <a:ext cx="5524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y From Unresponsive Initiator(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4440" y="1828800"/>
            <a:ext cx="6033960" cy="294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rvivors must determin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no tasks from the unresponsive initiator in the devic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no ACA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no reservations for the unresponsive 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urther tasks from the non-responsive initiator will be accep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90880" y="8028000"/>
            <a:ext cx="154080" cy="1000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97360" y="7923240"/>
            <a:ext cx="154080" cy="1000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90880" y="7751880"/>
            <a:ext cx="154080" cy="1000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76240" y="6423120"/>
            <a:ext cx="166680" cy="46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76240" y="6516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76240" y="660888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76240" y="670068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76240" y="679464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320840" y="6535800"/>
            <a:ext cx="69696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76640" y="6423120"/>
            <a:ext cx="166680" cy="463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76640" y="651672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76640" y="660888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6640" y="670068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76640" y="679464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20880" y="6535800"/>
            <a:ext cx="69696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32160" y="6423120"/>
            <a:ext cx="166680" cy="46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32160" y="651672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32160" y="660888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32160" y="670068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2160" y="679464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76400" y="6535800"/>
            <a:ext cx="69696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32200" y="6423120"/>
            <a:ext cx="166680" cy="46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32200" y="651672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32200" y="660888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32200" y="670068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32200" y="679464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376440" y="6535800"/>
            <a:ext cx="69696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76840" y="6423120"/>
            <a:ext cx="166680" cy="46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76840" y="651672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76840" y="660888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76840" y="670068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76840" y="679464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321080" y="6535800"/>
            <a:ext cx="69696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20880" y="6070680"/>
            <a:ext cx="46980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319560" y="6070680"/>
            <a:ext cx="46980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99000" y="6070680"/>
            <a:ext cx="46980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2880" y="6006960"/>
            <a:ext cx="1168560" cy="1019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98800" y="6006960"/>
            <a:ext cx="1166760" cy="1019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6006960"/>
            <a:ext cx="665280" cy="1019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83000" y="7861320"/>
            <a:ext cx="66204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82960" y="7750080"/>
            <a:ext cx="166680" cy="46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82960" y="784224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2960" y="793440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82960" y="802800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2960" y="812160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17840" y="7518240"/>
            <a:ext cx="1308240" cy="9270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8480" y="7283520"/>
            <a:ext cx="336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59040" y="688356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51160" y="688356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3160" y="688356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05280" y="688356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54600" y="688356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070080" y="7283520"/>
            <a:ext cx="0" cy="458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041560" y="5680080"/>
            <a:ext cx="342720" cy="344520"/>
          </a:xfrm>
          <a:prstGeom prst="line">
            <a:avLst/>
          </a:prstGeom>
          <a:ln w="38160">
            <a:solidFill>
              <a:srgbClr val="91919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511520" y="5680080"/>
            <a:ext cx="343080" cy="344520"/>
          </a:xfrm>
          <a:prstGeom prst="line">
            <a:avLst/>
          </a:prstGeom>
          <a:ln w="38160">
            <a:solidFill>
              <a:srgbClr val="91919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84280" y="5680080"/>
            <a:ext cx="2127240" cy="0"/>
          </a:xfrm>
          <a:prstGeom prst="line">
            <a:avLst/>
          </a:prstGeom>
          <a:ln w="381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19440" y="5680080"/>
            <a:ext cx="0" cy="344520"/>
          </a:xfrm>
          <a:prstGeom prst="line">
            <a:avLst/>
          </a:prstGeom>
          <a:ln w="381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182760" y="7788240"/>
            <a:ext cx="6364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154400" y="7280280"/>
            <a:ext cx="54144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622600" y="5334120"/>
            <a:ext cx="191772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ion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54120" y="5565600"/>
            <a:ext cx="204840" cy="28584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454120" y="5565600"/>
            <a:ext cx="204840" cy="28584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7059600"/>
            <a:ext cx="154080" cy="100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51160" y="716904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27400" y="7189920"/>
            <a:ext cx="46080" cy="61920"/>
            <a:chOff x="2327400" y="7189920"/>
            <a:chExt cx="46080" cy="61920"/>
          </a:xfrm>
        </p:grpSpPr>
        <p:sp>
          <p:nvSpPr>
            <p:cNvPr id="207" name=""/>
            <p:cNvSpPr/>
            <p:nvPr/>
          </p:nvSpPr>
          <p:spPr>
            <a:xfrm flipH="1">
              <a:off x="2327400" y="718992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354400" y="7189920"/>
              <a:ext cx="1908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27400" y="7189920"/>
              <a:ext cx="23760" cy="58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508120" y="7209000"/>
            <a:ext cx="228600" cy="130320"/>
            <a:chOff x="2508120" y="7209000"/>
            <a:chExt cx="228600" cy="130320"/>
          </a:xfrm>
        </p:grpSpPr>
        <p:sp>
          <p:nvSpPr>
            <p:cNvPr id="211" name=""/>
            <p:cNvSpPr/>
            <p:nvPr/>
          </p:nvSpPr>
          <p:spPr>
            <a:xfrm>
              <a:off x="2508120" y="7209000"/>
              <a:ext cx="119160" cy="130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9880" y="7277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665440" y="7256520"/>
              <a:ext cx="71280" cy="38160"/>
              <a:chOff x="2665440" y="7256520"/>
              <a:chExt cx="71280" cy="38160"/>
            </a:xfrm>
          </p:grpSpPr>
          <p:sp>
            <p:nvSpPr>
              <p:cNvPr id="214" name=""/>
              <p:cNvSpPr/>
              <p:nvPr/>
            </p:nvSpPr>
            <p:spPr>
              <a:xfrm>
                <a:off x="2665440" y="725652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65440" y="7256520"/>
                <a:ext cx="7128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2665440" y="7277040"/>
                <a:ext cx="6840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2641680" y="7082640"/>
            <a:ext cx="257400" cy="415440"/>
          </a:xfrm>
          <a:custGeom>
            <a:avLst/>
            <a:gdLst/>
            <a:ahLst/>
            <a:rect l="0" t="0" r="r" b="b"/>
            <a:pathLst>
              <a:path fill="none" w="715" h="1154">
                <a:moveTo>
                  <a:pt x="0" y="1154"/>
                </a:moveTo>
                <a:lnTo>
                  <a:pt x="0" y="1154"/>
                </a:lnTo>
                <a:cubicBezTo>
                  <a:pt x="126" y="1154"/>
                  <a:pt x="249" y="1101"/>
                  <a:pt x="358" y="999"/>
                </a:cubicBezTo>
                <a:cubicBezTo>
                  <a:pt x="466" y="898"/>
                  <a:pt x="556" y="752"/>
                  <a:pt x="619" y="577"/>
                </a:cubicBezTo>
                <a:cubicBezTo>
                  <a:pt x="682" y="402"/>
                  <a:pt x="715" y="203"/>
                  <a:pt x="715" y="0"/>
                </a:cubicBezTo>
              </a:path>
            </a:pathLst>
          </a:custGeom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14440" y="2793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14440" y="1828800"/>
            <a:ext cx="582948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y should be fast, since access to the shared resource is blocked until it comple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y should not disrupt any tasks that the survivors have already queued to the de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14440" y="2793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urrent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14440" y="1828800"/>
            <a:ext cx="582948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rvivor can issue a Preempt and Clear, with an Exclusive reser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removes the appropriate tasks and reservations from the device server, clears ACA, and blocks subsequent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ortunately, it also blocks access by all the other initiators in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hared Access reservation would allow multi-access, but then the unresponsive initiator’s in-flight  commands would not be bloc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14440" y="2793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14440" y="1828800"/>
            <a:ext cx="582948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 new Persistent Reservation Type,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hared Access, Registrants Onl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Read, Write, and Reserve, b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registered initi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conflict with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ing out non-registered initiators is a Good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clearly not coope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14440" y="2793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xample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4440" y="1828800"/>
            <a:ext cx="601020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Host boots each initia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s a Shared Access, Registrants Only 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 host becomes unresponsive, one or more of the surviv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a Persistent 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= Preempt and Cl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= Shared Access, Registrants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Action Key = the key of the unresponsive init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Host recovers,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s all of its old commands are flu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registers and re-reser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14440" y="2793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14440" y="1828800"/>
            <a:ext cx="582948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change is required to support simultaneous access multiple initiator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itial proposal, posted to the SCSI reflector, called for an additional change, so that Preempt and Clear could be applied to all non-registered initi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al was to provide a means to Preempt a set of nodes quickly, and without haveing to learn each one’s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has been reconsidered, and is not being proposed at this ti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penVMS Engineering</dc:creator>
  <dc:description/>
  <dc:language>en-US</dc:language>
  <cp:lastModifiedBy>OpenVMS Engineering</cp:lastModifiedBy>
  <cp:revision>0</cp:revision>
  <dc:subject/>
  <dc:title>Proposal for Additional Persistent Reservation Functions</dc:title>
</cp:coreProperties>
</file>