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0287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52312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410400"/>
            <a:ext cx="6171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371600" y="2303640"/>
            <a:ext cx="9601200" cy="87480"/>
          </a:xfrm>
          <a:prstGeom prst="rect">
            <a:avLst/>
          </a:prstGeom>
          <a:gradFill rotWithShape="0">
            <a:gsLst>
              <a:gs pos="0">
                <a:srgbClr val="389a00"/>
              </a:gs>
              <a:gs pos="50000">
                <a:srgbClr val="51dc00"/>
              </a:gs>
              <a:gs pos="100000">
                <a:srgbClr val="389a00"/>
              </a:gs>
            </a:gsLst>
            <a:lin ang="8100000"/>
          </a:gradFill>
          <a:ln w="0">
            <a:noFill/>
          </a:ln>
        </p:spPr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091120" y="8263080"/>
            <a:ext cx="2405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DATA TECHNOLOGY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688080" y="7972560"/>
            <a:ext cx="939960" cy="291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991120" y="7805880"/>
            <a:ext cx="54756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 txBox="1"/>
          <p:nvPr/>
        </p:nvSpPr>
        <p:spPr>
          <a:xfrm>
            <a:off x="-1635120" y="8356680"/>
            <a:ext cx="64152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EM </a:t>
            </a:r>
            <a:fld id="{8D691AA5-4326-434D-9279-9E6AA769FD59}" type="datetime"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9E0822D6-A154-4108-AE2B-D7D3A3E4D2F8}" type="slidenum"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-1292400" y="1851120"/>
            <a:ext cx="432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-2 Single Ended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946840" y="1851120"/>
            <a:ext cx="224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/96-222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1387440" y="2583000"/>
            <a:ext cx="70754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DIFFERENCES BETWEEN SCSI-2 AND SCSI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 TERMINATO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WARDS UNIFIED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PRESERVING SCSI-2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PRESERVING SCSI-2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PRESERVING SCSI-2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SCSI-2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33480" y="3143160"/>
            <a:ext cx="91900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-457200" y="232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92200" y="2536920"/>
            <a:ext cx="805968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08200" y="540216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NewRomanPS"/>
                <a:ea typeface="TimesNewRomanPS"/>
              </a:rPr>
              <a:t>SCSI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5600880"/>
            <a:ext cx="23144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7760" y="4915080"/>
            <a:ext cx="171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08200" y="4487760"/>
            <a:ext cx="1116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NewRomanPS"/>
                <a:ea typeface="TimesNewRomanPS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4560" y="4686480"/>
            <a:ext cx="94320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1035000" y="7070760"/>
            <a:ext cx="3811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etter Gothic (W1)"/>
                <a:ea typeface="Letter Gothic (W1)"/>
              </a:rPr>
              <a:t>SCSI-2 : Iout max = 22.4 mA @ 0.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457200" y="232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20560" y="2536920"/>
            <a:ext cx="7831080" cy="502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79800" y="342108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NewRomanPS"/>
                <a:ea typeface="TimesNewRomanPS"/>
              </a:rPr>
              <a:t>SCSI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00480" y="3619440"/>
            <a:ext cx="120024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08080" y="524988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NewRomanPS"/>
                <a:ea typeface="TimesNewRomanPS"/>
              </a:rPr>
              <a:t>SCSI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43080" y="5448240"/>
            <a:ext cx="2657520" cy="68580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71720" y="5067360"/>
            <a:ext cx="17136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14560" y="4533840"/>
            <a:ext cx="8575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08200" y="4335480"/>
            <a:ext cx="1116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NewRomanPS"/>
                <a:ea typeface="TimesNewRomanPS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777960" y="7223040"/>
            <a:ext cx="3492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etter Gothic (W1)"/>
                <a:ea typeface="Letter Gothic (W1)"/>
              </a:rPr>
              <a:t>SCSI-3: Iout max = 24 mA @ 0.2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S</dc:creator>
  <dc:description/>
  <dc:language>en-US</dc:language>
  <cp:lastModifiedBy>Gene Milligan</cp:lastModifiedBy>
  <cp:revision>0</cp:revision>
  <dc:subject/>
  <dc:title/>
</cp:coreProperties>
</file>