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822240" y="8656560"/>
            <a:ext cx="571356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ILL HAM  DIGITAL EQUIPMENT SPI-2 WORKING GROUP  JULY 15, 1996 </a:t>
            </a:r>
            <a:fld id="{A4A7D482-C9B5-4F41-8311-FE9BFE576DE8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5029200" y="228600"/>
            <a:ext cx="14479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X3T10/96-200R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01720" y="766800"/>
            <a:ext cx="55227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VD  SCSI CURRENT MODE DRIVER DATA FAST 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90400" y="1193760"/>
            <a:ext cx="5829480" cy="69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 WAS ACQUIRED CHARACTERIZING FAST 80 LVD IN THE SAME CONFIGURATIONS AS PREVIOUSLY USED FOR FAST 40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MANY CONFIGURATIONS FAST 80 WORKS NEARLY AS WELL AS FAST 40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NFORTUNATELY, INTERSYMBOL INTERFERENCE AND HIGH FREQUENCY ATTENUATION DO NOT ALLOW A FULLY LOADED BUS TO WORK SATISFACTORILY AT ANY COMPETITIVE LENGTH (TO FAST 40) -- 3-4 METERS MAX WITH NO CHANG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INDICATION IS THAT FAST 80 IS  DIFFERENT ENOUGH FROM FAST 40 TO REQUIRE CHANGES THAT REDUCE THE ISI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IS IS THE SAME CONCLUSION WE SHOWED MANY MONTHS AGO BEFORE THE CONTROLLED LOADS WERE AVAILAB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RE IS ADEQUATE SIGNAL AMPLITUDE AND TIMING INTEGRITY TO CONSIDER A PROTOCOL SCHEME WHERE ONLY THE REQ/ACK SIGNALS ARE REQUIRED TO BE MORE "CLOCK LIKE"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ITH THIS PROTOCOL CHANGE THE FAST 80 OR FAST 100 MODE APPEARS ABLE TO USE THE SAME CONFIGURATION RULES AS FAST 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1630440" y="5394240"/>
            <a:ext cx="4668840" cy="280044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 txBox="1"/>
          <p:nvPr/>
        </p:nvSpPr>
        <p:spPr>
          <a:xfrm>
            <a:off x="1392120" y="728172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25320" y="560052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617400" y="593568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139760" y="6075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939960" y="695952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963720" y="756144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8640" y="721368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81000" y="574200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620720" y="7397640"/>
            <a:ext cx="46832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295280" y="2514600"/>
            <a:ext cx="4876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572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676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7815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8862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9910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0958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2005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3053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4100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5148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6196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7243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8294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9342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039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143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460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5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6702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7656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861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9849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50990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52038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52992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54133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5518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56134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5718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5823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5927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60325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4356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251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556160" y="1698480"/>
            <a:ext cx="154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BBON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2060640" y="1698480"/>
            <a:ext cx="1498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ND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4390920" y="1981080"/>
            <a:ext cx="2574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838840" y="1981080"/>
            <a:ext cx="2570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4005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13431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270160" y="1469880"/>
            <a:ext cx="1171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784760" y="1469880"/>
            <a:ext cx="12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5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251240" y="2841480"/>
            <a:ext cx="21700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 - 20/20/10 pF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N 10”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4” STUB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2879640" y="2841480"/>
            <a:ext cx="806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S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3772080" y="2666880"/>
            <a:ext cx="809280" cy="285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51680" y="2677680"/>
            <a:ext cx="328680" cy="832680"/>
          </a:xfrm>
          <a:custGeom>
            <a:avLst/>
            <a:gdLst/>
            <a:ahLst/>
            <a:rect l="0" t="0" r="r" b="b"/>
            <a:pathLst>
              <a:path fill="none" w="913" h="2313">
                <a:moveTo>
                  <a:pt x="284" y="2313"/>
                </a:moveTo>
                <a:lnTo>
                  <a:pt x="913" y="2236"/>
                </a:lnTo>
                <a:lnTo>
                  <a:pt x="913" y="2236"/>
                </a:lnTo>
                <a:lnTo>
                  <a:pt x="913" y="2236"/>
                </a:lnTo>
                <a:cubicBezTo>
                  <a:pt x="863" y="1830"/>
                  <a:pt x="785" y="1435"/>
                  <a:pt x="687" y="1090"/>
                </a:cubicBezTo>
                <a:cubicBezTo>
                  <a:pt x="588" y="745"/>
                  <a:pt x="473" y="463"/>
                  <a:pt x="352" y="272"/>
                </a:cubicBezTo>
                <a:cubicBezTo>
                  <a:pt x="232" y="81"/>
                  <a:pt x="110" y="-12"/>
                  <a:pt x="0" y="1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4708440" y="1927080"/>
            <a:ext cx="1019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~ 20pF/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2422440" y="5051520"/>
            <a:ext cx="362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IVER AT POS 14, PROBES AT POS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898560" y="487440"/>
            <a:ext cx="53769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VD  SCSI CURRENT MODE DRIV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ST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715000" y="8045280"/>
            <a:ext cx="738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DV80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584360" y="4624560"/>
            <a:ext cx="42480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: NO RECEIVER AT THIS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479840" y="3603600"/>
            <a:ext cx="22986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SITION 1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4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06440" y="2689200"/>
            <a:ext cx="22986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SITION 16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4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1620720" y="5394240"/>
            <a:ext cx="4668840" cy="279396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 txBox="1"/>
          <p:nvPr/>
        </p:nvSpPr>
        <p:spPr>
          <a:xfrm>
            <a:off x="1392120" y="728172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625320" y="560052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617400" y="593568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139760" y="6075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939960" y="695952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963720" y="756144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458640" y="721368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81000" y="574200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620720" y="7397640"/>
            <a:ext cx="46832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295280" y="2514600"/>
            <a:ext cx="4876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572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676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7815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8862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9910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0958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2005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3053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5148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6196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7243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8294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9342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039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143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460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575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6702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7656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861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49849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50990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52038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52992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54133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5518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56134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5718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5823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5927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60325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4356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251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4556160" y="1698480"/>
            <a:ext cx="154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BBON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2060640" y="1698480"/>
            <a:ext cx="1498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ND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4390920" y="1981080"/>
            <a:ext cx="2574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838840" y="1981080"/>
            <a:ext cx="2570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4005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13431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2270160" y="1469880"/>
            <a:ext cx="1171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4784760" y="1469880"/>
            <a:ext cx="12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5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251240" y="2841480"/>
            <a:ext cx="21700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 - 20/20/10 pF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N 10”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4” STUB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2879640" y="2841480"/>
            <a:ext cx="806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S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3772080" y="2666880"/>
            <a:ext cx="809280" cy="285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151680" y="2677680"/>
            <a:ext cx="328680" cy="832680"/>
          </a:xfrm>
          <a:custGeom>
            <a:avLst/>
            <a:gdLst/>
            <a:ahLst/>
            <a:rect l="0" t="0" r="r" b="b"/>
            <a:pathLst>
              <a:path fill="none" w="913" h="2313">
                <a:moveTo>
                  <a:pt x="284" y="2313"/>
                </a:moveTo>
                <a:lnTo>
                  <a:pt x="913" y="2236"/>
                </a:lnTo>
                <a:lnTo>
                  <a:pt x="913" y="2236"/>
                </a:lnTo>
                <a:lnTo>
                  <a:pt x="913" y="2236"/>
                </a:lnTo>
                <a:cubicBezTo>
                  <a:pt x="863" y="1830"/>
                  <a:pt x="785" y="1435"/>
                  <a:pt x="687" y="1090"/>
                </a:cubicBezTo>
                <a:cubicBezTo>
                  <a:pt x="588" y="745"/>
                  <a:pt x="473" y="463"/>
                  <a:pt x="352" y="272"/>
                </a:cubicBezTo>
                <a:cubicBezTo>
                  <a:pt x="232" y="81"/>
                  <a:pt x="110" y="-12"/>
                  <a:pt x="0" y="1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708440" y="1927080"/>
            <a:ext cx="1019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~ 20pF/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2422440" y="5051520"/>
            <a:ext cx="3524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IVER AT POS 14, PROBES AT POS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898560" y="487440"/>
            <a:ext cx="53769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VD  SCSI CURRENT MODE DRIV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ST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5715000" y="8045280"/>
            <a:ext cx="738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DV80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479840" y="3603600"/>
            <a:ext cx="22986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SITION 1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4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406440" y="2689200"/>
            <a:ext cx="22986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SITION 16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4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" descr=""/>
          <p:cNvPicPr/>
          <p:nvPr/>
        </p:nvPicPr>
        <p:blipFill>
          <a:blip r:embed="rId1"/>
          <a:stretch/>
        </p:blipFill>
        <p:spPr>
          <a:xfrm>
            <a:off x="1620720" y="5389560"/>
            <a:ext cx="4678200" cy="2789280"/>
          </a:xfrm>
          <a:prstGeom prst="rect">
            <a:avLst/>
          </a:prstGeom>
          <a:ln w="0">
            <a:noFill/>
          </a:ln>
        </p:spPr>
      </p:pic>
      <p:sp>
        <p:nvSpPr>
          <p:cNvPr id="677" name=""/>
          <p:cNvSpPr txBox="1"/>
          <p:nvPr/>
        </p:nvSpPr>
        <p:spPr>
          <a:xfrm>
            <a:off x="1392120" y="728172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625320" y="560052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617400" y="593568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139760" y="6075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939960" y="695952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963720" y="756144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458640" y="721368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81000" y="574200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620720" y="7397640"/>
            <a:ext cx="46832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295280" y="2514600"/>
            <a:ext cx="4876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572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676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7815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8862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9910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0958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2005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3053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4100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5148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6196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7243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8294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9342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039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143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4460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4575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46702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47656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861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49849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50990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52038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52992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54133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5518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56134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5718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5823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5927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60325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4356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4251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4556160" y="1698480"/>
            <a:ext cx="154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BBON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2060640" y="1698480"/>
            <a:ext cx="1498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ND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4390920" y="1981080"/>
            <a:ext cx="2574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838840" y="1981080"/>
            <a:ext cx="2570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4005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13431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2270160" y="1469880"/>
            <a:ext cx="1171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4784760" y="1469880"/>
            <a:ext cx="12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5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4251240" y="2841480"/>
            <a:ext cx="21700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 - 20/20/10 pF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N 10”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4” STUB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2879640" y="2841480"/>
            <a:ext cx="806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S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3772080" y="2666880"/>
            <a:ext cx="809280" cy="285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151680" y="2677680"/>
            <a:ext cx="328680" cy="832680"/>
          </a:xfrm>
          <a:custGeom>
            <a:avLst/>
            <a:gdLst/>
            <a:ahLst/>
            <a:rect l="0" t="0" r="r" b="b"/>
            <a:pathLst>
              <a:path fill="none" w="913" h="2313">
                <a:moveTo>
                  <a:pt x="284" y="2313"/>
                </a:moveTo>
                <a:lnTo>
                  <a:pt x="913" y="2236"/>
                </a:lnTo>
                <a:lnTo>
                  <a:pt x="913" y="2236"/>
                </a:lnTo>
                <a:lnTo>
                  <a:pt x="913" y="2236"/>
                </a:lnTo>
                <a:cubicBezTo>
                  <a:pt x="863" y="1830"/>
                  <a:pt x="785" y="1435"/>
                  <a:pt x="687" y="1090"/>
                </a:cubicBezTo>
                <a:cubicBezTo>
                  <a:pt x="588" y="745"/>
                  <a:pt x="473" y="463"/>
                  <a:pt x="352" y="272"/>
                </a:cubicBezTo>
                <a:cubicBezTo>
                  <a:pt x="232" y="81"/>
                  <a:pt x="110" y="-12"/>
                  <a:pt x="0" y="1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4708440" y="1927080"/>
            <a:ext cx="1019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~ 20pF/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2422440" y="5051520"/>
            <a:ext cx="362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IVER AT POS 14, PROBES AT POS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898560" y="487440"/>
            <a:ext cx="53769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VD  SCSI CURRENT MODE DRIV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ST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5715000" y="8045280"/>
            <a:ext cx="738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DV80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4479840" y="3603600"/>
            <a:ext cx="22986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SITION 1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4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406440" y="2689200"/>
            <a:ext cx="22986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SITION 16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4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1625760" y="5394240"/>
            <a:ext cx="4683240" cy="280980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 txBox="1"/>
          <p:nvPr/>
        </p:nvSpPr>
        <p:spPr>
          <a:xfrm>
            <a:off x="1392120" y="728172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625320" y="560052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617400" y="593568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139760" y="6075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939960" y="695952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963720" y="756144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458640" y="721368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81000" y="574200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620720" y="7397640"/>
            <a:ext cx="46832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295280" y="2514600"/>
            <a:ext cx="4876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572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676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15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8862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9910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0958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2005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3053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4100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5148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6196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7243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8294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9342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039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143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4460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4575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46702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47656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4861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49849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50990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52038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52992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54133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5518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56134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5718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5823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5927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60325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4356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4251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4556160" y="1698480"/>
            <a:ext cx="154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BBON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2060640" y="1698480"/>
            <a:ext cx="1498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ND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4390920" y="1981080"/>
            <a:ext cx="2574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838840" y="1981080"/>
            <a:ext cx="2570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4005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13431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2270160" y="1469880"/>
            <a:ext cx="1171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4784760" y="1469880"/>
            <a:ext cx="12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5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4251240" y="2841480"/>
            <a:ext cx="21700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 - 20/20/10 pF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N 10”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4” STUB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2879640" y="2841480"/>
            <a:ext cx="806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S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3772080" y="2666880"/>
            <a:ext cx="809280" cy="285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6151680" y="2677680"/>
            <a:ext cx="328680" cy="832680"/>
          </a:xfrm>
          <a:custGeom>
            <a:avLst/>
            <a:gdLst/>
            <a:ahLst/>
            <a:rect l="0" t="0" r="r" b="b"/>
            <a:pathLst>
              <a:path fill="none" w="913" h="2313">
                <a:moveTo>
                  <a:pt x="284" y="2313"/>
                </a:moveTo>
                <a:lnTo>
                  <a:pt x="913" y="2236"/>
                </a:lnTo>
                <a:lnTo>
                  <a:pt x="913" y="2236"/>
                </a:lnTo>
                <a:lnTo>
                  <a:pt x="913" y="2236"/>
                </a:lnTo>
                <a:cubicBezTo>
                  <a:pt x="863" y="1830"/>
                  <a:pt x="785" y="1435"/>
                  <a:pt x="687" y="1090"/>
                </a:cubicBezTo>
                <a:cubicBezTo>
                  <a:pt x="588" y="745"/>
                  <a:pt x="473" y="463"/>
                  <a:pt x="352" y="272"/>
                </a:cubicBezTo>
                <a:cubicBezTo>
                  <a:pt x="232" y="81"/>
                  <a:pt x="110" y="-12"/>
                  <a:pt x="0" y="1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4708440" y="1927080"/>
            <a:ext cx="1019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~ 20pF/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2422440" y="5051520"/>
            <a:ext cx="362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IVER AT POS 14, PROBES AT POS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898560" y="487440"/>
            <a:ext cx="53769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VD  SCSI CURRENT MODE DRIV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ST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5715000" y="8045280"/>
            <a:ext cx="738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DV80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4479840" y="3603600"/>
            <a:ext cx="22986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SITION 1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4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406440" y="2689200"/>
            <a:ext cx="22986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SITION 16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4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" descr=""/>
          <p:cNvPicPr/>
          <p:nvPr/>
        </p:nvPicPr>
        <p:blipFill>
          <a:blip r:embed="rId1"/>
          <a:stretch/>
        </p:blipFill>
        <p:spPr>
          <a:xfrm>
            <a:off x="1630440" y="5394240"/>
            <a:ext cx="4668840" cy="280980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 txBox="1"/>
          <p:nvPr/>
        </p:nvSpPr>
        <p:spPr>
          <a:xfrm>
            <a:off x="1392120" y="728172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625320" y="560052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617400" y="593568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139760" y="6075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939960" y="695952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963720" y="756144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458640" y="721368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81000" y="574200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620720" y="7397640"/>
            <a:ext cx="46832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295280" y="2514600"/>
            <a:ext cx="4876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572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676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7815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8862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9910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0958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2005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53053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4100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5148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6196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7243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8294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9342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039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143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4460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4575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46702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47656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4861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49849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50990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52038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52992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54133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5518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56134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5718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5823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5927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60325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4356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4251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4556160" y="1698480"/>
            <a:ext cx="154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BBON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2060640" y="1698480"/>
            <a:ext cx="1498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ND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4390920" y="1981080"/>
            <a:ext cx="2574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838840" y="1981080"/>
            <a:ext cx="2570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4005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13431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2270160" y="1469880"/>
            <a:ext cx="1171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4784760" y="1469880"/>
            <a:ext cx="12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5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4251240" y="2841480"/>
            <a:ext cx="21700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 - 20/20/10 pF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N 10”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4” STUB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2879640" y="2841480"/>
            <a:ext cx="806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S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3772080" y="2666880"/>
            <a:ext cx="809280" cy="285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151680" y="2677680"/>
            <a:ext cx="328680" cy="832680"/>
          </a:xfrm>
          <a:custGeom>
            <a:avLst/>
            <a:gdLst/>
            <a:ahLst/>
            <a:rect l="0" t="0" r="r" b="b"/>
            <a:pathLst>
              <a:path fill="none" w="913" h="2313">
                <a:moveTo>
                  <a:pt x="284" y="2313"/>
                </a:moveTo>
                <a:lnTo>
                  <a:pt x="913" y="2236"/>
                </a:lnTo>
                <a:lnTo>
                  <a:pt x="913" y="2236"/>
                </a:lnTo>
                <a:lnTo>
                  <a:pt x="913" y="2236"/>
                </a:lnTo>
                <a:cubicBezTo>
                  <a:pt x="863" y="1830"/>
                  <a:pt x="785" y="1435"/>
                  <a:pt x="687" y="1090"/>
                </a:cubicBezTo>
                <a:cubicBezTo>
                  <a:pt x="588" y="745"/>
                  <a:pt x="473" y="463"/>
                  <a:pt x="352" y="272"/>
                </a:cubicBezTo>
                <a:cubicBezTo>
                  <a:pt x="232" y="81"/>
                  <a:pt x="110" y="-12"/>
                  <a:pt x="0" y="1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4708440" y="1927080"/>
            <a:ext cx="1019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~ 20pF/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2422440" y="5051520"/>
            <a:ext cx="3524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IVER AT POS 2, PROBES AT POS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898560" y="487440"/>
            <a:ext cx="53769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VD  SCSI CURRENT MODE DRIV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ST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5715000" y="8045280"/>
            <a:ext cx="738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DV80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4479840" y="3603600"/>
            <a:ext cx="22986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SITION 1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4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406440" y="2689200"/>
            <a:ext cx="22986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SITION 16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4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5" name="" descr=""/>
          <p:cNvPicPr/>
          <p:nvPr/>
        </p:nvPicPr>
        <p:blipFill>
          <a:blip r:embed="rId1"/>
          <a:stretch/>
        </p:blipFill>
        <p:spPr>
          <a:xfrm>
            <a:off x="1625760" y="5400720"/>
            <a:ext cx="4668840" cy="2778120"/>
          </a:xfrm>
          <a:prstGeom prst="rect">
            <a:avLst/>
          </a:prstGeom>
          <a:ln w="0">
            <a:noFill/>
          </a:ln>
        </p:spPr>
      </p:pic>
      <p:sp>
        <p:nvSpPr>
          <p:cNvPr id="866" name=""/>
          <p:cNvSpPr txBox="1"/>
          <p:nvPr/>
        </p:nvSpPr>
        <p:spPr>
          <a:xfrm>
            <a:off x="1392120" y="728172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625320" y="560052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617400" y="593568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139760" y="6075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939960" y="695952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963720" y="756144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458640" y="721368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81000" y="574200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620720" y="7397640"/>
            <a:ext cx="46832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295280" y="2514600"/>
            <a:ext cx="4876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572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676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7815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8862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49910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0958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52005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3053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4100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55148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6196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57243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58294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9342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039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6143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4460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4575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46702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47656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4861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49849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50990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52038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52992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54133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5518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56134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5718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5823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5927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60325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4356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4251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4556160" y="1698480"/>
            <a:ext cx="154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BBON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2060640" y="1698480"/>
            <a:ext cx="1498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ND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4390920" y="1981080"/>
            <a:ext cx="2574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838840" y="1981080"/>
            <a:ext cx="2570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34005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13431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2270160" y="146988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4784760" y="1469880"/>
            <a:ext cx="12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5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4251240" y="2841480"/>
            <a:ext cx="21700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 - 20/20/10 pF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N 10”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4” STUB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2879640" y="2841480"/>
            <a:ext cx="806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S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3772080" y="2666880"/>
            <a:ext cx="809280" cy="285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151680" y="2677680"/>
            <a:ext cx="328680" cy="832680"/>
          </a:xfrm>
          <a:custGeom>
            <a:avLst/>
            <a:gdLst/>
            <a:ahLst/>
            <a:rect l="0" t="0" r="r" b="b"/>
            <a:pathLst>
              <a:path fill="none" w="913" h="2313">
                <a:moveTo>
                  <a:pt x="284" y="2313"/>
                </a:moveTo>
                <a:lnTo>
                  <a:pt x="913" y="2236"/>
                </a:lnTo>
                <a:lnTo>
                  <a:pt x="913" y="2236"/>
                </a:lnTo>
                <a:lnTo>
                  <a:pt x="913" y="2236"/>
                </a:lnTo>
                <a:cubicBezTo>
                  <a:pt x="863" y="1830"/>
                  <a:pt x="785" y="1435"/>
                  <a:pt x="687" y="1090"/>
                </a:cubicBezTo>
                <a:cubicBezTo>
                  <a:pt x="588" y="745"/>
                  <a:pt x="473" y="463"/>
                  <a:pt x="352" y="272"/>
                </a:cubicBezTo>
                <a:cubicBezTo>
                  <a:pt x="232" y="81"/>
                  <a:pt x="110" y="-12"/>
                  <a:pt x="0" y="1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4708440" y="1927080"/>
            <a:ext cx="1019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~ 20pF/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2422440" y="5051520"/>
            <a:ext cx="3524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IVER AT POS 2, PROBES AT POS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898560" y="487440"/>
            <a:ext cx="53769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VD  SCSI CURRENT MODE DRIV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ST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5715000" y="8045280"/>
            <a:ext cx="738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DV80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4479840" y="3603600"/>
            <a:ext cx="22986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SITION 1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4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406440" y="2689200"/>
            <a:ext cx="22986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SITION 16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4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" descr=""/>
          <p:cNvPicPr/>
          <p:nvPr/>
        </p:nvPicPr>
        <p:blipFill>
          <a:blip r:embed="rId1"/>
          <a:stretch/>
        </p:blipFill>
        <p:spPr>
          <a:xfrm>
            <a:off x="1625760" y="5400720"/>
            <a:ext cx="4678200" cy="2808360"/>
          </a:xfrm>
          <a:prstGeom prst="rect">
            <a:avLst/>
          </a:prstGeom>
          <a:ln w="0">
            <a:noFill/>
          </a:ln>
        </p:spPr>
      </p:pic>
      <p:sp>
        <p:nvSpPr>
          <p:cNvPr id="929" name=""/>
          <p:cNvSpPr txBox="1"/>
          <p:nvPr/>
        </p:nvSpPr>
        <p:spPr>
          <a:xfrm>
            <a:off x="1392120" y="728172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625320" y="560052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617400" y="593568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139760" y="6075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939960" y="695952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963720" y="756144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458640" y="721368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81000" y="574200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620720" y="7397640"/>
            <a:ext cx="46832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295280" y="2514600"/>
            <a:ext cx="4876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572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4676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7815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48862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49910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50958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52005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3053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4100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5148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6196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7243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8294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9342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6039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6143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4460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4575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46702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47656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4861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49849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50990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52038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52992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54133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5518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56134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5718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5823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5927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 txBox="1"/>
          <p:nvPr/>
        </p:nvSpPr>
        <p:spPr>
          <a:xfrm>
            <a:off x="60325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4356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4251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4556160" y="1698480"/>
            <a:ext cx="154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BBON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2060640" y="1698480"/>
            <a:ext cx="1498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ND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4390920" y="1981080"/>
            <a:ext cx="2574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838840" y="1981080"/>
            <a:ext cx="2570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34005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13431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2270160" y="146988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4784760" y="1469880"/>
            <a:ext cx="12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5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4251240" y="2841480"/>
            <a:ext cx="21700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 - 20/20/10 pF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N 10”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4” STUB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 txBox="1"/>
          <p:nvPr/>
        </p:nvSpPr>
        <p:spPr>
          <a:xfrm>
            <a:off x="2879640" y="2841480"/>
            <a:ext cx="806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S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3772080" y="2666880"/>
            <a:ext cx="809280" cy="285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151680" y="2677680"/>
            <a:ext cx="328680" cy="832680"/>
          </a:xfrm>
          <a:custGeom>
            <a:avLst/>
            <a:gdLst/>
            <a:ahLst/>
            <a:rect l="0" t="0" r="r" b="b"/>
            <a:pathLst>
              <a:path fill="none" w="913" h="2313">
                <a:moveTo>
                  <a:pt x="284" y="2313"/>
                </a:moveTo>
                <a:lnTo>
                  <a:pt x="913" y="2236"/>
                </a:lnTo>
                <a:lnTo>
                  <a:pt x="913" y="2236"/>
                </a:lnTo>
                <a:lnTo>
                  <a:pt x="913" y="2236"/>
                </a:lnTo>
                <a:cubicBezTo>
                  <a:pt x="863" y="1830"/>
                  <a:pt x="785" y="1435"/>
                  <a:pt x="687" y="1090"/>
                </a:cubicBezTo>
                <a:cubicBezTo>
                  <a:pt x="588" y="745"/>
                  <a:pt x="473" y="463"/>
                  <a:pt x="352" y="272"/>
                </a:cubicBezTo>
                <a:cubicBezTo>
                  <a:pt x="232" y="81"/>
                  <a:pt x="110" y="-12"/>
                  <a:pt x="0" y="1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4708440" y="1927080"/>
            <a:ext cx="1019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~ 20pF/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2422440" y="5051520"/>
            <a:ext cx="3524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IVER AT POS 2, PROBES AT POS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898560" y="487440"/>
            <a:ext cx="53769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VD  SCSI CURRENT MODE DRIV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ST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5715000" y="8045280"/>
            <a:ext cx="738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DV800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4479840" y="3603600"/>
            <a:ext cx="22986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SITION 1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4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406440" y="2689200"/>
            <a:ext cx="22986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SITION 16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4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" descr=""/>
          <p:cNvPicPr/>
          <p:nvPr/>
        </p:nvPicPr>
        <p:blipFill>
          <a:blip r:embed="rId1"/>
          <a:stretch/>
        </p:blipFill>
        <p:spPr>
          <a:xfrm>
            <a:off x="1625760" y="5394240"/>
            <a:ext cx="4683240" cy="2800440"/>
          </a:xfrm>
          <a:prstGeom prst="rect">
            <a:avLst/>
          </a:prstGeom>
          <a:ln w="0">
            <a:noFill/>
          </a:ln>
        </p:spPr>
      </p:pic>
      <p:sp>
        <p:nvSpPr>
          <p:cNvPr id="992" name=""/>
          <p:cNvSpPr txBox="1"/>
          <p:nvPr/>
        </p:nvSpPr>
        <p:spPr>
          <a:xfrm>
            <a:off x="1392120" y="728172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625320" y="560052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617400" y="593568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1139760" y="6075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939960" y="695952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963720" y="756144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458640" y="721368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81000" y="574200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620720" y="7397640"/>
            <a:ext cx="46832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295280" y="2514600"/>
            <a:ext cx="4876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4572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676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7815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8862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49910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50958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2005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3053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4100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55148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56196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57243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58294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9342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6039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6143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4460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4575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46702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47656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4861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49849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 txBox="1"/>
          <p:nvPr/>
        </p:nvSpPr>
        <p:spPr>
          <a:xfrm>
            <a:off x="50990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52038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52992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54133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5518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56134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5718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5823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5927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60325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4356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4251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4556160" y="1698480"/>
            <a:ext cx="154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BBON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2060640" y="1698480"/>
            <a:ext cx="1498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ND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4390920" y="1981080"/>
            <a:ext cx="2574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5838840" y="1981080"/>
            <a:ext cx="2570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34005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13431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2270160" y="146988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4784760" y="1469880"/>
            <a:ext cx="12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5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4251240" y="2841480"/>
            <a:ext cx="21700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 - 20/20/10 pF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N 10”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4” STUB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2879640" y="2841480"/>
            <a:ext cx="806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S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3772080" y="2666880"/>
            <a:ext cx="809280" cy="285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6151680" y="2677680"/>
            <a:ext cx="328680" cy="832680"/>
          </a:xfrm>
          <a:custGeom>
            <a:avLst/>
            <a:gdLst/>
            <a:ahLst/>
            <a:rect l="0" t="0" r="r" b="b"/>
            <a:pathLst>
              <a:path fill="none" w="913" h="2313">
                <a:moveTo>
                  <a:pt x="284" y="2313"/>
                </a:moveTo>
                <a:lnTo>
                  <a:pt x="913" y="2236"/>
                </a:lnTo>
                <a:lnTo>
                  <a:pt x="913" y="2236"/>
                </a:lnTo>
                <a:lnTo>
                  <a:pt x="913" y="2236"/>
                </a:lnTo>
                <a:cubicBezTo>
                  <a:pt x="863" y="1830"/>
                  <a:pt x="785" y="1435"/>
                  <a:pt x="687" y="1090"/>
                </a:cubicBezTo>
                <a:cubicBezTo>
                  <a:pt x="588" y="745"/>
                  <a:pt x="473" y="463"/>
                  <a:pt x="352" y="272"/>
                </a:cubicBezTo>
                <a:cubicBezTo>
                  <a:pt x="232" y="81"/>
                  <a:pt x="110" y="-12"/>
                  <a:pt x="0" y="1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4708440" y="1927080"/>
            <a:ext cx="1019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~ 20pF/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2422440" y="5051520"/>
            <a:ext cx="3524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IVER AT POS 2, PROBES AT POS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898560" y="487440"/>
            <a:ext cx="53769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VD  SCSI CURRENT MODE DRIV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ST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5715000" y="8045280"/>
            <a:ext cx="738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DV800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4479840" y="3603600"/>
            <a:ext cx="22986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SITION 1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4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406440" y="2689200"/>
            <a:ext cx="22986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SITION 16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4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27200" y="5373720"/>
            <a:ext cx="4689360" cy="2817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392120" y="728172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25320" y="560052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17400" y="593568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39760" y="6075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39960" y="695952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63720" y="756144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8640" y="721368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1000" y="574200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20720" y="7397640"/>
            <a:ext cx="46832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2514600"/>
            <a:ext cx="4876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76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815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862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910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958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005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053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100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148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6196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243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294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342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39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43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460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5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702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7656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861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9849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0990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2038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2992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4133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518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6134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718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823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927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0325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356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251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56160" y="1698480"/>
            <a:ext cx="154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BBON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060640" y="1698480"/>
            <a:ext cx="1498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ND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390920" y="1981080"/>
            <a:ext cx="2574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38840" y="1981080"/>
            <a:ext cx="2570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005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3431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70160" y="1469880"/>
            <a:ext cx="1171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784760" y="1469880"/>
            <a:ext cx="12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5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251240" y="2841480"/>
            <a:ext cx="21700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 - 20/20/10 pF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N 10”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4” STUB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879640" y="2841480"/>
            <a:ext cx="806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S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772080" y="2666880"/>
            <a:ext cx="809280" cy="285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479840" y="3603600"/>
            <a:ext cx="22986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SITION 1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4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51680" y="2677680"/>
            <a:ext cx="328680" cy="832680"/>
          </a:xfrm>
          <a:custGeom>
            <a:avLst/>
            <a:gdLst/>
            <a:ahLst/>
            <a:rect l="0" t="0" r="r" b="b"/>
            <a:pathLst>
              <a:path fill="none" w="913" h="2313">
                <a:moveTo>
                  <a:pt x="284" y="2313"/>
                </a:moveTo>
                <a:lnTo>
                  <a:pt x="913" y="2236"/>
                </a:lnTo>
                <a:lnTo>
                  <a:pt x="913" y="2236"/>
                </a:lnTo>
                <a:lnTo>
                  <a:pt x="913" y="2236"/>
                </a:lnTo>
                <a:cubicBezTo>
                  <a:pt x="863" y="1830"/>
                  <a:pt x="785" y="1435"/>
                  <a:pt x="687" y="1090"/>
                </a:cubicBezTo>
                <a:cubicBezTo>
                  <a:pt x="588" y="745"/>
                  <a:pt x="473" y="463"/>
                  <a:pt x="352" y="272"/>
                </a:cubicBezTo>
                <a:cubicBezTo>
                  <a:pt x="232" y="81"/>
                  <a:pt x="110" y="-12"/>
                  <a:pt x="0" y="1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06440" y="2689200"/>
            <a:ext cx="22986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SITION 16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4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708440" y="1927080"/>
            <a:ext cx="1019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~ 20pF/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422440" y="5051520"/>
            <a:ext cx="3424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IVER AT POS 2, PROBES AT POS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98560" y="487440"/>
            <a:ext cx="53769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VD  SCSI CURRENT MODE DRIV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ST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715000" y="8045280"/>
            <a:ext cx="738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DV800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584360" y="4624560"/>
            <a:ext cx="42480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: NO RECEIVER AT THIS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00200" y="5403960"/>
            <a:ext cx="4686120" cy="2797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392120" y="728172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25320" y="560052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7400" y="593568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39760" y="6075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39960" y="695952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63720" y="756144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8640" y="721368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1000" y="574200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20720" y="7397640"/>
            <a:ext cx="46832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2514600"/>
            <a:ext cx="4876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76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815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862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910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958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005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053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148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96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243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294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342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39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43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460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5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702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7656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861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9849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0990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2038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2992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4133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518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6134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718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823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927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0325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356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251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56160" y="1698480"/>
            <a:ext cx="154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BBON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060640" y="1698480"/>
            <a:ext cx="1498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ND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390920" y="1981080"/>
            <a:ext cx="2574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38840" y="1981080"/>
            <a:ext cx="2570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005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3431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270160" y="1469880"/>
            <a:ext cx="1171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784760" y="1469880"/>
            <a:ext cx="12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5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251240" y="2841480"/>
            <a:ext cx="21700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 - 20/20/10 pF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N 10”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4” STUB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79640" y="2841480"/>
            <a:ext cx="806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S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72080" y="2666880"/>
            <a:ext cx="809280" cy="285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51680" y="2677680"/>
            <a:ext cx="328680" cy="832680"/>
          </a:xfrm>
          <a:custGeom>
            <a:avLst/>
            <a:gdLst/>
            <a:ahLst/>
            <a:rect l="0" t="0" r="r" b="b"/>
            <a:pathLst>
              <a:path fill="none" w="913" h="2313">
                <a:moveTo>
                  <a:pt x="284" y="2313"/>
                </a:moveTo>
                <a:lnTo>
                  <a:pt x="913" y="2236"/>
                </a:lnTo>
                <a:lnTo>
                  <a:pt x="913" y="2236"/>
                </a:lnTo>
                <a:lnTo>
                  <a:pt x="913" y="2236"/>
                </a:lnTo>
                <a:cubicBezTo>
                  <a:pt x="863" y="1830"/>
                  <a:pt x="785" y="1435"/>
                  <a:pt x="687" y="1090"/>
                </a:cubicBezTo>
                <a:cubicBezTo>
                  <a:pt x="588" y="745"/>
                  <a:pt x="473" y="463"/>
                  <a:pt x="352" y="272"/>
                </a:cubicBezTo>
                <a:cubicBezTo>
                  <a:pt x="232" y="81"/>
                  <a:pt x="110" y="-12"/>
                  <a:pt x="0" y="1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708440" y="1927080"/>
            <a:ext cx="1019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~ 20pF/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422440" y="5051520"/>
            <a:ext cx="3424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IVER AT POS 2, PROBES AT POS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98560" y="487440"/>
            <a:ext cx="53769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VD  SCSI CURRENT MODE DRIV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ST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715000" y="8045280"/>
            <a:ext cx="738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DV80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479840" y="3603600"/>
            <a:ext cx="22986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SITION 1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4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06440" y="2689200"/>
            <a:ext cx="22986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SITION 16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4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649520" y="5400720"/>
            <a:ext cx="4678200" cy="27874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1392120" y="728172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25320" y="560052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17400" y="593568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39760" y="6075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39960" y="695952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963720" y="756144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8640" y="721368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81000" y="574200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20720" y="7397640"/>
            <a:ext cx="46832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2514600"/>
            <a:ext cx="4876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76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815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862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910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958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005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053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100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148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196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243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8294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342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39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43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460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5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702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7656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861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9849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0990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2038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2992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4133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518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6134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718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823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927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0325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356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251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56160" y="1698480"/>
            <a:ext cx="154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BBON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060640" y="1698480"/>
            <a:ext cx="1498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ND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390920" y="1981080"/>
            <a:ext cx="2574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38840" y="1981080"/>
            <a:ext cx="2570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4005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3431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270160" y="1469880"/>
            <a:ext cx="1171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784760" y="1469880"/>
            <a:ext cx="12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5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251240" y="2841480"/>
            <a:ext cx="21700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 - 20/20/10 pF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N 10”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4” STUB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879640" y="2841480"/>
            <a:ext cx="806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S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772080" y="2666880"/>
            <a:ext cx="809280" cy="285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51680" y="2677680"/>
            <a:ext cx="328680" cy="832680"/>
          </a:xfrm>
          <a:custGeom>
            <a:avLst/>
            <a:gdLst/>
            <a:ahLst/>
            <a:rect l="0" t="0" r="r" b="b"/>
            <a:pathLst>
              <a:path fill="none" w="913" h="2313">
                <a:moveTo>
                  <a:pt x="284" y="2313"/>
                </a:moveTo>
                <a:lnTo>
                  <a:pt x="913" y="2236"/>
                </a:lnTo>
                <a:lnTo>
                  <a:pt x="913" y="2236"/>
                </a:lnTo>
                <a:lnTo>
                  <a:pt x="913" y="2236"/>
                </a:lnTo>
                <a:cubicBezTo>
                  <a:pt x="863" y="1830"/>
                  <a:pt x="785" y="1435"/>
                  <a:pt x="687" y="1090"/>
                </a:cubicBezTo>
                <a:cubicBezTo>
                  <a:pt x="588" y="745"/>
                  <a:pt x="473" y="463"/>
                  <a:pt x="352" y="272"/>
                </a:cubicBezTo>
                <a:cubicBezTo>
                  <a:pt x="232" y="81"/>
                  <a:pt x="110" y="-12"/>
                  <a:pt x="0" y="1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708440" y="1927080"/>
            <a:ext cx="1019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~ 20pF/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422440" y="5051520"/>
            <a:ext cx="3524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IVER AT POS 2, PROBES AT POS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898560" y="487440"/>
            <a:ext cx="53769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VD  SCSI CURRENT MODE DRIV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ST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715000" y="8045280"/>
            <a:ext cx="738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DV800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479840" y="3603600"/>
            <a:ext cx="22986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SITION 1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4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06440" y="2689200"/>
            <a:ext cx="22986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SITION 16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4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625760" y="5413320"/>
            <a:ext cx="4657680" cy="28036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1392120" y="728172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25320" y="560052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17400" y="593568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39760" y="6075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39960" y="695952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63720" y="756144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8640" y="721368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1000" y="574200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20720" y="7397640"/>
            <a:ext cx="46832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95280" y="2514600"/>
            <a:ext cx="4876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76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7815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8862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910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0958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005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053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100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5148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6196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243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8294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9342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39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143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460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5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6702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7656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861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9849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0990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2038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52992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4133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18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6134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718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823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5927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0325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356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251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56160" y="1698480"/>
            <a:ext cx="154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BBON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060640" y="1698480"/>
            <a:ext cx="1498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ND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4390920" y="1981080"/>
            <a:ext cx="2574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838840" y="1981080"/>
            <a:ext cx="2570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4005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13431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270160" y="1469880"/>
            <a:ext cx="1171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784760" y="1469880"/>
            <a:ext cx="12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5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251240" y="2841480"/>
            <a:ext cx="21700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 - 20/20/10 pF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N 10”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4” STUB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879640" y="2841480"/>
            <a:ext cx="806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S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772080" y="2666880"/>
            <a:ext cx="809280" cy="285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151680" y="2677680"/>
            <a:ext cx="328680" cy="832680"/>
          </a:xfrm>
          <a:custGeom>
            <a:avLst/>
            <a:gdLst/>
            <a:ahLst/>
            <a:rect l="0" t="0" r="r" b="b"/>
            <a:pathLst>
              <a:path fill="none" w="913" h="2313">
                <a:moveTo>
                  <a:pt x="284" y="2313"/>
                </a:moveTo>
                <a:lnTo>
                  <a:pt x="913" y="2236"/>
                </a:lnTo>
                <a:lnTo>
                  <a:pt x="913" y="2236"/>
                </a:lnTo>
                <a:lnTo>
                  <a:pt x="913" y="2236"/>
                </a:lnTo>
                <a:cubicBezTo>
                  <a:pt x="863" y="1830"/>
                  <a:pt x="785" y="1435"/>
                  <a:pt x="687" y="1090"/>
                </a:cubicBezTo>
                <a:cubicBezTo>
                  <a:pt x="588" y="745"/>
                  <a:pt x="473" y="463"/>
                  <a:pt x="352" y="272"/>
                </a:cubicBezTo>
                <a:cubicBezTo>
                  <a:pt x="232" y="81"/>
                  <a:pt x="110" y="-12"/>
                  <a:pt x="0" y="1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708440" y="1927080"/>
            <a:ext cx="1019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~ 20pF/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422440" y="5051520"/>
            <a:ext cx="3524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IVER AT POS 2, PROBES AT POS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898560" y="487440"/>
            <a:ext cx="53769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VD  SCSI CURRENT MODE DRIV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ST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5715000" y="8045280"/>
            <a:ext cx="738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DV800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479840" y="3603600"/>
            <a:ext cx="22986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SITION 1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4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06440" y="2689200"/>
            <a:ext cx="22986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SITION 16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4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603440" y="5405400"/>
            <a:ext cx="4678200" cy="28051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 txBox="1"/>
          <p:nvPr/>
        </p:nvSpPr>
        <p:spPr>
          <a:xfrm>
            <a:off x="1392120" y="728172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25320" y="560052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17400" y="593568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139760" y="6075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939960" y="695952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963720" y="756144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8640" y="721368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81000" y="574200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620720" y="7397640"/>
            <a:ext cx="46832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295280" y="2514600"/>
            <a:ext cx="4876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676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815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8862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9910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0958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005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053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4100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5148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6196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243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8294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342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39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43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460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5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6702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7656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861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9849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50990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52038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52992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54133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5518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56134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718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5823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927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0325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356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251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56160" y="1698480"/>
            <a:ext cx="154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BBON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2060640" y="1698480"/>
            <a:ext cx="1498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ND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4390920" y="1981080"/>
            <a:ext cx="2574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38840" y="1981080"/>
            <a:ext cx="2570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4005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13431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2270160" y="1469880"/>
            <a:ext cx="1171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784760" y="1469880"/>
            <a:ext cx="12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5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251240" y="2841480"/>
            <a:ext cx="21700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 - 20/20/10 pF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N 10”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4” STUB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2879640" y="2841480"/>
            <a:ext cx="806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S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3772080" y="2666880"/>
            <a:ext cx="809280" cy="285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151680" y="2677680"/>
            <a:ext cx="328680" cy="832680"/>
          </a:xfrm>
          <a:custGeom>
            <a:avLst/>
            <a:gdLst/>
            <a:ahLst/>
            <a:rect l="0" t="0" r="r" b="b"/>
            <a:pathLst>
              <a:path fill="none" w="913" h="2313">
                <a:moveTo>
                  <a:pt x="284" y="2313"/>
                </a:moveTo>
                <a:lnTo>
                  <a:pt x="913" y="2236"/>
                </a:lnTo>
                <a:lnTo>
                  <a:pt x="913" y="2236"/>
                </a:lnTo>
                <a:lnTo>
                  <a:pt x="913" y="2236"/>
                </a:lnTo>
                <a:cubicBezTo>
                  <a:pt x="863" y="1830"/>
                  <a:pt x="785" y="1435"/>
                  <a:pt x="687" y="1090"/>
                </a:cubicBezTo>
                <a:cubicBezTo>
                  <a:pt x="588" y="745"/>
                  <a:pt x="473" y="463"/>
                  <a:pt x="352" y="272"/>
                </a:cubicBezTo>
                <a:cubicBezTo>
                  <a:pt x="232" y="81"/>
                  <a:pt x="110" y="-12"/>
                  <a:pt x="0" y="1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708440" y="1927080"/>
            <a:ext cx="1019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~ 20pF/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2422440" y="5051520"/>
            <a:ext cx="3424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IVER AT POS 8, PROBES AT POS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898560" y="487440"/>
            <a:ext cx="53769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VD  SCSI CURRENT MODE DRIV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ST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5715000" y="8045280"/>
            <a:ext cx="738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DV800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584360" y="4624560"/>
            <a:ext cx="42480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: NO RECEIVER AT THIS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479840" y="3603600"/>
            <a:ext cx="22986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SITION 1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4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06440" y="2689200"/>
            <a:ext cx="22986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SITION 16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4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625760" y="5407200"/>
            <a:ext cx="4673520" cy="27939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1392120" y="728172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25320" y="560052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7400" y="593568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139760" y="6075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939960" y="695952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963720" y="756144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8640" y="721368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81000" y="574200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620720" y="7397640"/>
            <a:ext cx="46832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295280" y="2514600"/>
            <a:ext cx="4876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572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676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7815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8862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9910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0958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2005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053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4100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5148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6196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243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8294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9342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039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43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460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5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6702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7656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861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9849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0990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52038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2992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4133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18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56134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5718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823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5927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0325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356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251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56160" y="1698480"/>
            <a:ext cx="154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BBON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060640" y="1698480"/>
            <a:ext cx="1498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ND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4390920" y="1981080"/>
            <a:ext cx="2574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838840" y="1981080"/>
            <a:ext cx="2570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4005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13431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270160" y="1469880"/>
            <a:ext cx="1171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784760" y="1469880"/>
            <a:ext cx="12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5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251240" y="2841480"/>
            <a:ext cx="21700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 - 20/20/10 pF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N 10”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4” STUB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2879640" y="2841480"/>
            <a:ext cx="806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S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3772080" y="2666880"/>
            <a:ext cx="809280" cy="285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151680" y="2677680"/>
            <a:ext cx="328680" cy="832680"/>
          </a:xfrm>
          <a:custGeom>
            <a:avLst/>
            <a:gdLst/>
            <a:ahLst/>
            <a:rect l="0" t="0" r="r" b="b"/>
            <a:pathLst>
              <a:path fill="none" w="913" h="2313">
                <a:moveTo>
                  <a:pt x="284" y="2313"/>
                </a:moveTo>
                <a:lnTo>
                  <a:pt x="913" y="2236"/>
                </a:lnTo>
                <a:lnTo>
                  <a:pt x="913" y="2236"/>
                </a:lnTo>
                <a:lnTo>
                  <a:pt x="913" y="2236"/>
                </a:lnTo>
                <a:cubicBezTo>
                  <a:pt x="863" y="1830"/>
                  <a:pt x="785" y="1435"/>
                  <a:pt x="687" y="1090"/>
                </a:cubicBezTo>
                <a:cubicBezTo>
                  <a:pt x="588" y="745"/>
                  <a:pt x="473" y="463"/>
                  <a:pt x="352" y="272"/>
                </a:cubicBezTo>
                <a:cubicBezTo>
                  <a:pt x="232" y="81"/>
                  <a:pt x="110" y="-12"/>
                  <a:pt x="0" y="1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708440" y="1927080"/>
            <a:ext cx="1019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~ 20pF/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2422440" y="5051520"/>
            <a:ext cx="3424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IVER AT POS 8, PROBES AT POS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898560" y="487440"/>
            <a:ext cx="53769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VD  SCSI CURRENT MODE DRIV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ST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715000" y="8045280"/>
            <a:ext cx="738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DV80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479840" y="3603600"/>
            <a:ext cx="22986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SITION 1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4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06440" y="2689200"/>
            <a:ext cx="22986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SITION 16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4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1625760" y="5384880"/>
            <a:ext cx="4668840" cy="28098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1392120" y="728172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25320" y="560052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17400" y="593568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139760" y="6075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939960" y="695952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63720" y="756144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8640" y="721368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81000" y="574200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620720" y="7397640"/>
            <a:ext cx="46832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295280" y="2514600"/>
            <a:ext cx="4876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572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676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7815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8862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9910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0958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2005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3053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4100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5148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6196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7243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8294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9342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039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143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460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5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6702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7656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861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9849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50990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52038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52992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54133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5518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56134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5718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5823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5927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60325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356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251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56160" y="1698480"/>
            <a:ext cx="154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BBON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2060640" y="1698480"/>
            <a:ext cx="1498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ND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4390920" y="1981080"/>
            <a:ext cx="2574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838840" y="1981080"/>
            <a:ext cx="2570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4005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13431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2270160" y="1469880"/>
            <a:ext cx="1171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784760" y="1469880"/>
            <a:ext cx="12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5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251240" y="2841480"/>
            <a:ext cx="21700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 - 20/20/10 pF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N 10”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4” STUB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2879640" y="2841480"/>
            <a:ext cx="806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S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3772080" y="2666880"/>
            <a:ext cx="809280" cy="285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151680" y="2677680"/>
            <a:ext cx="328680" cy="832680"/>
          </a:xfrm>
          <a:custGeom>
            <a:avLst/>
            <a:gdLst/>
            <a:ahLst/>
            <a:rect l="0" t="0" r="r" b="b"/>
            <a:pathLst>
              <a:path fill="none" w="913" h="2313">
                <a:moveTo>
                  <a:pt x="284" y="2313"/>
                </a:moveTo>
                <a:lnTo>
                  <a:pt x="913" y="2236"/>
                </a:lnTo>
                <a:lnTo>
                  <a:pt x="913" y="2236"/>
                </a:lnTo>
                <a:lnTo>
                  <a:pt x="913" y="2236"/>
                </a:lnTo>
                <a:cubicBezTo>
                  <a:pt x="863" y="1830"/>
                  <a:pt x="785" y="1435"/>
                  <a:pt x="687" y="1090"/>
                </a:cubicBezTo>
                <a:cubicBezTo>
                  <a:pt x="588" y="745"/>
                  <a:pt x="473" y="463"/>
                  <a:pt x="352" y="272"/>
                </a:cubicBezTo>
                <a:cubicBezTo>
                  <a:pt x="232" y="81"/>
                  <a:pt x="110" y="-12"/>
                  <a:pt x="0" y="1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708440" y="1927080"/>
            <a:ext cx="1019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~ 20pF/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2422440" y="5051520"/>
            <a:ext cx="3524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IVER AT POS 8, PROBES AT POS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898560" y="487440"/>
            <a:ext cx="53769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VD  SCSI CURRENT MODE DRIV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ST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5715000" y="8045280"/>
            <a:ext cx="738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DV80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479840" y="3603600"/>
            <a:ext cx="22986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SITION 1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4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06440" y="2689200"/>
            <a:ext cx="22986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SITION 16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4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616040" y="5389560"/>
            <a:ext cx="4692600" cy="279864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 txBox="1"/>
          <p:nvPr/>
        </p:nvSpPr>
        <p:spPr>
          <a:xfrm>
            <a:off x="1392120" y="728172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625320" y="560052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617400" y="593568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139760" y="6075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939960" y="695952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963720" y="756144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8640" y="721368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81000" y="574200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620720" y="7397640"/>
            <a:ext cx="46832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295280" y="2514600"/>
            <a:ext cx="4876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72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676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7815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8862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9910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0958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2005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3053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5148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6196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7243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8294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9342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039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143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460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75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6702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7656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861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9849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50990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52038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52992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54133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5518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6134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5718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5823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5927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0325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356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251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556160" y="1698480"/>
            <a:ext cx="154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BBON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2060640" y="1698480"/>
            <a:ext cx="1498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ND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4390920" y="1981080"/>
            <a:ext cx="2574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838840" y="1981080"/>
            <a:ext cx="2570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4005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13431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2270160" y="1469880"/>
            <a:ext cx="1171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784760" y="1469880"/>
            <a:ext cx="122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5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251240" y="2841480"/>
            <a:ext cx="21700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 - 20/20/10 pF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N 10”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4” STUB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2879640" y="2841480"/>
            <a:ext cx="806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S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3772080" y="2666880"/>
            <a:ext cx="809280" cy="285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151680" y="2677680"/>
            <a:ext cx="328680" cy="832680"/>
          </a:xfrm>
          <a:custGeom>
            <a:avLst/>
            <a:gdLst/>
            <a:ahLst/>
            <a:rect l="0" t="0" r="r" b="b"/>
            <a:pathLst>
              <a:path fill="none" w="913" h="2313">
                <a:moveTo>
                  <a:pt x="284" y="2313"/>
                </a:moveTo>
                <a:lnTo>
                  <a:pt x="913" y="2236"/>
                </a:lnTo>
                <a:lnTo>
                  <a:pt x="913" y="2236"/>
                </a:lnTo>
                <a:lnTo>
                  <a:pt x="913" y="2236"/>
                </a:lnTo>
                <a:cubicBezTo>
                  <a:pt x="863" y="1830"/>
                  <a:pt x="785" y="1435"/>
                  <a:pt x="687" y="1090"/>
                </a:cubicBezTo>
                <a:cubicBezTo>
                  <a:pt x="588" y="745"/>
                  <a:pt x="473" y="463"/>
                  <a:pt x="352" y="272"/>
                </a:cubicBezTo>
                <a:cubicBezTo>
                  <a:pt x="232" y="81"/>
                  <a:pt x="110" y="-12"/>
                  <a:pt x="0" y="1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708440" y="1927080"/>
            <a:ext cx="1019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~ 20pF/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2422440" y="5051520"/>
            <a:ext cx="3524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IVER AT POS 8, PROBES AT POS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898560" y="487440"/>
            <a:ext cx="53769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VD  SCSI CURRENT MODE DRIV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ST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5715000" y="8045280"/>
            <a:ext cx="738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DV80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479840" y="3603600"/>
            <a:ext cx="22986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SITION 1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4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06440" y="2689200"/>
            <a:ext cx="22986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SITION 16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4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illiam E. Ham</dc:creator>
  <dc:description/>
  <dc:language>en-US</dc:language>
  <cp:lastModifiedBy>William E. Ham</cp:lastModifiedBy>
  <cp:revision>0</cp:revision>
  <dc:subject/>
  <dc:title>FAST 80 LVD</dc:title>
</cp:coreProperties>
</file>