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93600" y="8678880"/>
            <a:ext cx="4792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LL HAM     DIGITAL EQUIPMENT  SPI-2 WORKING GROUP   JUNE  6,  1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029200" y="3049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3T10/96-187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514440" y="8128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EFFECTS OF VOLTAGE MODE DRIVERS AND SLEW RATES FOR LVD SC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4440" y="2641680"/>
            <a:ext cx="58294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YSTEM WAS IMPLEMENTED TO SIMULATE A CONTROLLABLE VOLTAGE MODE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SYSTEM ALLOWS THE PRIMARY BUS EFFECTS OF VOLTAGE MODE DRIVERS AND SLEW RATES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DRIVER AND THE INITIAL RESULTS ARE SHOWN IN THE FOLLOWING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CE  AGAIN WE USED SYMMETRICAL SIGNALS AND SYMMETRICAL TERMINATION FOR TEST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EED FOR RELATIVELY PRECISE ASYMMETRICAL DRIVERS IS FURTHER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LTAGE MODE DRIVERS APPEAR CAPABLE OF EASILY MEETING THE LATEST CONFIGURATIO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611360" y="5386320"/>
            <a:ext cx="4710240" cy="280188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2701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651040" y="5051520"/>
            <a:ext cx="294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OW SLEW RATE AT LOAD 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7652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662440" y="80535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611360" y="5398920"/>
            <a:ext cx="4667400" cy="281160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651040" y="5051520"/>
            <a:ext cx="288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ST SLEW RATE AT LOAD 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67652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638680" y="802944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1633680" y="5398920"/>
            <a:ext cx="4653000" cy="280044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2651040" y="5051520"/>
            <a:ext cx="294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OW SLEW RATE AT LOAD 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67652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688000" y="805032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1622520" y="5398920"/>
            <a:ext cx="4675320" cy="28116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2651040" y="5051520"/>
            <a:ext cx="273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ST SLEW RATE AT 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67652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5634000" y="80373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600200" y="5386320"/>
            <a:ext cx="4675320" cy="28242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2270160" y="5051520"/>
            <a:ext cx="280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OW SLEW RATE AT 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634000" y="80373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1633680" y="5410080"/>
            <a:ext cx="4630680" cy="278928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2270160" y="5051520"/>
            <a:ext cx="2752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ST SLEW RATE AT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67652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5634000" y="80373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1611360" y="5421240"/>
            <a:ext cx="4664160" cy="277812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2270160" y="5051520"/>
            <a:ext cx="282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OW SLEW RATE AT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67652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5634000" y="80373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1622520" y="5410080"/>
            <a:ext cx="4641840" cy="277812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2270160" y="5051520"/>
            <a:ext cx="273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ST SLEW RATE AT LOAD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67652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5634000" y="80373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1622520" y="5410080"/>
            <a:ext cx="4641840" cy="278928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270160" y="1469880"/>
            <a:ext cx="117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7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270160" y="5051520"/>
            <a:ext cx="280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OW SLEW RATE AT LOAD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67652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5634000" y="80373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27160" y="1165320"/>
            <a:ext cx="4935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NGLE SIGNAL VOLTAGE MODE DRIVER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438280"/>
            <a:ext cx="991080" cy="991080"/>
          </a:xfrm>
          <a:custGeom>
            <a:avLst/>
            <a:gdLst/>
            <a:ahLst/>
            <a:rect l="0" t="0" r="r" b="b"/>
            <a:pathLst>
              <a:path fill="none" w="2753" h="2753">
                <a:moveTo>
                  <a:pt x="0" y="0"/>
                </a:moveTo>
                <a:lnTo>
                  <a:pt x="0" y="2753"/>
                </a:lnTo>
                <a:lnTo>
                  <a:pt x="2753" y="1271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920" y="3645000"/>
            <a:ext cx="463320" cy="153720"/>
            <a:chOff x="2509920" y="3645000"/>
            <a:chExt cx="463320" cy="153720"/>
          </a:xfrm>
        </p:grpSpPr>
        <p:sp>
          <p:nvSpPr>
            <p:cNvPr id="46" name=""/>
            <p:cNvSpPr/>
            <p:nvPr/>
          </p:nvSpPr>
          <p:spPr>
            <a:xfrm flipH="1">
              <a:off x="2871720" y="3646440"/>
              <a:ext cx="6372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2808360" y="3646440"/>
              <a:ext cx="6336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2744640" y="3646440"/>
              <a:ext cx="6372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2681280" y="3646440"/>
              <a:ext cx="6336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617920" y="3646440"/>
              <a:ext cx="6336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554200" y="3646440"/>
              <a:ext cx="6372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933640" y="3646440"/>
              <a:ext cx="39600" cy="9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509920" y="3645000"/>
              <a:ext cx="39600" cy="9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519200" y="2577960"/>
            <a:ext cx="463680" cy="154080"/>
            <a:chOff x="1519200" y="2577960"/>
            <a:chExt cx="463680" cy="154080"/>
          </a:xfrm>
        </p:grpSpPr>
        <p:sp>
          <p:nvSpPr>
            <p:cNvPr id="55" name=""/>
            <p:cNvSpPr/>
            <p:nvPr/>
          </p:nvSpPr>
          <p:spPr>
            <a:xfrm flipH="1">
              <a:off x="1881360" y="2579760"/>
              <a:ext cx="6336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1817640" y="2579760"/>
              <a:ext cx="6372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754280" y="2579760"/>
              <a:ext cx="6336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1690560" y="2579760"/>
              <a:ext cx="6372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627200" y="2579760"/>
              <a:ext cx="6336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563840" y="2579760"/>
              <a:ext cx="6336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1943280" y="2579760"/>
              <a:ext cx="39600" cy="9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519200" y="2577960"/>
              <a:ext cx="39600" cy="9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981080" y="26668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981080" y="3124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1240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7339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7339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581280" y="28954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276720" y="28954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29718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312408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320040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3200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9718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13372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5120" y="266076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17484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5040" y="2425680"/>
            <a:ext cx="76320" cy="763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5040" y="3333600"/>
            <a:ext cx="76320" cy="763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495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2680" y="2616120"/>
            <a:ext cx="76320" cy="763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2960" y="3384720"/>
            <a:ext cx="101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8520" y="3416400"/>
            <a:ext cx="50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35268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08040" y="2270160"/>
            <a:ext cx="426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98560" y="3070080"/>
            <a:ext cx="700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727360" y="2308320"/>
            <a:ext cx="55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+ 5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727360" y="3222720"/>
            <a:ext cx="509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5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4191120"/>
            <a:ext cx="991080" cy="991080"/>
          </a:xfrm>
          <a:custGeom>
            <a:avLst/>
            <a:gdLst/>
            <a:ahLst/>
            <a:rect l="0" t="0" r="r" b="b"/>
            <a:pathLst>
              <a:path fill="none" w="2753" h="2753">
                <a:moveTo>
                  <a:pt x="0" y="0"/>
                </a:moveTo>
                <a:lnTo>
                  <a:pt x="0" y="2753"/>
                </a:lnTo>
                <a:lnTo>
                  <a:pt x="2753" y="1271"/>
                </a:lnTo>
                <a:lnTo>
                  <a:pt x="0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509920" y="5397480"/>
            <a:ext cx="463320" cy="154080"/>
            <a:chOff x="2509920" y="5397480"/>
            <a:chExt cx="463320" cy="154080"/>
          </a:xfrm>
        </p:grpSpPr>
        <p:sp>
          <p:nvSpPr>
            <p:cNvPr id="91" name=""/>
            <p:cNvSpPr/>
            <p:nvPr/>
          </p:nvSpPr>
          <p:spPr>
            <a:xfrm flipH="1">
              <a:off x="2871720" y="5398920"/>
              <a:ext cx="6372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2808360" y="5398920"/>
              <a:ext cx="6336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744640" y="5398920"/>
              <a:ext cx="6372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681280" y="5398920"/>
              <a:ext cx="6336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617920" y="5398920"/>
              <a:ext cx="6336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2554200" y="5398920"/>
              <a:ext cx="6372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2933640" y="5398920"/>
              <a:ext cx="39600" cy="9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509920" y="5397480"/>
              <a:ext cx="39600" cy="9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19200" y="4330800"/>
            <a:ext cx="463680" cy="153720"/>
            <a:chOff x="1519200" y="4330800"/>
            <a:chExt cx="463680" cy="153720"/>
          </a:xfrm>
        </p:grpSpPr>
        <p:sp>
          <p:nvSpPr>
            <p:cNvPr id="100" name=""/>
            <p:cNvSpPr/>
            <p:nvPr/>
          </p:nvSpPr>
          <p:spPr>
            <a:xfrm flipH="1">
              <a:off x="1881360" y="4332240"/>
              <a:ext cx="6336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817640" y="4332240"/>
              <a:ext cx="6372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754280" y="4332240"/>
              <a:ext cx="6336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1690560" y="4332240"/>
              <a:ext cx="6372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627200" y="4332240"/>
              <a:ext cx="6336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1563840" y="4332240"/>
              <a:ext cx="6336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1943280" y="4332240"/>
              <a:ext cx="39600" cy="9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519200" y="4330800"/>
              <a:ext cx="39600" cy="9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981080" y="4419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4876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48769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5486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81280" y="46483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724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487692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95288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952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4419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65120" y="441324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492768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5040" y="4178160"/>
            <a:ext cx="76320" cy="763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5040" y="5086440"/>
            <a:ext cx="76320" cy="763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248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82680" y="4368960"/>
            <a:ext cx="76320" cy="763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2960" y="5137200"/>
            <a:ext cx="101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68520" y="5168880"/>
            <a:ext cx="50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10552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08040" y="4022640"/>
            <a:ext cx="426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98560" y="4822920"/>
            <a:ext cx="700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T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727360" y="4060800"/>
            <a:ext cx="55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+ 5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727360" y="4975200"/>
            <a:ext cx="509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 5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4267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5720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143000" y="4267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2670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4240" y="2819520"/>
            <a:ext cx="2001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91440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514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514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81952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2760" y="268920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0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2760" y="23842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4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4240" y="4267080"/>
            <a:ext cx="2001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2760" y="44416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0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2760" y="413712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4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58840" y="3827880"/>
            <a:ext cx="818640" cy="82440"/>
            <a:chOff x="3858840" y="3827880"/>
            <a:chExt cx="818640" cy="82440"/>
          </a:xfrm>
        </p:grpSpPr>
        <p:grpSp>
          <p:nvGrpSpPr>
            <p:cNvPr id="149" name=""/>
            <p:cNvGrpSpPr/>
            <p:nvPr/>
          </p:nvGrpSpPr>
          <p:grpSpPr>
            <a:xfrm>
              <a:off x="3858840" y="3827880"/>
              <a:ext cx="270360" cy="82440"/>
              <a:chOff x="3858840" y="3827880"/>
              <a:chExt cx="270360" cy="82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3858840" y="3827880"/>
                <a:ext cx="270000" cy="74520"/>
                <a:chOff x="3858840" y="3827880"/>
                <a:chExt cx="270000" cy="745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993480" y="3827880"/>
                  <a:ext cx="13536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6" h="207">
                      <a:moveTo>
                        <a:pt x="0" y="207"/>
                      </a:moveTo>
                      <a:lnTo>
                        <a:pt x="0" y="207"/>
                      </a:lnTo>
                      <a:cubicBezTo>
                        <a:pt x="78" y="207"/>
                        <a:pt x="155" y="186"/>
                        <a:pt x="222" y="147"/>
                      </a:cubicBezTo>
                      <a:cubicBezTo>
                        <a:pt x="285" y="111"/>
                        <a:pt x="337" y="61"/>
                        <a:pt x="376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58840" y="3828240"/>
                  <a:ext cx="13500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5" h="206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8" y="60"/>
                        <a:pt x="91" y="111"/>
                        <a:pt x="153" y="146"/>
                      </a:cubicBezTo>
                      <a:cubicBezTo>
                        <a:pt x="220" y="185"/>
                        <a:pt x="297" y="206"/>
                        <a:pt x="375" y="206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859200" y="3835800"/>
                <a:ext cx="270000" cy="74520"/>
                <a:chOff x="3859200" y="3835800"/>
                <a:chExt cx="270000" cy="745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993480" y="3835800"/>
                  <a:ext cx="13572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7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9" y="61"/>
                        <a:pt x="91" y="111"/>
                        <a:pt x="154" y="147"/>
                      </a:cubicBezTo>
                      <a:cubicBezTo>
                        <a:pt x="222" y="186"/>
                        <a:pt x="299" y="207"/>
                        <a:pt x="377" y="207"/>
                      </a:cubicBezTo>
                      <a:lnTo>
                        <a:pt x="377" y="207"/>
                      </a:ln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859200" y="3836160"/>
                  <a:ext cx="13572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6">
                      <a:moveTo>
                        <a:pt x="0" y="206"/>
                      </a:moveTo>
                      <a:lnTo>
                        <a:pt x="0" y="206"/>
                      </a:lnTo>
                      <a:cubicBezTo>
                        <a:pt x="78" y="206"/>
                        <a:pt x="155" y="185"/>
                        <a:pt x="223" y="146"/>
                      </a:cubicBezTo>
                      <a:cubicBezTo>
                        <a:pt x="286" y="111"/>
                        <a:pt x="338" y="60"/>
                        <a:pt x="377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4133160" y="3827880"/>
              <a:ext cx="270360" cy="82440"/>
              <a:chOff x="4133160" y="3827880"/>
              <a:chExt cx="270360" cy="8244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4133520" y="3827880"/>
                <a:ext cx="269640" cy="74520"/>
                <a:chOff x="4133520" y="3827880"/>
                <a:chExt cx="269640" cy="745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267800" y="3827880"/>
                  <a:ext cx="13536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6" h="207">
                      <a:moveTo>
                        <a:pt x="0" y="207"/>
                      </a:moveTo>
                      <a:lnTo>
                        <a:pt x="0" y="207"/>
                      </a:lnTo>
                      <a:cubicBezTo>
                        <a:pt x="78" y="207"/>
                        <a:pt x="155" y="186"/>
                        <a:pt x="222" y="147"/>
                      </a:cubicBezTo>
                      <a:cubicBezTo>
                        <a:pt x="285" y="111"/>
                        <a:pt x="337" y="61"/>
                        <a:pt x="376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33520" y="3828240"/>
                  <a:ext cx="13500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5" h="206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8" y="60"/>
                        <a:pt x="91" y="111"/>
                        <a:pt x="153" y="146"/>
                      </a:cubicBezTo>
                      <a:cubicBezTo>
                        <a:pt x="220" y="185"/>
                        <a:pt x="297" y="206"/>
                        <a:pt x="375" y="206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133160" y="3835800"/>
                <a:ext cx="270360" cy="74520"/>
                <a:chOff x="4133160" y="3835800"/>
                <a:chExt cx="270360" cy="745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268160" y="3835800"/>
                  <a:ext cx="13536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6" h="207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9" y="61"/>
                        <a:pt x="91" y="111"/>
                        <a:pt x="154" y="147"/>
                      </a:cubicBezTo>
                      <a:cubicBezTo>
                        <a:pt x="221" y="186"/>
                        <a:pt x="298" y="207"/>
                        <a:pt x="376" y="207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133160" y="3836160"/>
                  <a:ext cx="13500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5" h="206">
                      <a:moveTo>
                        <a:pt x="0" y="206"/>
                      </a:moveTo>
                      <a:lnTo>
                        <a:pt x="0" y="206"/>
                      </a:lnTo>
                      <a:cubicBezTo>
                        <a:pt x="78" y="206"/>
                        <a:pt x="155" y="185"/>
                        <a:pt x="222" y="146"/>
                      </a:cubicBezTo>
                      <a:cubicBezTo>
                        <a:pt x="284" y="111"/>
                        <a:pt x="337" y="60"/>
                        <a:pt x="375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4406760" y="3827880"/>
              <a:ext cx="270720" cy="82440"/>
              <a:chOff x="4406760" y="3827880"/>
              <a:chExt cx="270720" cy="824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4406760" y="3827880"/>
                <a:ext cx="270720" cy="74520"/>
                <a:chOff x="4406760" y="3827880"/>
                <a:chExt cx="270720" cy="74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541760" y="3827880"/>
                  <a:ext cx="13572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7">
                      <a:moveTo>
                        <a:pt x="0" y="207"/>
                      </a:moveTo>
                      <a:lnTo>
                        <a:pt x="0" y="207"/>
                      </a:lnTo>
                      <a:lnTo>
                        <a:pt x="0" y="207"/>
                      </a:lnTo>
                      <a:cubicBezTo>
                        <a:pt x="78" y="207"/>
                        <a:pt x="155" y="186"/>
                        <a:pt x="223" y="147"/>
                      </a:cubicBezTo>
                      <a:cubicBezTo>
                        <a:pt x="286" y="111"/>
                        <a:pt x="338" y="61"/>
                        <a:pt x="377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406760" y="3828240"/>
                  <a:ext cx="13572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6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9" y="60"/>
                        <a:pt x="91" y="111"/>
                        <a:pt x="154" y="146"/>
                      </a:cubicBezTo>
                      <a:cubicBezTo>
                        <a:pt x="222" y="185"/>
                        <a:pt x="299" y="206"/>
                        <a:pt x="377" y="206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406760" y="3835800"/>
                <a:ext cx="270360" cy="74520"/>
                <a:chOff x="4406760" y="3835800"/>
                <a:chExt cx="270360" cy="745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541400" y="3835800"/>
                  <a:ext cx="13572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7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9" y="61"/>
                        <a:pt x="91" y="111"/>
                        <a:pt x="154" y="147"/>
                      </a:cubicBezTo>
                      <a:cubicBezTo>
                        <a:pt x="222" y="186"/>
                        <a:pt x="299" y="207"/>
                        <a:pt x="377" y="207"/>
                      </a:cubicBezTo>
                      <a:lnTo>
                        <a:pt x="377" y="207"/>
                      </a:ln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406760" y="3836160"/>
                  <a:ext cx="13572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6">
                      <a:moveTo>
                        <a:pt x="0" y="206"/>
                      </a:moveTo>
                      <a:lnTo>
                        <a:pt x="0" y="206"/>
                      </a:lnTo>
                      <a:cubicBezTo>
                        <a:pt x="78" y="206"/>
                        <a:pt x="155" y="185"/>
                        <a:pt x="223" y="146"/>
                      </a:cubicBezTo>
                      <a:cubicBezTo>
                        <a:pt x="286" y="111"/>
                        <a:pt x="338" y="60"/>
                        <a:pt x="377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0" name=""/>
          <p:cNvGrpSpPr/>
          <p:nvPr/>
        </p:nvGrpSpPr>
        <p:grpSpPr>
          <a:xfrm>
            <a:off x="5230440" y="3827880"/>
            <a:ext cx="818640" cy="82440"/>
            <a:chOff x="5230440" y="3827880"/>
            <a:chExt cx="818640" cy="82440"/>
          </a:xfrm>
        </p:grpSpPr>
        <p:grpSp>
          <p:nvGrpSpPr>
            <p:cNvPr id="171" name=""/>
            <p:cNvGrpSpPr/>
            <p:nvPr/>
          </p:nvGrpSpPr>
          <p:grpSpPr>
            <a:xfrm>
              <a:off x="5230440" y="3827880"/>
              <a:ext cx="270360" cy="82440"/>
              <a:chOff x="5230440" y="3827880"/>
              <a:chExt cx="270360" cy="824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5230440" y="3827880"/>
                <a:ext cx="270000" cy="74520"/>
                <a:chOff x="5230440" y="3827880"/>
                <a:chExt cx="270000" cy="745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365080" y="3827880"/>
                  <a:ext cx="13536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6" h="207">
                      <a:moveTo>
                        <a:pt x="0" y="207"/>
                      </a:moveTo>
                      <a:lnTo>
                        <a:pt x="0" y="207"/>
                      </a:lnTo>
                      <a:cubicBezTo>
                        <a:pt x="78" y="207"/>
                        <a:pt x="155" y="186"/>
                        <a:pt x="222" y="147"/>
                      </a:cubicBezTo>
                      <a:cubicBezTo>
                        <a:pt x="285" y="111"/>
                        <a:pt x="337" y="61"/>
                        <a:pt x="376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230440" y="3828240"/>
                  <a:ext cx="13500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5" h="206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8" y="60"/>
                        <a:pt x="91" y="111"/>
                        <a:pt x="153" y="146"/>
                      </a:cubicBezTo>
                      <a:cubicBezTo>
                        <a:pt x="220" y="185"/>
                        <a:pt x="297" y="206"/>
                        <a:pt x="375" y="206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230800" y="3835800"/>
                <a:ext cx="270000" cy="74520"/>
                <a:chOff x="5230800" y="3835800"/>
                <a:chExt cx="270000" cy="745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65080" y="3835800"/>
                  <a:ext cx="13572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7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9" y="61"/>
                        <a:pt x="91" y="111"/>
                        <a:pt x="154" y="147"/>
                      </a:cubicBezTo>
                      <a:cubicBezTo>
                        <a:pt x="222" y="186"/>
                        <a:pt x="299" y="207"/>
                        <a:pt x="377" y="207"/>
                      </a:cubicBezTo>
                      <a:lnTo>
                        <a:pt x="377" y="207"/>
                      </a:ln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230800" y="3836160"/>
                  <a:ext cx="13572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6">
                      <a:moveTo>
                        <a:pt x="0" y="206"/>
                      </a:moveTo>
                      <a:lnTo>
                        <a:pt x="0" y="206"/>
                      </a:lnTo>
                      <a:cubicBezTo>
                        <a:pt x="78" y="206"/>
                        <a:pt x="155" y="185"/>
                        <a:pt x="223" y="146"/>
                      </a:cubicBezTo>
                      <a:cubicBezTo>
                        <a:pt x="286" y="111"/>
                        <a:pt x="338" y="60"/>
                        <a:pt x="377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5504760" y="3827880"/>
              <a:ext cx="270360" cy="82440"/>
              <a:chOff x="5504760" y="3827880"/>
              <a:chExt cx="270360" cy="8244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505120" y="3827880"/>
                <a:ext cx="269640" cy="74520"/>
                <a:chOff x="5505120" y="3827880"/>
                <a:chExt cx="269640" cy="745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639400" y="3827880"/>
                  <a:ext cx="13536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6" h="207">
                      <a:moveTo>
                        <a:pt x="0" y="207"/>
                      </a:moveTo>
                      <a:lnTo>
                        <a:pt x="0" y="207"/>
                      </a:lnTo>
                      <a:cubicBezTo>
                        <a:pt x="78" y="207"/>
                        <a:pt x="155" y="186"/>
                        <a:pt x="222" y="147"/>
                      </a:cubicBezTo>
                      <a:cubicBezTo>
                        <a:pt x="285" y="111"/>
                        <a:pt x="337" y="61"/>
                        <a:pt x="376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505120" y="3828240"/>
                  <a:ext cx="13500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5" h="206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8" y="60"/>
                        <a:pt x="91" y="111"/>
                        <a:pt x="153" y="146"/>
                      </a:cubicBezTo>
                      <a:cubicBezTo>
                        <a:pt x="220" y="185"/>
                        <a:pt x="297" y="206"/>
                        <a:pt x="375" y="206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504760" y="3835800"/>
                <a:ext cx="270360" cy="74520"/>
                <a:chOff x="5504760" y="3835800"/>
                <a:chExt cx="270360" cy="745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639760" y="3835800"/>
                  <a:ext cx="13536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6" h="207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9" y="61"/>
                        <a:pt x="91" y="111"/>
                        <a:pt x="154" y="147"/>
                      </a:cubicBezTo>
                      <a:cubicBezTo>
                        <a:pt x="221" y="186"/>
                        <a:pt x="298" y="207"/>
                        <a:pt x="376" y="207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504760" y="3836160"/>
                  <a:ext cx="13500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5" h="206">
                      <a:moveTo>
                        <a:pt x="0" y="206"/>
                      </a:moveTo>
                      <a:lnTo>
                        <a:pt x="0" y="206"/>
                      </a:lnTo>
                      <a:cubicBezTo>
                        <a:pt x="78" y="206"/>
                        <a:pt x="155" y="185"/>
                        <a:pt x="222" y="146"/>
                      </a:cubicBezTo>
                      <a:cubicBezTo>
                        <a:pt x="284" y="111"/>
                        <a:pt x="337" y="60"/>
                        <a:pt x="375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5778360" y="3827880"/>
              <a:ext cx="270720" cy="82440"/>
              <a:chOff x="5778360" y="3827880"/>
              <a:chExt cx="270720" cy="8244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5778360" y="3827880"/>
                <a:ext cx="270720" cy="74520"/>
                <a:chOff x="5778360" y="3827880"/>
                <a:chExt cx="270720" cy="74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913360" y="3827880"/>
                  <a:ext cx="13572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7">
                      <a:moveTo>
                        <a:pt x="0" y="207"/>
                      </a:moveTo>
                      <a:lnTo>
                        <a:pt x="0" y="207"/>
                      </a:lnTo>
                      <a:lnTo>
                        <a:pt x="0" y="207"/>
                      </a:lnTo>
                      <a:cubicBezTo>
                        <a:pt x="78" y="207"/>
                        <a:pt x="155" y="186"/>
                        <a:pt x="223" y="147"/>
                      </a:cubicBezTo>
                      <a:cubicBezTo>
                        <a:pt x="286" y="111"/>
                        <a:pt x="338" y="61"/>
                        <a:pt x="377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778360" y="3828240"/>
                  <a:ext cx="13572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6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9" y="60"/>
                        <a:pt x="91" y="111"/>
                        <a:pt x="154" y="146"/>
                      </a:cubicBezTo>
                      <a:cubicBezTo>
                        <a:pt x="222" y="185"/>
                        <a:pt x="299" y="206"/>
                        <a:pt x="377" y="206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778360" y="3835800"/>
                <a:ext cx="270360" cy="74520"/>
                <a:chOff x="5778360" y="3835800"/>
                <a:chExt cx="270360" cy="74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913000" y="3835800"/>
                  <a:ext cx="135720" cy="7452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7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39" y="61"/>
                        <a:pt x="91" y="111"/>
                        <a:pt x="154" y="147"/>
                      </a:cubicBezTo>
                      <a:cubicBezTo>
                        <a:pt x="222" y="186"/>
                        <a:pt x="299" y="207"/>
                        <a:pt x="377" y="207"/>
                      </a:cubicBezTo>
                      <a:lnTo>
                        <a:pt x="377" y="207"/>
                      </a:ln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778360" y="3836160"/>
                  <a:ext cx="135720" cy="74160"/>
                </a:xfrm>
                <a:custGeom>
                  <a:avLst/>
                  <a:gdLst/>
                  <a:ahLst/>
                  <a:rect l="0" t="0" r="r" b="b"/>
                  <a:pathLst>
                    <a:path fill="none" w="377" h="206">
                      <a:moveTo>
                        <a:pt x="0" y="206"/>
                      </a:moveTo>
                      <a:lnTo>
                        <a:pt x="0" y="206"/>
                      </a:lnTo>
                      <a:cubicBezTo>
                        <a:pt x="78" y="206"/>
                        <a:pt x="155" y="185"/>
                        <a:pt x="223" y="146"/>
                      </a:cubicBezTo>
                      <a:cubicBezTo>
                        <a:pt x="286" y="111"/>
                        <a:pt x="338" y="60"/>
                        <a:pt x="377" y="0"/>
                      </a:cubicBezTo>
                    </a:path>
                  </a:pathLst>
                </a:custGeom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2" name=""/>
          <p:cNvSpPr/>
          <p:nvPr/>
        </p:nvSpPr>
        <p:spPr>
          <a:xfrm>
            <a:off x="3581280" y="2895480"/>
            <a:ext cx="266760" cy="943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581280" y="3848040"/>
            <a:ext cx="266760" cy="800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676760" y="2895480"/>
            <a:ext cx="7632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53040" y="3838680"/>
            <a:ext cx="7632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676760" y="3828960"/>
            <a:ext cx="7632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2400" y="2905200"/>
            <a:ext cx="7632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53080" y="2895480"/>
            <a:ext cx="399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53080" y="4772160"/>
            <a:ext cx="399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865760" y="3193920"/>
            <a:ext cx="154080" cy="463680"/>
            <a:chOff x="4865760" y="3193920"/>
            <a:chExt cx="154080" cy="463680"/>
          </a:xfrm>
        </p:grpSpPr>
        <p:sp>
          <p:nvSpPr>
            <p:cNvPr id="201" name=""/>
            <p:cNvSpPr/>
            <p:nvPr/>
          </p:nvSpPr>
          <p:spPr>
            <a:xfrm>
              <a:off x="4867200" y="3232080"/>
              <a:ext cx="152640" cy="63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867200" y="3295800"/>
              <a:ext cx="152640" cy="6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67200" y="3359160"/>
              <a:ext cx="152640" cy="6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867200" y="3422520"/>
              <a:ext cx="152640" cy="63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67200" y="3486240"/>
              <a:ext cx="152640" cy="6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867200" y="3549600"/>
              <a:ext cx="152640" cy="63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867200" y="3193920"/>
              <a:ext cx="90720" cy="39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5760" y="3618000"/>
              <a:ext cx="90360" cy="39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65760" y="5108400"/>
            <a:ext cx="154080" cy="463680"/>
            <a:chOff x="4865760" y="5108400"/>
            <a:chExt cx="154080" cy="463680"/>
          </a:xfrm>
        </p:grpSpPr>
        <p:sp>
          <p:nvSpPr>
            <p:cNvPr id="210" name=""/>
            <p:cNvSpPr/>
            <p:nvPr/>
          </p:nvSpPr>
          <p:spPr>
            <a:xfrm>
              <a:off x="4867200" y="5146560"/>
              <a:ext cx="152640" cy="63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867200" y="5210280"/>
              <a:ext cx="152640" cy="6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67200" y="5273640"/>
              <a:ext cx="152640" cy="6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867200" y="5337000"/>
              <a:ext cx="152640" cy="63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67200" y="5400720"/>
              <a:ext cx="152640" cy="6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867200" y="5464080"/>
              <a:ext cx="152640" cy="63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867200" y="5108400"/>
              <a:ext cx="90720" cy="39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65760" y="5532480"/>
              <a:ext cx="90360" cy="39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952880" y="2895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15080" y="5896080"/>
            <a:ext cx="76320" cy="763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15080" y="3952800"/>
            <a:ext cx="76320" cy="763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952880" y="3657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952880" y="55818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952880" y="4800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32480" y="406080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2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32480" y="60418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2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6781680"/>
            <a:ext cx="160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241960" y="3222720"/>
            <a:ext cx="8064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70360" y="3222720"/>
            <a:ext cx="8064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89680" y="5280120"/>
            <a:ext cx="56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5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851440" y="3527280"/>
            <a:ext cx="9144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6477120"/>
            <a:ext cx="3049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6499080"/>
            <a:ext cx="5178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PUT EDGE SLEW RATE ADJUSTED BY CHANGING 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7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RISE TIME ~ 0.6 ns (NO CABLE ATTACH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02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Ω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SE TIME ~ 1.3 ns (NO CABLE ATTACH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PUT VOLTAGE CAN BE DIRECTLY ADJU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Y CHANGING THE INPUT SIG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70160" y="1851120"/>
            <a:ext cx="3009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AL  CURRENT 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 SPEED  OP  AM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90920" y="2209680"/>
            <a:ext cx="228600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45960" y="46188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95480" y="1452600"/>
            <a:ext cx="4700520" cy="2743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5046840" y="40593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152360" y="4610160"/>
            <a:ext cx="4629240" cy="2800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2041560" y="4289400"/>
            <a:ext cx="2254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OW  SLEW (~ 1.29 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041560" y="7489800"/>
            <a:ext cx="397656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ST  SLEW (~ 0.6 ns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SHOOT DUE TO OP 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MOVING SOURCE TERMIN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AS VERY LITTLE EFFECT -- RE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 MODE HAD A 2X SIGNAL EFF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36440" y="5432400"/>
            <a:ext cx="930240" cy="990720"/>
            <a:chOff x="136440" y="5432400"/>
            <a:chExt cx="930240" cy="990720"/>
          </a:xfrm>
        </p:grpSpPr>
        <p:sp>
          <p:nvSpPr>
            <p:cNvPr id="242" name=""/>
            <p:cNvSpPr txBox="1"/>
            <p:nvPr/>
          </p:nvSpPr>
          <p:spPr>
            <a:xfrm>
              <a:off x="260280" y="5432400"/>
              <a:ext cx="806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 m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136440" y="6118200"/>
              <a:ext cx="915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100 m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593640" y="5813280"/>
              <a:ext cx="2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36440" y="2232000"/>
            <a:ext cx="930240" cy="990720"/>
            <a:chOff x="136440" y="2232000"/>
            <a:chExt cx="930240" cy="990720"/>
          </a:xfrm>
        </p:grpSpPr>
        <p:sp>
          <p:nvSpPr>
            <p:cNvPr id="246" name=""/>
            <p:cNvSpPr txBox="1"/>
            <p:nvPr/>
          </p:nvSpPr>
          <p:spPr>
            <a:xfrm>
              <a:off x="260280" y="2232000"/>
              <a:ext cx="806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 m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136440" y="2917800"/>
              <a:ext cx="915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100 m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593640" y="2612880"/>
              <a:ext cx="2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1127160" y="1089000"/>
            <a:ext cx="470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DRIVER NO CABLE ATTACHED -- ALL 1.0 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89680" y="723420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0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03160" y="53820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38360" y="1581120"/>
            <a:ext cx="4705200" cy="2838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5722920" y="42339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638360" y="5391000"/>
            <a:ext cx="4667400" cy="2800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5667480" y="80265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498760" y="4518000"/>
            <a:ext cx="3122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OW  SLEW (~ 3.7 ns) -- 2ns /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97040" y="737388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392120" y="347184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5320" y="179064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7400" y="212580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39760" y="226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39960" y="314964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63720" y="375120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340344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440" y="193356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97040" y="358776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498760" y="8251920"/>
            <a:ext cx="3251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ST  SLEW (~ 0.637 ns) -- 1 ns /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12960" y="124920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03480" y="1241280"/>
            <a:ext cx="4970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DRIVER WITH  CABLE ATTACHED -- 6 M + 15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79440" y="5051520"/>
            <a:ext cx="4970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 DRIVER WITH  CABLE ATTACHED -- 6 M + 15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687680" y="5398920"/>
            <a:ext cx="4645080" cy="2789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9704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2701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422440" y="5051520"/>
            <a:ext cx="2752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ST SLEW RATE AT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15000" y="804528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11360" y="5398920"/>
            <a:ext cx="4664160" cy="2800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2701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651040" y="5051520"/>
            <a:ext cx="282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OW SLEW RATE AT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651640" y="804528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22520" y="5398920"/>
            <a:ext cx="4618080" cy="2811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2701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651040" y="5051520"/>
            <a:ext cx="278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ST SLEW RATE AT LOAD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5695920" y="803448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600200" y="5386320"/>
            <a:ext cx="4697280" cy="28242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2701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651040" y="5051520"/>
            <a:ext cx="2851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OW SLEW RATE AT LOAD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7652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00200" y="739152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688000" y="803448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622520" y="5386320"/>
            <a:ext cx="4697280" cy="28130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392120" y="7281720"/>
            <a:ext cx="317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25320" y="5600520"/>
            <a:ext cx="1009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0 mV / D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7400" y="5935680"/>
            <a:ext cx="614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.25 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39760" y="6075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39960" y="6959520"/>
            <a:ext cx="7668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63720" y="7561440"/>
            <a:ext cx="7351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200 m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7213680"/>
            <a:ext cx="11653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FER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440" y="5743440"/>
            <a:ext cx="8398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+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 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20720" y="7397640"/>
            <a:ext cx="46832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95280" y="251460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76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78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8862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9910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958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005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05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148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196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243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2948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93424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39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43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460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5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702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7656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861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9849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0990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2038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52992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4133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5180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61348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718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823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92776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03252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35600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251240" y="2417760"/>
            <a:ext cx="23328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56160" y="169848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BON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060640" y="16984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390920" y="1981080"/>
            <a:ext cx="2574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838840" y="1981080"/>
            <a:ext cx="2570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005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343160" y="1981080"/>
            <a:ext cx="876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22701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784760" y="14698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251240" y="2841480"/>
            <a:ext cx="21700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 - 20/20/10 pF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N 10”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4” STUB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955960" y="2841480"/>
            <a:ext cx="836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772080" y="2666880"/>
            <a:ext cx="809280" cy="285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775480" y="3527280"/>
            <a:ext cx="934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253920" y="2671920"/>
            <a:ext cx="228240" cy="838440"/>
          </a:xfrm>
          <a:custGeom>
            <a:avLst/>
            <a:gdLst/>
            <a:ahLst/>
            <a:rect l="0" t="0" r="r" b="b"/>
            <a:pathLst>
              <a:path fill="none" w="634" h="2329">
                <a:moveTo>
                  <a:pt x="634" y="2329"/>
                </a:moveTo>
                <a:lnTo>
                  <a:pt x="634" y="2329"/>
                </a:lnTo>
                <a:lnTo>
                  <a:pt x="634" y="2329"/>
                </a:lnTo>
                <a:cubicBezTo>
                  <a:pt x="634" y="1920"/>
                  <a:pt x="605" y="1519"/>
                  <a:pt x="549" y="1164"/>
                </a:cubicBezTo>
                <a:cubicBezTo>
                  <a:pt x="493" y="810"/>
                  <a:pt x="413" y="516"/>
                  <a:pt x="317" y="312"/>
                </a:cubicBezTo>
                <a:cubicBezTo>
                  <a:pt x="221" y="108"/>
                  <a:pt x="11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06440" y="2689200"/>
            <a:ext cx="22986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50 OHMS BAL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TH 1.2V CENTER T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708440" y="1927080"/>
            <a:ext cx="1019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~ 20pF/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2651040" y="5051520"/>
            <a:ext cx="2881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ST SLEW RATE AT LOAD 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861080" y="3755880"/>
            <a:ext cx="1508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ITH 140 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M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898560" y="487440"/>
            <a:ext cx="536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VD  SCSI VOLTAGE MODE DRIV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699160" y="801540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VDV0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iam E. Ham</dc:creator>
  <dc:description>June 6, 1996 colospgs spi-2 meeting</dc:description>
  <dc:language>en-US</dc:language>
  <cp:lastModifiedBy>Lawrence J. Lamers</cp:lastModifiedBy>
  <cp:revision>0</cp:revision>
  <dc:subject/>
  <dc:title>LVD voltage mode drivers ppt slides</dc:title>
</cp:coreProperties>
</file>