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DCB89F87-098F-463C-9565-27F1859A3E5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AF6F538-924D-43D0-ABB9-01688A8381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7456320" y="279360"/>
            <a:ext cx="1101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3T10/96-161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VD SCSI Driver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chard S. 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vised Region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6160" cy="49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38600" y="2619360"/>
            <a:ext cx="3286440" cy="1298880"/>
          </a:xfrm>
          <a:custGeom>
            <a:avLst/>
            <a:gdLst/>
            <a:ahLst/>
            <a:rect l="0" t="0" r="r" b="b"/>
            <a:pathLst>
              <a:path w="9129" h="3608">
                <a:moveTo>
                  <a:pt x="30" y="2214"/>
                </a:moveTo>
                <a:lnTo>
                  <a:pt x="0" y="3608"/>
                </a:lnTo>
                <a:lnTo>
                  <a:pt x="2747" y="3211"/>
                </a:lnTo>
                <a:lnTo>
                  <a:pt x="9129" y="198"/>
                </a:lnTo>
                <a:lnTo>
                  <a:pt x="9129" y="0"/>
                </a:lnTo>
                <a:lnTo>
                  <a:pt x="2248" y="0"/>
                </a:lnTo>
                <a:lnTo>
                  <a:pt x="30" y="221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7.8 mA + 0.19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C’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5.8 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’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5.0 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4.5 mA + 0.02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’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3.8 mA + 0.69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-2.9 mA + 0.69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a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posed Test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6 mV &lt;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= 706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9 mV + 0.19 *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&lt;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= 706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81 mV &lt;=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&lt;= 977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1 mV + 0.02 *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=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&lt;= 977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277 mV &lt;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-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&lt; 181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1 mV + 0.69 *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&lt;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= 113 mV + 1.45 * |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urther Improve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ing the maximum termination resistance or the maximum bias voltage reduces the drive current requirement by about 0.5 to 1.0 mA. Minimum values for these parameters should not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tightening of these parameters (if any) can be tolerated by terminator design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30360"/>
            <a:ext cx="78390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30360"/>
            <a:ext cx="78390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30360"/>
            <a:ext cx="78390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ist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 circuit (SPI-2 10.1.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7 mA &lt; Ia &lt; 15.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9 mA &lt; In &lt; 15.8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0.9 mA &lt; Ia - In &lt; 7.5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escribes a diagonal band across a rectangula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ebraically derived minimu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 &gt;= 7.02 mA + .353 *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&gt;= 1.61 mA + .353 * 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escribes a wedge-shaped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I-2 Test Circuit (10.1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3714840"/>
            <a:ext cx="47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024680" y="241632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41632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19360" y="2595600"/>
            <a:ext cx="4441680" cy="308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357280" y="2416320"/>
            <a:ext cx="2513160" cy="173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619360"/>
            <a:ext cx="3215160" cy="1095840"/>
          </a:xfrm>
          <a:custGeom>
            <a:avLst/>
            <a:gdLst/>
            <a:ahLst/>
            <a:rect l="0" t="0" r="r" b="b"/>
            <a:pathLst>
              <a:path w="8931" h="3044">
                <a:moveTo>
                  <a:pt x="2129" y="13"/>
                </a:moveTo>
                <a:lnTo>
                  <a:pt x="0" y="1482"/>
                </a:lnTo>
                <a:lnTo>
                  <a:pt x="0" y="3044"/>
                </a:lnTo>
                <a:lnTo>
                  <a:pt x="4565" y="3044"/>
                </a:lnTo>
                <a:lnTo>
                  <a:pt x="8931" y="0"/>
                </a:lnTo>
                <a:lnTo>
                  <a:pt x="2129" y="13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6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01880" y="2416320"/>
            <a:ext cx="3359520" cy="1526040"/>
          </a:xfrm>
          <a:custGeom>
            <a:avLst/>
            <a:gdLst/>
            <a:ahLst/>
            <a:rect l="0" t="0" r="r" b="b"/>
            <a:pathLst>
              <a:path w="9332" h="4239">
                <a:moveTo>
                  <a:pt x="2085" y="0"/>
                </a:moveTo>
                <a:lnTo>
                  <a:pt x="0" y="4239"/>
                </a:lnTo>
                <a:lnTo>
                  <a:pt x="9332" y="2086"/>
                </a:lnTo>
                <a:lnTo>
                  <a:pt x="9332" y="0"/>
                </a:lnTo>
                <a:lnTo>
                  <a:pt x="2085" y="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6160" cy="4940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gebra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357280" y="3166920"/>
            <a:ext cx="4703760" cy="1084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33560" y="2416320"/>
            <a:ext cx="161928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verlay of Both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1880" y="2416320"/>
            <a:ext cx="3359520" cy="1526040"/>
          </a:xfrm>
          <a:custGeom>
            <a:avLst/>
            <a:gdLst/>
            <a:ahLst/>
            <a:rect l="0" t="0" r="r" b="b"/>
            <a:pathLst>
              <a:path w="9332" h="4239">
                <a:moveTo>
                  <a:pt x="2085" y="0"/>
                </a:moveTo>
                <a:lnTo>
                  <a:pt x="0" y="4239"/>
                </a:lnTo>
                <a:lnTo>
                  <a:pt x="9332" y="2086"/>
                </a:lnTo>
                <a:lnTo>
                  <a:pt x="9332" y="0"/>
                </a:lnTo>
                <a:lnTo>
                  <a:pt x="2085" y="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619360"/>
            <a:ext cx="3215160" cy="1095840"/>
          </a:xfrm>
          <a:custGeom>
            <a:avLst/>
            <a:gdLst/>
            <a:ahLst/>
            <a:rect l="0" t="0" r="r" b="b"/>
            <a:pathLst>
              <a:path w="8931" h="3044">
                <a:moveTo>
                  <a:pt x="2129" y="13"/>
                </a:moveTo>
                <a:lnTo>
                  <a:pt x="0" y="1482"/>
                </a:lnTo>
                <a:lnTo>
                  <a:pt x="0" y="3044"/>
                </a:lnTo>
                <a:lnTo>
                  <a:pt x="4565" y="3044"/>
                </a:lnTo>
                <a:lnTo>
                  <a:pt x="8931" y="0"/>
                </a:lnTo>
                <a:lnTo>
                  <a:pt x="2129" y="13"/>
                </a:lnTo>
                <a:close/>
              </a:path>
            </a:pathLst>
          </a:custGeom>
          <a:solidFill>
            <a:srgbClr val="9c9c9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6160" cy="494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2357280" y="3166920"/>
            <a:ext cx="4703760" cy="1084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33560" y="2416320"/>
            <a:ext cx="161928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3714840"/>
            <a:ext cx="47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024680" y="241632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41632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19360" y="2595600"/>
            <a:ext cx="4441680" cy="308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57280" y="2416320"/>
            <a:ext cx="2513160" cy="173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82840" y="3751200"/>
            <a:ext cx="37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62560" y="3749760"/>
            <a:ext cx="37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83320" y="3549600"/>
            <a:ext cx="6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85120" y="2441520"/>
            <a:ext cx="6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1360" y="2394000"/>
            <a:ext cx="59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int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e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(mA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a (mA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p of w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.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section of wedge and bottom edge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er right-hand corner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pper right-hand corner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section of wedge and top edge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ider region ABC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C fails in Kevin Gingerich’s spreadsheet model. Either move up or move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s B and E are unnecessarily strict. Eliminate B and move E to the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int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e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(mA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a (mA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p of w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ghtmost working point on bottom edge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est working point on right-hand edge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pper right-hand corner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ftmost working point on top edge of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ider AC’DE’. Boundary includes 3 diagonals and one horizontal seg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’’DE’ requires one less diagonal segment and is therefore easier to specif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preadsheet model shows that all four corners of AC’DE’ or AC’’DE’ give sufficient assertion-to-negation and negation-to-assertion transitions under worst case cond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dified Region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6160" cy="494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82840" y="3751200"/>
            <a:ext cx="37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8600" y="2619360"/>
            <a:ext cx="3286440" cy="1286280"/>
          </a:xfrm>
          <a:custGeom>
            <a:avLst/>
            <a:gdLst/>
            <a:ahLst/>
            <a:rect l="0" t="0" r="r" b="b"/>
            <a:pathLst>
              <a:path w="9129" h="3573">
                <a:moveTo>
                  <a:pt x="0" y="3573"/>
                </a:moveTo>
                <a:lnTo>
                  <a:pt x="9129" y="2393"/>
                </a:lnTo>
                <a:lnTo>
                  <a:pt x="9129" y="0"/>
                </a:lnTo>
                <a:lnTo>
                  <a:pt x="97" y="30"/>
                </a:lnTo>
                <a:lnTo>
                  <a:pt x="0" y="3573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77120" y="3274920"/>
            <a:ext cx="58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85120" y="2441520"/>
            <a:ext cx="6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59080" y="2382840"/>
            <a:ext cx="490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30360"/>
            <a:ext cx="7839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ion: 4:1 Voltag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meet receiver input balanc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rive an additional boundary 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&lt;= 4*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= 4*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*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*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2*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*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*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2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&lt;= 2*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*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= 3.8 mA + .69*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derivation to ensure 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&lt;= 4*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g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= -2.9 mA + .69*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= 4.2 mA + 1.45*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S. Moore</dc:creator>
  <dc:description/>
  <dc:language>en-US</dc:language>
  <cp:lastModifiedBy>Lawrence J. Lamers</cp:lastModifiedBy>
  <cp:revision>0</cp:revision>
  <dc:subject/>
  <dc:title>LVD SCSI Driver Specification</dc:title>
</cp:coreProperties>
</file>