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93600" y="8678880"/>
            <a:ext cx="4834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LL HAM     DIGITAL EQUIPMENT  SPI-2 WORKING GROUP   APRIL 22, 1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7000" y="449280"/>
            <a:ext cx="1109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3T10/96-159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514440" y="2031840"/>
            <a:ext cx="5829480" cy="60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CRITERIA FOR ADEQUATE SIGNALS AT THE RECEIVER HAS BEEN CHANGED TO REFLECT THE REQUIREMENTS IN SPI-2 REV 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REQUIRES THAT A CERTAIN AMOUNT OF “OVERDRIVE” BE AVAILABLE FOR SHORT PULSES FOLLOWING LONG PULS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OVERDRIVE  FORMULA USED IS MAX OF 30 mV OR -0.25*PREVIOUS VLO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 WERE USED AS WE HAVE FOUND IT IMPOSSIBLE TO SIMULATE ASYMMETRICAL DRIVERS IN THE LAB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VIOUS WORK STRONGLY SUGGESTED THAT ASYMMETRICAL DRIVERS WOULD COMPENSATE FOR ASYMMETRICAL TERMINATOR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DATA SUGGESTS THAT A 15 METER LVD SEGMENT, ARBITRARILY LOADED WITH 15 20/20/10 DEVICES ON 8” CENTERS SHOULD WORK\(USING 20pF/FT CABL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TO POINT LENGTHS OF ~ 35 METERS APPEAR REASO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7680" y="868320"/>
            <a:ext cx="5870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695600" y="5419800"/>
            <a:ext cx="4657680" cy="28098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1392120" y="732960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25320" y="564840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7400" y="598320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39760" y="612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939960" y="700740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63720" y="760896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726120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82440" y="579132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97040" y="744552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775480" y="808200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270160" y="246060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641760" y="505152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685880" y="5391000"/>
            <a:ext cx="4676760" cy="28288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97040" y="73976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775480" y="803448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270160" y="246060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641760" y="5051520"/>
            <a:ext cx="12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704960" y="5391000"/>
            <a:ext cx="4657680" cy="28386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5775480" y="804384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392120" y="73105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25320" y="56293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17400" y="596412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139760" y="6103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939960" y="69883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963720" y="758988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0" y="724212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82440" y="57722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97040" y="74264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270160" y="246060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300560" y="3832200"/>
            <a:ext cx="20718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10/10/5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641760" y="505152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704960" y="5391000"/>
            <a:ext cx="4648320" cy="28288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 txBox="1"/>
          <p:nvPr/>
        </p:nvSpPr>
        <p:spPr>
          <a:xfrm>
            <a:off x="1392120" y="73105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25320" y="56293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17400" y="596412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39760" y="6103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39960" y="69883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963720" y="758988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0" y="724212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82440" y="57722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97040" y="74264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775480" y="804384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270160" y="246060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300560" y="3832200"/>
            <a:ext cx="20718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10/10/5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641760" y="5051520"/>
            <a:ext cx="12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1695600" y="5448240"/>
            <a:ext cx="4667400" cy="27813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 txBox="1"/>
          <p:nvPr/>
        </p:nvSpPr>
        <p:spPr>
          <a:xfrm>
            <a:off x="1392120" y="730080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625320" y="561960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17400" y="595476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139760" y="6094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939960" y="697860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963720" y="758016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0" y="723276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82440" y="576252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697040" y="741672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5708520" y="807228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2701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4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641760" y="505152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14680" y="5429160"/>
            <a:ext cx="4629240" cy="280044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 txBox="1"/>
          <p:nvPr/>
        </p:nvSpPr>
        <p:spPr>
          <a:xfrm>
            <a:off x="1392120" y="73105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25320" y="56293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617400" y="596412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139760" y="6103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939960" y="69883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963720" y="758988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0" y="724212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82440" y="57722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97040" y="74264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737320" y="804384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22701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4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641760" y="5051520"/>
            <a:ext cx="12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1685880" y="543888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 txBox="1"/>
          <p:nvPr/>
        </p:nvSpPr>
        <p:spPr>
          <a:xfrm>
            <a:off x="1392120" y="732960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25320" y="564840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617400" y="598320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139760" y="612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939960" y="700740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963720" y="760896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0" y="726120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82440" y="579132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697040" y="744552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5775480" y="806292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2975040" y="29178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30532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184560" y="268920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260880" y="5127480"/>
            <a:ext cx="207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FAR TERM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5318280" y="3603600"/>
            <a:ext cx="13701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NTER T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514440" y="1422360"/>
            <a:ext cx="5829480" cy="57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NTATIVE FAST 40 CONFIGURATION 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CAPACITANCE NOT GREATER THAN 20/20/10 pF (C1,C2,C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SPACING NOT CLOSER THAN EQUIVALENT OF 8” WITH 20pF/FT MEDIA (E.G. 4” WITH 40 pF/FT M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RULE APPLIES AT ANY LENGTH - SHORTER LENGTHS DO NOT AFFECT THIS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MAXIMUM LOADING PRESENT ANYWHERE IN THE SEGENT THE MAXIMUM LENGTH IS 15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LOADING LESS THAN THE EQUIVALENT OF 20/20/10 DEVICES AT 1 METER SEPARATION THE MAXIMUM  LENGTH IS 25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 POINT MAX SEGMENT LENGTH IS 35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THER REQUIREMENTS IN SPI-2 REV 06 SHALL BE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974880" y="2811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3800" y="735012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85880" y="5400720"/>
            <a:ext cx="4695840" cy="2800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97040" y="73976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56400" y="803448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701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641760" y="505152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28640" y="5397480"/>
            <a:ext cx="4686120" cy="2800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699160" y="804384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7040" y="73976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701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41760" y="5051520"/>
            <a:ext cx="12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85880" y="5381640"/>
            <a:ext cx="4686120" cy="2800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7040" y="73976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56400" y="804384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701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641760" y="505152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95600" y="5381640"/>
            <a:ext cx="4686120" cy="2800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7040" y="73976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65760" y="805356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2701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641760" y="5051520"/>
            <a:ext cx="12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695600" y="5391000"/>
            <a:ext cx="4686120" cy="2800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97040" y="73976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75480" y="803448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70160" y="246060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641760" y="505152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685880" y="5391000"/>
            <a:ext cx="4695840" cy="27939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97040" y="73976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75480" y="801540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270160" y="246060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641760" y="5051520"/>
            <a:ext cx="12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685880" y="5400720"/>
            <a:ext cx="4686120" cy="28195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392120" y="73105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25320" y="56293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7400" y="596412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39760" y="6103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39960" y="69883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63720" y="758988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724212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2440" y="57722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97040" y="74264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775480" y="804384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270160" y="246060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641760" y="505152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1695600" y="5372280"/>
            <a:ext cx="4695840" cy="28288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97040" y="7397640"/>
            <a:ext cx="4683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775480" y="804384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AT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95280" y="350532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676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781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862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9910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958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005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053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148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6196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243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2948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3424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390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4376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460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5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702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7656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861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9849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0990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2038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2992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54133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5180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61348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18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823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92776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03252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35600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251240" y="340848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56160" y="268920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060640" y="268920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390920" y="297180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838840" y="297180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005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343160" y="297180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270160" y="246060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784760" y="246060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51240" y="383220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8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955960" y="383220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772080" y="365760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775480" y="451800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53920" y="366228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57120" y="3679920"/>
            <a:ext cx="2397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5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708440" y="291780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74880" y="966960"/>
            <a:ext cx="5302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D FAST 40 REQ/ACK TEST RESULT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METRICAL DRIVERS AND TER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641760" y="5051520"/>
            <a:ext cx="12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861080" y="4746600"/>
            <a:ext cx="199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E. Ham</dc:creator>
  <dc:description>APRIL 23, 1993</dc:description>
  <dc:language>en-US</dc:language>
  <cp:lastModifiedBy>Lawrence J. Lamers</cp:lastModifiedBy>
  <cp:revision>0</cp:revision>
  <dc:subject/>
  <dc:title>FAST 40 SLIDES</dc:title>
</cp:coreProperties>
</file>