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50000">
                  <a:srgbClr val="ebebeb"/>
                </a:gs>
                <a:gs pos="100000">
                  <a:srgbClr val="bcbcb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90360" y="648504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46DC07F4-6EA3-44A8-83F0-53873467B044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CF8A06F1-94DC-4887-B5F4-E2DC59877F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6918480" y="-1584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3T10/96-145 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VD SCSI Assertion and Negation Cur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ard S. Mo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21120" y="5029200"/>
            <a:ext cx="130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apt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8680" y="228600"/>
            <a:ext cx="9013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flected Wave Asser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gt;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30 mV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*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/2 -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 +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N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*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imum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gt;= 6.01 mA + .09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ximum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minimum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gt;= 5.69 mA + .18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8680" y="228600"/>
            <a:ext cx="9013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flected Wave Asser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perposition of both reflected waves -- l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2 *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-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/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gt;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30 mV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*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/2 -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 +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N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*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ximum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minimum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gt;= 5.83 mA + .055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cident Wave N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lt;= -150 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- 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*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/ 2 &lt;= -150 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gt;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(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- 2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- N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*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300 mV) /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8680" y="228600"/>
            <a:ext cx="9013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cident Wave Neg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gt;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*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-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 - 2 *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- N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*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300 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imum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maximum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gt;= 1.61 mA + .35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5440" y="228600"/>
            <a:ext cx="9016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flected Wave N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lt;= -130 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- 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*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lt;= -130 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gt;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(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- 2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- N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*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/ 2 + 130 mV) /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58680" y="228600"/>
            <a:ext cx="9026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flected Wave Neg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gt;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*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/2 -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 -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- N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*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/ 2 + 130 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imum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maximum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gt;= 0.99 mA + .18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8680" y="228600"/>
            <a:ext cx="9026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flected Wave Neg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perposition of both reflected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gt;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*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/2 -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 -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- N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*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/ 2 + 130 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imum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maximum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gt;= 0.97 mA + .055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deal Asymmetric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-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- 2 *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*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/ 2 = 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2 *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*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/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4 *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mid-range) = 1.05 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4.2 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8680" y="241200"/>
            <a:ext cx="9013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ymmetric and Asymmetric Dr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mmetric drivers with 10% mismat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gt;= 0.9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ymmetric drivers with 10% mismat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lt;= 1.1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4.6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llowed Region of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11360" y="1571760"/>
            <a:ext cx="5997600" cy="4941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2357280" y="3166920"/>
            <a:ext cx="4703760" cy="1084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33560" y="2416320"/>
            <a:ext cx="1619280" cy="3263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1880" y="2416320"/>
            <a:ext cx="3359520" cy="1526040"/>
          </a:xfrm>
          <a:custGeom>
            <a:avLst/>
            <a:gdLst/>
            <a:ahLst/>
            <a:rect l="0" t="0" r="r" b="b"/>
            <a:pathLst>
              <a:path w="9332" h="4239">
                <a:moveTo>
                  <a:pt x="2085" y="0"/>
                </a:moveTo>
                <a:lnTo>
                  <a:pt x="0" y="4239"/>
                </a:lnTo>
                <a:lnTo>
                  <a:pt x="9332" y="2086"/>
                </a:lnTo>
                <a:lnTo>
                  <a:pt x="9332" y="0"/>
                </a:lnTo>
                <a:lnTo>
                  <a:pt x="2085" y="0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357280" y="2773440"/>
            <a:ext cx="4703760" cy="289404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357280" y="2416320"/>
            <a:ext cx="3013200" cy="238284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52920" y="3016080"/>
            <a:ext cx="1433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commended b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asymmetric driv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599080" y="2490840"/>
            <a:ext cx="1468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commended  b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symmetric driv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13360" y="2701800"/>
            <a:ext cx="476640" cy="333720"/>
          </a:xfrm>
          <a:custGeom>
            <a:avLst/>
            <a:gdLst/>
            <a:ahLst/>
            <a:rect l="0" t="0" r="r" b="b"/>
            <a:pathLst>
              <a:path fill="none" w="1324" h="927">
                <a:moveTo>
                  <a:pt x="1324" y="927"/>
                </a:moveTo>
                <a:lnTo>
                  <a:pt x="1324" y="927"/>
                </a:lnTo>
                <a:lnTo>
                  <a:pt x="1324" y="927"/>
                </a:lnTo>
                <a:cubicBezTo>
                  <a:pt x="1324" y="764"/>
                  <a:pt x="1263" y="604"/>
                  <a:pt x="1147" y="463"/>
                </a:cubicBezTo>
                <a:cubicBezTo>
                  <a:pt x="1030" y="323"/>
                  <a:pt x="863" y="206"/>
                  <a:pt x="662" y="124"/>
                </a:cubicBezTo>
                <a:cubicBezTo>
                  <a:pt x="461" y="43"/>
                  <a:pt x="232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00840" y="2857680"/>
            <a:ext cx="476640" cy="286200"/>
          </a:xfrm>
          <a:custGeom>
            <a:avLst/>
            <a:gdLst/>
            <a:ahLst/>
            <a:rect l="0" t="0" r="r" b="b"/>
            <a:pathLst>
              <a:path fill="none" w="1324" h="795">
                <a:moveTo>
                  <a:pt x="0" y="0"/>
                </a:moveTo>
                <a:lnTo>
                  <a:pt x="0" y="0"/>
                </a:lnTo>
                <a:cubicBezTo>
                  <a:pt x="0" y="140"/>
                  <a:pt x="61" y="277"/>
                  <a:pt x="177" y="398"/>
                </a:cubicBezTo>
                <a:cubicBezTo>
                  <a:pt x="294" y="518"/>
                  <a:pt x="461" y="619"/>
                  <a:pt x="662" y="688"/>
                </a:cubicBezTo>
                <a:cubicBezTo>
                  <a:pt x="863" y="758"/>
                  <a:pt x="1092" y="795"/>
                  <a:pt x="1324" y="795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fine an operating region for driver assertion and negation currents 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that will provide adequate DC voltage levels, incident wave voltage levels, and reflected wave voltage levels.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re defined such that both are positive quanti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alysis is for current-mode drivers and neglects driver and load impedances; i.e.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gt;&gt;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gt;&gt;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simple current source model for leakage is used. A better model would be a diode bridge with a current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st case conditions arise from lowest loaded cable impedance combined with highest termination res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cident wave amplitude is the dominant constraint for both assertion and negation dri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ghtening range of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ould provide relief by relaxing driver design constra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minimum negation current for DC conditions is positive, does this mean that the terminator bias is insuffici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C voltage lev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gt;= 130 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lt;= -130 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 voltage levels (first transitio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gt;= 150 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lt;= -150 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ble imped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5 ohms &lt;=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lt;= 135 o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nstraints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rmi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0 mV &lt;=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lt;= 130 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0 ohms &lt;=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lt;= 115 o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.87 mA &lt;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lt;= 1.3 mA (deri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akage and number of no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20 uA &lt;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lt;= 20 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&lt;= N &lt;=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C Assertion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gt;= 130 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- 2 *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- N *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*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/ 2 &gt;= 130 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gt;= 2 * (130 mV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/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N *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ximum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N, and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; minimum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gt;= 5.52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C Negation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lt;= -130 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2 *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N *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*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/ 2 &lt;= -130 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gt;= 2 * (130 mV -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/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- N *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imum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and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; maximum 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gt;= 0.92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7520" y="228600"/>
            <a:ext cx="9024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cident Wave Asse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gt;= 150 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*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/ 2 &gt;= 150 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gt;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300 mV + (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2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N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*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/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7520" y="228600"/>
            <a:ext cx="9024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cident Wave Asser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gt;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00 mV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*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-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 + 2 *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N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*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ximum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minimum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gt;= 7.02 mA + .35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7520" y="228600"/>
            <a:ext cx="903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flected Wave Asse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gt;= 130 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*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/ 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*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gt;= 130 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gt;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130 mV + (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2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N *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*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/ 2 ) /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S. Moore</dc:creator>
  <dc:description/>
  <dc:language>en-US</dc:language>
  <cp:lastModifiedBy>John Lohmeyer</cp:lastModifiedBy>
  <cp:revision>0</cp:revision>
  <dc:subject>LVDS</dc:subject>
  <dc:title>Assertion and Negation Current Requirements</dc:title>
</cp:coreProperties>
</file>