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43000" y="31240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143000" y="28954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43000" y="26668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9040" y="2948040"/>
            <a:ext cx="7499160" cy="0"/>
          </a:xfrm>
          <a:prstGeom prst="line">
            <a:avLst/>
          </a:prstGeom>
          <a:ln w="38160">
            <a:solidFill>
              <a:srgbClr val="a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-1006560" y="745020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JS 5-November 8-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-1311120" y="1430280"/>
            <a:ext cx="111924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Fault 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figu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295280" y="22096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685800" y="22096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914400" y="28195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914400" y="2590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914400" y="30481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14300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53352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-1371600" y="1981080"/>
            <a:ext cx="1219320" cy="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114300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53352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5013360" y="7373880"/>
            <a:ext cx="2649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b50069"/>
                </a:solidFill>
                <a:latin typeface="Arial"/>
                <a:ea typeface="Arial"/>
              </a:rPr>
              <a:t>X3T10 High Availability Stud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762120" y="367524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High Availability Study Group</a:t>
            </a:r>
            <a:br>
              <a:rPr sz="4000"/>
            </a:b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X3T10: 95-312r0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16765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roposed Controller Failove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C &amp; SCSI-3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320" y="327672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 changes involve some specific changes to the ATTACH to COMPONENT DEVICE and REPORT COMPONENT DEVICE ATTACHMENTS servic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 to Attach involve LUN_C=0 denoting service action for controller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 to parameter list based on LUN_C=0 for list to refer to controllers to be attached to controller receiving service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C &amp; SCSI-3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 to the Report COMPONENT DEVICE ATTACHMENT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UN_C=0 denotes controller service action to report about controller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e contains information about all current attachments, the name of the attachment, and information controllers eligible to become att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SI-3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SC/ASCq’s for Fault Detection in FT controller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t to hosts by detecting controller(s) of failed controller. Method determined by SCSI-3 exception handling methods (AEN, Unit Attention, etc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1790640"/>
            <a:ext cx="67057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T Controller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52280" y="2971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se changes, hos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gure fault tolerant controller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configuration checks by hosts (top level controller checks, followed by One scan down through a controller to verify LUN/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/Failback much more quickly since controllers can detect partner failure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Load balanc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stent and Complimentary to Persistent Reserve &amp; Global device/LUN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1790640"/>
            <a:ext cx="67816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tional SCC Requirements for Configuration Flex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327672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ore Flexible Configuration, controller configuration capabilities to support multiple configurations of LUNs between attached controllers is possible/desir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network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serial storage &amp; high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bilities should be reported and contro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790640"/>
            <a:ext cx="6553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15228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’ Controller component configurations may want/need different LUN access mod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sharing of all LUNs configured between all controllers attached to each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represented by the profile as it stands today with the proposed SC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ties a set of controllers to all LUNs configured from any/all controllers in the attached configuration. Class 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devices may share access but comprise LUNs for different controller attac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1790640"/>
            <a:ext cx="68580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roller Attachment and Controller to LUN attachments allow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e of configuration: less OS polling of all targets and LUNs to build configuration maps with one or two level controller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 1 configuration (one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 2 configuration (two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1790640"/>
            <a:ext cx="6553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 Attachments and Controller to LUN Attachments also provid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ier use and management of Global IDs for devices and LUNs within a controller configu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790640"/>
            <a:ext cx="6553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UNs attached to specific sets of controllers within an attached controll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requires an Attachment of Controller to specific LUN. It also implies a set of flags for reporting of and control of the LUN access method to be employed by the controller(s) attached to the L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714680"/>
            <a:ext cx="69343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UN attachment method is basically a ‘Sub-component attachment between controllers to sets of LUNs on shared access paths.  Class 2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eate Controller-LUN Attachment command would need to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I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up Class of LU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43000" y="15620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ed Controller Failover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304812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a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Fault Tolerant Controller Configurations &amp; Fail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Changes for SCC &amp; SCSI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Description of FT Controller Configuratio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SCSI-3 Requirements for more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95280" y="1790640"/>
            <a:ext cx="6553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UN Access/Servi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320" y="327672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UN access with controllers may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ed by only one controller, that controller only responds to read/write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ed by one controller at a time, but requires interlock commands to bind/unbind from a controller (i.e. Reserve/Rel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ed by both controller simultaneously, assuming a high level of interlock on LUN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1790640"/>
            <a:ext cx="67057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320" y="327672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port Controller-LUN Attachment Command will also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port Attached L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port Eligible L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port Component Device Attachment (for Controllers, LUN_C=0)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port Class of LUN access/servic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 Configuration Type (1,2,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rpose for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ize the concept of fault tolerant controller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controller logically with many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ize usage of SCC to aid OS driver development across all industry platforms for various fault tolerant configur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ze setup and/or registration of controllers in FT configuration (with naming independent of serial #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ze reporting of failing controller/returning controller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ort to n-port controller 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number of controller boards i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chitectur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 Controller Configuration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two or more control units sharing access paths to an arbitrary set of devices/L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Units may be active simultaneously or in some kind of active-standby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ing LUN Access models for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chitectur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 Controller Configuration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 between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back between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/Failback by controllers automatically or under ho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 Failback notification direct or indirect (message or time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320" y="3276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standard Configuration setup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standard failover/failback detections &amp; options for speed/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with different OS burd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for standard in open system networked storag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sumptions &amp;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320" y="327672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re for adherence to SCC models of SAC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or more controllers sharing access paths to storag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rollers configured with devices logically represent ‘one controller with n ports to hos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rollers configured with devices report the same configuration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95280" y="179064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sumptions and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152280" y="3048120"/>
            <a:ext cx="792468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co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 communicate with eachother directly (comm) or indirectly (through shared storage)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 components may have single or multiple host ports &amp; single or multiple devic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s may be pre-configured or be configured by hosts. Configs verified during controller/host init as well as after initial 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/all surviving controllers within configuration can resume service of storage to host after controller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95280" y="17906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C &amp; Fault Tolerant Controller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429000"/>
            <a:ext cx="106668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429000"/>
            <a:ext cx="106668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53352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5029200"/>
            <a:ext cx="990720" cy="68580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7200" y="4495680"/>
            <a:ext cx="55627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191120"/>
            <a:ext cx="0" cy="30456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4191120"/>
            <a:ext cx="0" cy="30456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-7632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76520" y="457200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5268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52880" y="4495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56160" y="4173480"/>
            <a:ext cx="1979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Bus/Loop/Fabric/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93640" y="363996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70160" y="363996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20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5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3228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4760" y="5240160"/>
            <a:ext cx="37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791320"/>
            <a:ext cx="0" cy="3808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248520"/>
            <a:ext cx="4876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99160" y="4630680"/>
            <a:ext cx="25052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ll hosts can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All controller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pathts to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All controllers can commun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all other controlle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ation via shared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(es) or private comm intrf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41008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5410080"/>
            <a:ext cx="68580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410080"/>
            <a:ext cx="68580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icola</dc:creator>
  <dc:description/>
  <dc:language>en-US</dc:language>
  <cp:lastModifiedBy>Lawrence J. Lamers</cp:lastModifiedBy>
  <cp:revision>0</cp:revision>
  <dc:subject>SCSI failover profile presentatoin</dc:subject>
  <dc:title>Steve Sicola Digital Equipment Corporation May 5, 1995</dc:title>
</cp:coreProperties>
</file>