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0F1C7D-3D50-4AC8-BC3F-66F117734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600" spc="-1" strike="noStrike">
                <a:solidFill>
                  <a:srgbClr val="000000"/>
                </a:solidFill>
                <a:latin typeface="Univers (W1)"/>
                <a:ea typeface="Univers (W1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 txBox="1"/>
          <p:nvPr/>
        </p:nvSpPr>
        <p:spPr>
          <a:xfrm>
            <a:off x="4398840" y="6553080"/>
            <a:ext cx="325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15BE40C5-E1DB-4423-BBD2-F65608F7700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65040" y="6545160"/>
            <a:ext cx="1285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I-2 WG 11/6/9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748640" y="6558120"/>
            <a:ext cx="1052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ank Gaspa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080040" y="52560"/>
            <a:ext cx="184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X3T10/95-346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36560" y="187488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Univers (W1)"/>
                <a:ea typeface="Univers (W1)"/>
              </a:rPr>
              <a:t>LVDS Differential SCSI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93920" y="3724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ommon-Mode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660240" y="355680"/>
            <a:ext cx="777240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LVDS Receiver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as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254480" y="1765440"/>
            <a:ext cx="3936960" cy="41497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5245200" y="1424160"/>
            <a:ext cx="1890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+/- 0.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419640" y="3930480"/>
            <a:ext cx="1031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Univers (WN)"/>
                <a:ea typeface="Univers (WN)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Univers (WN)"/>
                <a:ea typeface="Univers (WN)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Univers (WN)"/>
                <a:ea typeface="Univers (WN)"/>
              </a:rPr>
              <a:t>in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216320" y="5797440"/>
            <a:ext cx="247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Univers (W1)"/>
                <a:ea typeface="Univers (W1)"/>
              </a:rPr>
              <a:t>Example for illustratio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71680" y="1787400"/>
            <a:ext cx="3512880" cy="4059360"/>
            <a:chOff x="571680" y="1787400"/>
            <a:chExt cx="3512880" cy="4059360"/>
          </a:xfrm>
        </p:grpSpPr>
        <p:sp>
          <p:nvSpPr>
            <p:cNvPr id="491" name=""/>
            <p:cNvSpPr txBox="1"/>
            <p:nvPr/>
          </p:nvSpPr>
          <p:spPr>
            <a:xfrm>
              <a:off x="1776240" y="1787400"/>
              <a:ext cx="1344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D </a:t>
              </a: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+3V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1680" y="545292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397240" y="2819520"/>
              <a:ext cx="3240" cy="571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89000" y="247968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68560" y="242100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050920" y="248760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92200" y="224316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281320" y="222876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54120" y="259704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677960" y="265572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082960" y="2827440"/>
              <a:ext cx="291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2503440" y="2457360"/>
              <a:ext cx="900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39960" y="518796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06560" y="5114880"/>
              <a:ext cx="0" cy="4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6560" y="552924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97200" y="519732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4320" y="373860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606600" y="3930480"/>
              <a:ext cx="887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in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55960" y="374652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038320" y="517536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967040" y="511344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38360" y="55292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641600" y="55213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50880" y="5780160"/>
              <a:ext cx="185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028960" y="5359320"/>
              <a:ext cx="70488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8112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20720" y="5835600"/>
              <a:ext cx="41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41600" y="5208480"/>
              <a:ext cx="3254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58580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625760" y="58356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1260360" y="3616200"/>
              <a:ext cx="0" cy="373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1327320" y="355428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11120" y="362736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319040" y="397512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1643040" y="3971880"/>
              <a:ext cx="3240" cy="1231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41400" y="380700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3533760" y="36212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3467160" y="35593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3157560" y="363204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3139920" y="397980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3139920" y="397836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3538440" y="381168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3114720" y="553248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24360" y="5791320"/>
              <a:ext cx="185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4240" y="58197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4200" y="584676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059280" y="5819760"/>
              <a:ext cx="115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098880" y="584676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650960" y="338760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3144960" y="338760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643040" y="3387600"/>
              <a:ext cx="148608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 txBox="1"/>
            <p:nvPr/>
          </p:nvSpPr>
          <p:spPr>
            <a:xfrm>
              <a:off x="3213000" y="518472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1955880" y="3586320"/>
              <a:ext cx="1012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3184560" y="3138480"/>
              <a:ext cx="900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G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54400" y="335772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660240" y="355680"/>
            <a:ext cx="777240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LVDS Receiver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as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4286160" y="1700280"/>
            <a:ext cx="3989520" cy="41482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5259240" y="1353960"/>
            <a:ext cx="167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+/- 1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419640" y="3930480"/>
            <a:ext cx="1031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Univers (WN)"/>
                <a:ea typeface="Univers (WN)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Univers (WN)"/>
                <a:ea typeface="Univers (WN)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Univers (WN)"/>
                <a:ea typeface="Univers (WN)"/>
              </a:rPr>
              <a:t>in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75000" y="5729400"/>
            <a:ext cx="247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Univers (W1)"/>
                <a:ea typeface="Univers (W1)"/>
              </a:rPr>
              <a:t>Example for illustratio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71680" y="1787400"/>
            <a:ext cx="3512880" cy="4059360"/>
            <a:chOff x="571680" y="1787400"/>
            <a:chExt cx="3512880" cy="4059360"/>
          </a:xfrm>
        </p:grpSpPr>
        <p:sp>
          <p:nvSpPr>
            <p:cNvPr id="552" name=""/>
            <p:cNvSpPr txBox="1"/>
            <p:nvPr/>
          </p:nvSpPr>
          <p:spPr>
            <a:xfrm>
              <a:off x="1776240" y="1787400"/>
              <a:ext cx="1344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D </a:t>
              </a: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+3V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1680" y="545292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2397240" y="2819520"/>
              <a:ext cx="3240" cy="571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89000" y="247968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68560" y="242100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2050920" y="248760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92200" y="224316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281320" y="222876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54120" y="259704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677960" y="265572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2082960" y="2827440"/>
              <a:ext cx="291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>
              <a:off x="2503440" y="2457360"/>
              <a:ext cx="900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39960" y="518796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06560" y="5114880"/>
              <a:ext cx="0" cy="4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06560" y="552924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97200" y="519732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14320" y="373860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606600" y="3930480"/>
              <a:ext cx="887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in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5960" y="374652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2038320" y="517536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967040" y="511344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638360" y="55292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1641600" y="55213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50880" y="5780160"/>
              <a:ext cx="185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028960" y="5359320"/>
              <a:ext cx="70488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8112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20720" y="5835600"/>
              <a:ext cx="41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41600" y="5208480"/>
              <a:ext cx="3254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58580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625760" y="58356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260360" y="3616200"/>
              <a:ext cx="0" cy="373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1327320" y="355428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11120" y="362736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19040" y="397512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1643040" y="3971880"/>
              <a:ext cx="3240" cy="1231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941400" y="380700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533760" y="36212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467160" y="35593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157560" y="363204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3139920" y="397980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3139920" y="397836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538440" y="381168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114720" y="553248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24360" y="5791320"/>
              <a:ext cx="185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54240" y="58197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94200" y="584676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059280" y="5819760"/>
              <a:ext cx="115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3098880" y="584676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1650960" y="338760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144960" y="338760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1643040" y="3387600"/>
              <a:ext cx="148608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3213000" y="518472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1955880" y="3586320"/>
              <a:ext cx="1012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3184560" y="3138480"/>
              <a:ext cx="900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G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354400" y="335772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685800" y="609480"/>
            <a:ext cx="777240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Ground Offset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ase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717640" y="4124160"/>
            <a:ext cx="45975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320840" y="4881600"/>
            <a:ext cx="622440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46680" y="3462480"/>
            <a:ext cx="272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37040" y="34624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682720" y="3052800"/>
            <a:ext cx="4623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90440" y="516096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97000" y="52498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57480" y="5332320"/>
            <a:ext cx="10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28720" y="3922560"/>
            <a:ext cx="379440" cy="37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622520" y="4338720"/>
            <a:ext cx="10605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12160" y="2595600"/>
            <a:ext cx="243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29600" y="2933640"/>
            <a:ext cx="0" cy="128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24560" y="2933640"/>
            <a:ext cx="874800" cy="65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7346880" y="3592440"/>
            <a:ext cx="844560" cy="619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543800" y="4064040"/>
            <a:ext cx="0" cy="10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402680" y="5145120"/>
            <a:ext cx="2854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391520" y="5140440"/>
            <a:ext cx="10800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7477200" y="5145120"/>
            <a:ext cx="10620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569360" y="5146560"/>
            <a:ext cx="10764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7256520" y="2955960"/>
            <a:ext cx="41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7289640" y="38178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496280" y="48387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07280" y="368928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411960" y="315756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465960" y="303516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496200" y="369396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108840" y="4286160"/>
            <a:ext cx="6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26360" y="30081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469200" y="321948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485040" y="367668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69200" y="401652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6465960" y="3489480"/>
            <a:ext cx="1440" cy="20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21320" y="407340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19880" y="354492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864400" y="4094280"/>
            <a:ext cx="41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673360" y="368460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668680" y="315288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730600" y="303840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338560" y="368928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644920" y="4270320"/>
            <a:ext cx="6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685960" y="300348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227320" y="321480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225520" y="367200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735280" y="40114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728800" y="3484440"/>
            <a:ext cx="1800" cy="20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690640" y="407664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2733840" y="3586320"/>
            <a:ext cx="1108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681280" y="354024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108080" y="2933640"/>
            <a:ext cx="0" cy="128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95480" y="2933640"/>
            <a:ext cx="874440" cy="65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117440" y="3592440"/>
            <a:ext cx="844560" cy="619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320840" y="4070520"/>
            <a:ext cx="0" cy="10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274760" y="48387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077920" y="3048120"/>
            <a:ext cx="65592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1731960" y="4124160"/>
            <a:ext cx="9730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468440" y="41324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700280" y="2849400"/>
            <a:ext cx="379440" cy="37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468440" y="394344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1473120" y="3032280"/>
            <a:ext cx="0" cy="17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71680" y="3040200"/>
            <a:ext cx="23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92360" y="3036960"/>
            <a:ext cx="385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719360" y="2508120"/>
            <a:ext cx="398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719360" y="4264200"/>
            <a:ext cx="297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68240" y="358776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022480" y="4675320"/>
            <a:ext cx="514440" cy="430200"/>
            <a:chOff x="2022480" y="4675320"/>
            <a:chExt cx="514440" cy="430200"/>
          </a:xfrm>
        </p:grpSpPr>
        <p:sp>
          <p:nvSpPr>
            <p:cNvPr id="673" name=""/>
            <p:cNvSpPr/>
            <p:nvPr/>
          </p:nvSpPr>
          <p:spPr>
            <a:xfrm>
              <a:off x="2077920" y="4675320"/>
              <a:ext cx="428760" cy="43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2101680" y="4678200"/>
              <a:ext cx="396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/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2022480" y="4816440"/>
              <a:ext cx="514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V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Univers (W1)"/>
                  <a:ea typeface="Univers (W1)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060720" y="3583080"/>
            <a:ext cx="1195560" cy="1341360"/>
            <a:chOff x="3060720" y="3583080"/>
            <a:chExt cx="1195560" cy="1341360"/>
          </a:xfrm>
        </p:grpSpPr>
        <p:sp>
          <p:nvSpPr>
            <p:cNvPr id="677" name=""/>
            <p:cNvSpPr/>
            <p:nvPr/>
          </p:nvSpPr>
          <p:spPr>
            <a:xfrm flipH="1">
              <a:off x="3060720" y="4351320"/>
              <a:ext cx="428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3164040" y="442584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3273480" y="4081320"/>
              <a:ext cx="1440" cy="24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3273480" y="4427640"/>
              <a:ext cx="0" cy="414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27400" y="4846680"/>
              <a:ext cx="76320" cy="77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3216240" y="4060800"/>
              <a:ext cx="411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3246480" y="433404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29120" y="3771720"/>
              <a:ext cx="285840" cy="299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3273480" y="3583080"/>
              <a:ext cx="1440" cy="191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3065400" y="3794040"/>
              <a:ext cx="428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Univers (W1)"/>
                  <a:ea typeface="Univers (W1)"/>
                </a:rPr>
                <a:t>os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3384720" y="3811680"/>
              <a:ext cx="871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/-50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951440" y="3606840"/>
            <a:ext cx="1201680" cy="1306440"/>
            <a:chOff x="4951440" y="3606840"/>
            <a:chExt cx="1201680" cy="1306440"/>
          </a:xfrm>
        </p:grpSpPr>
        <p:sp>
          <p:nvSpPr>
            <p:cNvPr id="689" name=""/>
            <p:cNvSpPr/>
            <p:nvPr/>
          </p:nvSpPr>
          <p:spPr>
            <a:xfrm>
              <a:off x="5695920" y="4383000"/>
              <a:ext cx="428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807160" y="444492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5923080" y="4094280"/>
              <a:ext cx="144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918040" y="4446720"/>
              <a:ext cx="1800" cy="426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77000" y="483696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5892840" y="437040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67560" y="3787920"/>
              <a:ext cx="290520" cy="29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5911920" y="3606840"/>
              <a:ext cx="1440" cy="179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5705640" y="3809880"/>
              <a:ext cx="428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Univers (W1)"/>
                  <a:ea typeface="Univers (W1)"/>
                </a:rPr>
                <a:t>os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4951440" y="3832200"/>
              <a:ext cx="871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/-50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H="1">
            <a:off x="8175600" y="358632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40040" y="3525840"/>
            <a:ext cx="322200" cy="1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 flipV="1">
            <a:off x="3165480" y="3579840"/>
            <a:ext cx="1112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760840" y="3309840"/>
            <a:ext cx="587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346800" y="3598920"/>
            <a:ext cx="1112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5905440" y="3544920"/>
            <a:ext cx="436680" cy="108000"/>
            <a:chOff x="5905440" y="3544920"/>
            <a:chExt cx="436680" cy="108000"/>
          </a:xfrm>
        </p:grpSpPr>
        <p:sp>
          <p:nvSpPr>
            <p:cNvPr id="705" name=""/>
            <p:cNvSpPr/>
            <p:nvPr/>
          </p:nvSpPr>
          <p:spPr>
            <a:xfrm>
              <a:off x="6019920" y="3544920"/>
              <a:ext cx="322200" cy="10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5905440" y="3598920"/>
              <a:ext cx="111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 txBox="1"/>
          <p:nvPr/>
        </p:nvSpPr>
        <p:spPr>
          <a:xfrm>
            <a:off x="5853240" y="3335400"/>
            <a:ext cx="587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685800" y="393840"/>
            <a:ext cx="777240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LVDS Driver 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112920" y="3789360"/>
            <a:ext cx="773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Univers (WN)"/>
                <a:ea typeface="Univers (WN)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Univers (WN)"/>
                <a:ea typeface="Univers (WN)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Univers (WN)"/>
                <a:ea typeface="Univers (WN)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3897360" y="1925640"/>
            <a:ext cx="3762360" cy="414828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692600" y="1565280"/>
            <a:ext cx="201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 +/- 0.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794040" y="5899320"/>
            <a:ext cx="2550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Univers (W1)"/>
                <a:ea typeface="Univers (W1)"/>
              </a:rPr>
              <a:t>Example for illustratio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314360" y="2171520"/>
            <a:ext cx="2425680" cy="3664080"/>
            <a:chOff x="1314360" y="2171520"/>
            <a:chExt cx="2425680" cy="3664080"/>
          </a:xfrm>
        </p:grpSpPr>
        <p:sp>
          <p:nvSpPr>
            <p:cNvPr id="714" name=""/>
            <p:cNvSpPr txBox="1"/>
            <p:nvPr/>
          </p:nvSpPr>
          <p:spPr>
            <a:xfrm>
              <a:off x="2395440" y="2171520"/>
              <a:ext cx="1344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D </a:t>
              </a: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+3V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14360" y="5454720"/>
              <a:ext cx="6192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1405080" y="5457960"/>
              <a:ext cx="1222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Current Sourc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2698920" y="3629160"/>
              <a:ext cx="0" cy="371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765520" y="3568680"/>
              <a:ext cx="0" cy="49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49680" y="363996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078000" y="3197160"/>
              <a:ext cx="0" cy="442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57600" y="398628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3089160" y="3983040"/>
              <a:ext cx="0" cy="212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93880" y="285912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65520" y="2801880"/>
              <a:ext cx="0" cy="471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2755800" y="28670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081240" y="2624040"/>
              <a:ext cx="0" cy="243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2986200" y="261000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59000" y="297648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2382840" y="303516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779560" y="3197160"/>
              <a:ext cx="292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 txBox="1"/>
            <p:nvPr/>
          </p:nvSpPr>
          <p:spPr>
            <a:xfrm>
              <a:off x="1409760" y="280980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BIA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06840" y="4390920"/>
              <a:ext cx="0" cy="370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73440" y="4314960"/>
              <a:ext cx="0" cy="498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65520" y="474012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3087720" y="4738680"/>
              <a:ext cx="4680" cy="45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68760" y="4402080"/>
              <a:ext cx="3236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089160" y="420048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62000" y="414504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84280" y="4576680"/>
              <a:ext cx="314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1411200" y="398304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S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83040" y="4211640"/>
              <a:ext cx="328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2701800" y="5180040"/>
              <a:ext cx="0" cy="350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773440" y="5118120"/>
              <a:ext cx="0" cy="471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771640" y="55306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3089160" y="5522760"/>
              <a:ext cx="0" cy="243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2994120" y="5780160"/>
              <a:ext cx="185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66920" y="529596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390760" y="535608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03372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3068640" y="5835600"/>
              <a:ext cx="41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421080" y="414972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763720" y="5192640"/>
              <a:ext cx="3254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2904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63960" y="58356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1411200" y="511956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BIA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 txBox="1"/>
            <p:nvPr/>
          </p:nvSpPr>
          <p:spPr>
            <a:xfrm>
              <a:off x="1398600" y="4317840"/>
              <a:ext cx="947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Switch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79600" y="381960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2387520" y="3813120"/>
              <a:ext cx="1800" cy="762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070000" y="421164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1406520" y="3157560"/>
              <a:ext cx="1222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Current Sourc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43240" y="417816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44880" y="417024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 txBox="1"/>
          <p:nvPr/>
        </p:nvSpPr>
        <p:spPr>
          <a:xfrm>
            <a:off x="2536920" y="5853240"/>
            <a:ext cx="504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Univers (WN)"/>
                <a:ea typeface="Univers (WN)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Univers (WN)"/>
                <a:ea typeface="Univers (WN)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685800" y="393840"/>
            <a:ext cx="777240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LVDS Driver 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112920" y="3789360"/>
            <a:ext cx="773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Univers (WN)"/>
                <a:ea typeface="Univers (WN)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Univers (WN)"/>
                <a:ea typeface="Univers (WN)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Univers (WN)"/>
                <a:ea typeface="Univers (WN)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973680" y="1925640"/>
            <a:ext cx="3762360" cy="415116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 txBox="1"/>
          <p:nvPr/>
        </p:nvSpPr>
        <p:spPr>
          <a:xfrm>
            <a:off x="4692600" y="1565280"/>
            <a:ext cx="179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 +/- 1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794040" y="5835600"/>
            <a:ext cx="2550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Univers (W1)"/>
                <a:ea typeface="Univers (W1)"/>
              </a:rPr>
              <a:t>Example for illustratio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314360" y="2171520"/>
            <a:ext cx="2425680" cy="3664080"/>
            <a:chOff x="1314360" y="2171520"/>
            <a:chExt cx="2425680" cy="3664080"/>
          </a:xfrm>
        </p:grpSpPr>
        <p:sp>
          <p:nvSpPr>
            <p:cNvPr id="770" name=""/>
            <p:cNvSpPr txBox="1"/>
            <p:nvPr/>
          </p:nvSpPr>
          <p:spPr>
            <a:xfrm>
              <a:off x="2395440" y="2171520"/>
              <a:ext cx="1344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D </a:t>
              </a: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+3V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14360" y="5454720"/>
              <a:ext cx="61920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 txBox="1"/>
            <p:nvPr/>
          </p:nvSpPr>
          <p:spPr>
            <a:xfrm>
              <a:off x="1405080" y="5457960"/>
              <a:ext cx="1222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Current Sourc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698920" y="3629160"/>
              <a:ext cx="0" cy="371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765520" y="3568680"/>
              <a:ext cx="0" cy="49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49680" y="363996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078000" y="3197160"/>
              <a:ext cx="0" cy="442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57600" y="398628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3089160" y="3983040"/>
              <a:ext cx="0" cy="212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693880" y="285912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65520" y="2801880"/>
              <a:ext cx="0" cy="471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755800" y="28670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81240" y="2624040"/>
              <a:ext cx="0" cy="243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986200" y="261000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59000" y="297648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382840" y="303516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9560" y="3197160"/>
              <a:ext cx="292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1409760" y="280980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BIA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06840" y="4390920"/>
              <a:ext cx="0" cy="370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73440" y="4314960"/>
              <a:ext cx="0" cy="498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65520" y="474012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3087720" y="4738680"/>
              <a:ext cx="4680" cy="45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68760" y="4402080"/>
              <a:ext cx="3236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89160" y="420048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962000" y="414504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84280" y="4576680"/>
              <a:ext cx="314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1411200" y="398304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S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83040" y="4211640"/>
              <a:ext cx="328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2701800" y="5180040"/>
              <a:ext cx="0" cy="350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773440" y="5118120"/>
              <a:ext cx="0" cy="471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2771640" y="55306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3089160" y="5522760"/>
              <a:ext cx="0" cy="243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994120" y="5780160"/>
              <a:ext cx="185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66920" y="529596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390760" y="535608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03372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068640" y="5835600"/>
              <a:ext cx="41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421080" y="414972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2763720" y="5192640"/>
              <a:ext cx="3254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2904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63960" y="58356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>
              <a:off x="1411200" y="511956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BIA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 txBox="1"/>
            <p:nvPr/>
          </p:nvSpPr>
          <p:spPr>
            <a:xfrm>
              <a:off x="1398600" y="4317840"/>
              <a:ext cx="947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Switch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379600" y="381960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2387520" y="3813120"/>
              <a:ext cx="1800" cy="762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70000" y="421164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 txBox="1"/>
            <p:nvPr/>
          </p:nvSpPr>
          <p:spPr>
            <a:xfrm>
              <a:off x="1406520" y="3157560"/>
              <a:ext cx="1222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Current Sourc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43240" y="417816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4880" y="417024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"/>
          <p:cNvSpPr txBox="1"/>
          <p:nvPr/>
        </p:nvSpPr>
        <p:spPr>
          <a:xfrm>
            <a:off x="2536920" y="5853240"/>
            <a:ext cx="504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Univers (WN)"/>
                <a:ea typeface="Univers (WN)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Univers (WN)"/>
                <a:ea typeface="Univers (WN)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685800" y="609480"/>
            <a:ext cx="777240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Ground Offset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ase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717640" y="4124160"/>
            <a:ext cx="45975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46680" y="3462480"/>
            <a:ext cx="272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037040" y="34624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682720" y="3052800"/>
            <a:ext cx="4623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090440" y="516096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197000" y="52498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257480" y="5332320"/>
            <a:ext cx="10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728720" y="3922560"/>
            <a:ext cx="379440" cy="37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22520" y="4338720"/>
            <a:ext cx="10605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112160" y="2595600"/>
            <a:ext cx="243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329600" y="2933640"/>
            <a:ext cx="0" cy="128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324560" y="2933640"/>
            <a:ext cx="874800" cy="65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7346880" y="3592440"/>
            <a:ext cx="844560" cy="619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543800" y="4064040"/>
            <a:ext cx="0" cy="10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402680" y="5145120"/>
            <a:ext cx="2854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7391520" y="5140440"/>
            <a:ext cx="10800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7477200" y="5145120"/>
            <a:ext cx="10620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7569360" y="5146560"/>
            <a:ext cx="10764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7256520" y="2955960"/>
            <a:ext cx="41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7289640" y="38178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496280" y="48387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407280" y="368928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411960" y="315756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465960" y="303516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496200" y="369396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6108840" y="4219560"/>
            <a:ext cx="6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26360" y="30081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469200" y="321948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6485040" y="367668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469200" y="401652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6465960" y="3489480"/>
            <a:ext cx="1440" cy="20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421320" y="407340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419880" y="354492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5864400" y="4094280"/>
            <a:ext cx="41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673360" y="368460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668680" y="315288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30600" y="303840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338560" y="368928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2644920" y="4270320"/>
            <a:ext cx="6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685960" y="300348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2227320" y="321480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2225520" y="367200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735280" y="40114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728800" y="3484440"/>
            <a:ext cx="1800" cy="20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690640" y="407664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 flipV="1">
            <a:off x="2733840" y="3586320"/>
            <a:ext cx="1108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681280" y="354024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108080" y="2933640"/>
            <a:ext cx="0" cy="128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095480" y="2933640"/>
            <a:ext cx="874440" cy="65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1117440" y="3592440"/>
            <a:ext cx="844560" cy="619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320840" y="4070520"/>
            <a:ext cx="0" cy="10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274760" y="48387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 flipV="1">
            <a:off x="2077920" y="3048120"/>
            <a:ext cx="65592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1731960" y="4124160"/>
            <a:ext cx="9730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1468440" y="41324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700280" y="2849400"/>
            <a:ext cx="379440" cy="37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1468440" y="394344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473120" y="3032280"/>
            <a:ext cx="0" cy="17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471680" y="3040200"/>
            <a:ext cx="23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692360" y="3036960"/>
            <a:ext cx="385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1719360" y="2508120"/>
            <a:ext cx="398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1719360" y="4264200"/>
            <a:ext cx="297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768240" y="358776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1325520" y="4886280"/>
            <a:ext cx="621828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6454800" y="4675320"/>
            <a:ext cx="514440" cy="430200"/>
            <a:chOff x="6454800" y="4675320"/>
            <a:chExt cx="514440" cy="430200"/>
          </a:xfrm>
        </p:grpSpPr>
        <p:sp>
          <p:nvSpPr>
            <p:cNvPr id="886" name=""/>
            <p:cNvSpPr/>
            <p:nvPr/>
          </p:nvSpPr>
          <p:spPr>
            <a:xfrm>
              <a:off x="6510240" y="4675320"/>
              <a:ext cx="428760" cy="43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6534000" y="4678200"/>
              <a:ext cx="396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/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 txBox="1"/>
            <p:nvPr/>
          </p:nvSpPr>
          <p:spPr>
            <a:xfrm>
              <a:off x="6454800" y="4816440"/>
              <a:ext cx="514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V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Univers (W1)"/>
                  <a:ea typeface="Univers (W1)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3060720" y="3583080"/>
            <a:ext cx="1195560" cy="1341360"/>
            <a:chOff x="3060720" y="3583080"/>
            <a:chExt cx="1195560" cy="1341360"/>
          </a:xfrm>
        </p:grpSpPr>
        <p:sp>
          <p:nvSpPr>
            <p:cNvPr id="890" name=""/>
            <p:cNvSpPr/>
            <p:nvPr/>
          </p:nvSpPr>
          <p:spPr>
            <a:xfrm flipH="1">
              <a:off x="3060720" y="4351320"/>
              <a:ext cx="428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164040" y="442584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3273480" y="4081320"/>
              <a:ext cx="1440" cy="24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3273480" y="4427640"/>
              <a:ext cx="0" cy="414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27400" y="4846680"/>
              <a:ext cx="76320" cy="77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3216240" y="4060800"/>
              <a:ext cx="411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3246480" y="433404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29120" y="3771720"/>
              <a:ext cx="285840" cy="299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273480" y="3583080"/>
              <a:ext cx="1440" cy="191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 txBox="1"/>
            <p:nvPr/>
          </p:nvSpPr>
          <p:spPr>
            <a:xfrm>
              <a:off x="3065400" y="3794040"/>
              <a:ext cx="428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Univers (W1)"/>
                  <a:ea typeface="Univers (W1)"/>
                </a:rPr>
                <a:t>os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3384720" y="3811680"/>
              <a:ext cx="871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/-50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4951440" y="3606840"/>
            <a:ext cx="1201680" cy="1306440"/>
            <a:chOff x="4951440" y="3606840"/>
            <a:chExt cx="1201680" cy="1306440"/>
          </a:xfrm>
        </p:grpSpPr>
        <p:sp>
          <p:nvSpPr>
            <p:cNvPr id="902" name=""/>
            <p:cNvSpPr/>
            <p:nvPr/>
          </p:nvSpPr>
          <p:spPr>
            <a:xfrm>
              <a:off x="5695920" y="4383000"/>
              <a:ext cx="428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07160" y="444492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5923080" y="4094280"/>
              <a:ext cx="144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5918040" y="4446720"/>
              <a:ext cx="1800" cy="426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77000" y="483696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5892840" y="437040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67560" y="3787920"/>
              <a:ext cx="290520" cy="29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5911920" y="3606840"/>
              <a:ext cx="1440" cy="179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5705640" y="3809880"/>
              <a:ext cx="428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Univers (W1)"/>
                  <a:ea typeface="Univers (W1)"/>
                </a:rPr>
                <a:t>os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4951440" y="3832200"/>
              <a:ext cx="871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/-50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 flipH="1">
            <a:off x="8175600" y="358632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40040" y="3525840"/>
            <a:ext cx="322200" cy="1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3165480" y="3579840"/>
            <a:ext cx="1112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2760840" y="3309840"/>
            <a:ext cx="587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6346800" y="3598920"/>
            <a:ext cx="1112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905440" y="3544920"/>
            <a:ext cx="436680" cy="108000"/>
            <a:chOff x="5905440" y="3544920"/>
            <a:chExt cx="436680" cy="108000"/>
          </a:xfrm>
        </p:grpSpPr>
        <p:sp>
          <p:nvSpPr>
            <p:cNvPr id="918" name=""/>
            <p:cNvSpPr/>
            <p:nvPr/>
          </p:nvSpPr>
          <p:spPr>
            <a:xfrm>
              <a:off x="6019920" y="3544920"/>
              <a:ext cx="322200" cy="10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5905440" y="3598920"/>
              <a:ext cx="111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 txBox="1"/>
          <p:nvPr/>
        </p:nvSpPr>
        <p:spPr>
          <a:xfrm>
            <a:off x="5853240" y="3335400"/>
            <a:ext cx="587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685800" y="355680"/>
            <a:ext cx="777240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LVDS Receiver 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as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4280040" y="1701720"/>
            <a:ext cx="3987720" cy="414972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 txBox="1"/>
          <p:nvPr/>
        </p:nvSpPr>
        <p:spPr>
          <a:xfrm>
            <a:off x="5270400" y="1335240"/>
            <a:ext cx="1930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DD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= +/- 0.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3419640" y="3930480"/>
            <a:ext cx="1031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Univers (WN)"/>
                <a:ea typeface="Univers (WN)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Univers (WN)"/>
                <a:ea typeface="Univers (WN)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Univers (WN)"/>
                <a:ea typeface="Univers (WN)"/>
              </a:rPr>
              <a:t>in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241880" y="5721480"/>
            <a:ext cx="247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Univers (W1)"/>
                <a:ea typeface="Univers (W1)"/>
              </a:rPr>
              <a:t>Example for illustratio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571680" y="1787400"/>
            <a:ext cx="3512880" cy="4059360"/>
            <a:chOff x="571680" y="1787400"/>
            <a:chExt cx="3512880" cy="4059360"/>
          </a:xfrm>
        </p:grpSpPr>
        <p:sp>
          <p:nvSpPr>
            <p:cNvPr id="927" name=""/>
            <p:cNvSpPr txBox="1"/>
            <p:nvPr/>
          </p:nvSpPr>
          <p:spPr>
            <a:xfrm>
              <a:off x="1776240" y="1787400"/>
              <a:ext cx="1344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D </a:t>
              </a: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+3V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1680" y="545292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2397240" y="2819520"/>
              <a:ext cx="3240" cy="571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89000" y="247968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68560" y="242100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2050920" y="248760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392200" y="224316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2281320" y="222876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554120" y="259704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1677960" y="265572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2082960" y="2827440"/>
              <a:ext cx="291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2503440" y="2457360"/>
              <a:ext cx="900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39960" y="518796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06560" y="5114880"/>
              <a:ext cx="0" cy="4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06560" y="552924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797200" y="519732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14320" y="373860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>
              <a:off x="606600" y="3930480"/>
              <a:ext cx="887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in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855960" y="374652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2038320" y="517536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967040" y="511344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638360" y="55292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641600" y="55213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550880" y="5780160"/>
              <a:ext cx="185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028960" y="5359320"/>
              <a:ext cx="70488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58112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20720" y="5835600"/>
              <a:ext cx="41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641600" y="5208480"/>
              <a:ext cx="3254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158580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1625760" y="58356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1260360" y="3616200"/>
              <a:ext cx="0" cy="373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327320" y="355428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11120" y="362736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319040" y="397512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1643040" y="3971880"/>
              <a:ext cx="3240" cy="1231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41400" y="380700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3533760" y="36212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3467160" y="35593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157560" y="363204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139920" y="397980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3139920" y="397836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3538440" y="381168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3114720" y="553248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024360" y="5791320"/>
              <a:ext cx="185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54240" y="58197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094200" y="584676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3059280" y="5819760"/>
              <a:ext cx="115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3098880" y="584676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1650960" y="338760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3144960" y="338760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1643040" y="3387600"/>
              <a:ext cx="148608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 txBox="1"/>
            <p:nvPr/>
          </p:nvSpPr>
          <p:spPr>
            <a:xfrm>
              <a:off x="3213000" y="518472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 txBox="1"/>
            <p:nvPr/>
          </p:nvSpPr>
          <p:spPr>
            <a:xfrm>
              <a:off x="1955880" y="3586320"/>
              <a:ext cx="1012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3184560" y="3138480"/>
              <a:ext cx="900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G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54400" y="335772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685800" y="355680"/>
            <a:ext cx="777240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LVDS Receiver 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as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4280040" y="1701720"/>
            <a:ext cx="3987720" cy="414972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 txBox="1"/>
          <p:nvPr/>
        </p:nvSpPr>
        <p:spPr>
          <a:xfrm>
            <a:off x="5410080" y="1322280"/>
            <a:ext cx="1711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DD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= +/- 1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3419640" y="3930480"/>
            <a:ext cx="1031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Univers (WN)"/>
                <a:ea typeface="Univers (WN)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Univers (WN)"/>
                <a:ea typeface="Univers (WN)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Univers (WN)"/>
                <a:ea typeface="Univers (WN)"/>
              </a:rPr>
              <a:t>in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4241880" y="5721480"/>
            <a:ext cx="247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Univers (W1)"/>
                <a:ea typeface="Univers (W1)"/>
              </a:rPr>
              <a:t>Example for illustratio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571680" y="1787400"/>
            <a:ext cx="3512880" cy="4059360"/>
            <a:chOff x="571680" y="1787400"/>
            <a:chExt cx="3512880" cy="4059360"/>
          </a:xfrm>
        </p:grpSpPr>
        <p:sp>
          <p:nvSpPr>
            <p:cNvPr id="988" name=""/>
            <p:cNvSpPr txBox="1"/>
            <p:nvPr/>
          </p:nvSpPr>
          <p:spPr>
            <a:xfrm>
              <a:off x="1776240" y="1787400"/>
              <a:ext cx="1344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D </a:t>
              </a: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+3V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1680" y="545292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2397240" y="2819520"/>
              <a:ext cx="3240" cy="571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989000" y="247968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68560" y="242100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050920" y="248760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92200" y="224316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281320" y="222876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554120" y="259704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1677960" y="265572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2082960" y="2827440"/>
              <a:ext cx="291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>
              <a:off x="2503440" y="2457360"/>
              <a:ext cx="900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39960" y="518796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06560" y="5114880"/>
              <a:ext cx="0" cy="4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06560" y="552924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97200" y="519732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14320" y="373860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 txBox="1"/>
            <p:nvPr/>
          </p:nvSpPr>
          <p:spPr>
            <a:xfrm>
              <a:off x="606600" y="3930480"/>
              <a:ext cx="887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in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55960" y="374652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2038320" y="517536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1967040" y="511344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38360" y="55292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1641600" y="55213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550880" y="5780160"/>
              <a:ext cx="185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2028960" y="5359320"/>
              <a:ext cx="70488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58112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620720" y="5835600"/>
              <a:ext cx="41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41600" y="5208480"/>
              <a:ext cx="3254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158580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1625760" y="58356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1260360" y="3616200"/>
              <a:ext cx="0" cy="373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1327320" y="355428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11120" y="362736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319040" y="397512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 flipV="1">
              <a:off x="1643040" y="3971880"/>
              <a:ext cx="3240" cy="1231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941400" y="380700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3533760" y="36212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3467160" y="35593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3157560" y="363204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3139920" y="397980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3139920" y="397836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3538440" y="381168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3114720" y="553248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024360" y="5791320"/>
              <a:ext cx="185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54240" y="58197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094200" y="584676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3059280" y="5819760"/>
              <a:ext cx="115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098880" y="584676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1650960" y="338760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3144960" y="338760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1643040" y="3387600"/>
              <a:ext cx="148608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 txBox="1"/>
            <p:nvPr/>
          </p:nvSpPr>
          <p:spPr>
            <a:xfrm>
              <a:off x="3213000" y="518472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 txBox="1"/>
            <p:nvPr/>
          </p:nvSpPr>
          <p:spPr>
            <a:xfrm>
              <a:off x="1955880" y="3586320"/>
              <a:ext cx="1012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 txBox="1"/>
            <p:nvPr/>
          </p:nvSpPr>
          <p:spPr>
            <a:xfrm>
              <a:off x="3184560" y="3138480"/>
              <a:ext cx="900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G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354400" y="335772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776160" y="32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CM</a:t>
            </a: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 Calculation Cas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512640" y="1227240"/>
            <a:ext cx="8099280" cy="55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Example: 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+CM Driver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+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os1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-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  + 0.50 + 0.05 - 0.25 =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Univers (W1)"/>
                <a:ea typeface="Univers (W1)"/>
              </a:rPr>
              <a:t>1.5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-CM Driver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=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-  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os1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+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CM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  -  0.50  -   0.05  +0.25 =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Univers (W1)"/>
                <a:ea typeface="Univers (W1)"/>
              </a:rPr>
              <a:t>0.9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+CM Rec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+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os2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+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CM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  + 0.05 + 0.25  =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Univers (W1)"/>
                <a:ea typeface="Univers (W1)"/>
              </a:rPr>
              <a:t>1.55V</a:t>
            </a:r>
            <a:r>
              <a:rPr b="1" i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-CM Rec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- 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os2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- 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CM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 -  0.05 - 0.25 =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Univers (W1)"/>
                <a:ea typeface="Univers (W1)"/>
              </a:rPr>
              <a:t> 0.9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CM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  =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(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+ 2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OS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)/(2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CM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+110||110 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    (0.5  +2(0.05)) / (2(150) +55) =</a:t>
            </a:r>
            <a:r>
              <a:rPr b="1" i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Univers (W1)"/>
                <a:ea typeface="Univers (W1)"/>
              </a:rPr>
              <a:t>1.69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884160" y="5654520"/>
            <a:ext cx="76802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 txBox="1"/>
          <p:nvPr/>
        </p:nvSpPr>
        <p:spPr>
          <a:xfrm>
            <a:off x="685800" y="60948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Proposed CM Specs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Nov. 6,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1187280" y="2676600"/>
            <a:ext cx="679752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Driver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55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0.95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Receiver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55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0.95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Assumption:    |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 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| &lt; 0.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81120" y="3728880"/>
            <a:ext cx="768024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Common-Mode Issu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7000" y="2614680"/>
            <a:ext cx="69343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Ground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Present Proposed Sp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Three Cases of Ground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New Proposed Sp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Present CM Specs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Sept. 11,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66680" y="2819520"/>
            <a:ext cx="679752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Driver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2.175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0.225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Receiver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2.350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0.050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Univers (W1)"/>
                <a:ea typeface="Univers (W1)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Ground Offs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17640" y="4124160"/>
            <a:ext cx="45975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778280" y="4881600"/>
            <a:ext cx="27669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6680" y="3462480"/>
            <a:ext cx="272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7040" y="34624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82720" y="3052800"/>
            <a:ext cx="4623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90440" y="516096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7000" y="52498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7480" y="5332320"/>
            <a:ext cx="10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28720" y="3922560"/>
            <a:ext cx="379440" cy="37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1320" y="467532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75080" y="4678200"/>
            <a:ext cx="396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+/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22520" y="4338720"/>
            <a:ext cx="10605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12160" y="2595600"/>
            <a:ext cx="243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29600" y="2933640"/>
            <a:ext cx="0" cy="128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4560" y="2933640"/>
            <a:ext cx="874800" cy="65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346880" y="3592440"/>
            <a:ext cx="844560" cy="619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4064040"/>
            <a:ext cx="0" cy="10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02680" y="5145120"/>
            <a:ext cx="2854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391520" y="5140440"/>
            <a:ext cx="10800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77200" y="5145120"/>
            <a:ext cx="10620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569360" y="5146560"/>
            <a:ext cx="10764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256520" y="2955960"/>
            <a:ext cx="41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289640" y="38178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96280" y="48387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7280" y="368928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11960" y="315756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65960" y="303516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96200" y="369396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108840" y="4286160"/>
            <a:ext cx="6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26360" y="30081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69200" y="321948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85040" y="367668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69200" y="401652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65960" y="3489480"/>
            <a:ext cx="1440" cy="20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21320" y="407340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19880" y="354492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864400" y="4094280"/>
            <a:ext cx="41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73360" y="368460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8680" y="315288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30600" y="303840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38560" y="368928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44920" y="4270320"/>
            <a:ext cx="6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85960" y="300348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27320" y="321480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25520" y="367200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35280" y="40114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28800" y="3484440"/>
            <a:ext cx="1800" cy="20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90640" y="407664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733840" y="3586320"/>
            <a:ext cx="1108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81280" y="354024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08080" y="2933640"/>
            <a:ext cx="0" cy="128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95480" y="2933640"/>
            <a:ext cx="874440" cy="65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17440" y="3592440"/>
            <a:ext cx="844560" cy="619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20840" y="4070520"/>
            <a:ext cx="0" cy="10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74760" y="48387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077920" y="3048120"/>
            <a:ext cx="65592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731960" y="4124160"/>
            <a:ext cx="9730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468440" y="41324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0280" y="2849400"/>
            <a:ext cx="379440" cy="37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468440" y="394344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73120" y="3032280"/>
            <a:ext cx="0" cy="17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1680" y="3040200"/>
            <a:ext cx="23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3036960"/>
            <a:ext cx="385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19360" y="2508120"/>
            <a:ext cx="398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19360" y="4264200"/>
            <a:ext cx="297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68240" y="358776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25520" y="4892760"/>
            <a:ext cx="302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95880" y="481644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60720" y="3583080"/>
            <a:ext cx="1195560" cy="1341360"/>
            <a:chOff x="3060720" y="3583080"/>
            <a:chExt cx="1195560" cy="1341360"/>
          </a:xfrm>
        </p:grpSpPr>
        <p:sp>
          <p:nvSpPr>
            <p:cNvPr id="125" name=""/>
            <p:cNvSpPr/>
            <p:nvPr/>
          </p:nvSpPr>
          <p:spPr>
            <a:xfrm flipH="1">
              <a:off x="3060720" y="4351320"/>
              <a:ext cx="428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164040" y="442584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273480" y="4081320"/>
              <a:ext cx="1440" cy="24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273480" y="4427640"/>
              <a:ext cx="0" cy="414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7400" y="4846680"/>
              <a:ext cx="76320" cy="77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3216240" y="4060800"/>
              <a:ext cx="411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246480" y="433404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29120" y="3771720"/>
              <a:ext cx="285840" cy="299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273480" y="3583080"/>
              <a:ext cx="1440" cy="191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3065400" y="3794040"/>
              <a:ext cx="428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Univers (W1)"/>
                  <a:ea typeface="Univers (W1)"/>
                </a:rPr>
                <a:t>os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3384720" y="3811680"/>
              <a:ext cx="871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/-50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951440" y="3606840"/>
            <a:ext cx="1201680" cy="1306440"/>
            <a:chOff x="4951440" y="3606840"/>
            <a:chExt cx="1201680" cy="1306440"/>
          </a:xfrm>
        </p:grpSpPr>
        <p:sp>
          <p:nvSpPr>
            <p:cNvPr id="137" name=""/>
            <p:cNvSpPr/>
            <p:nvPr/>
          </p:nvSpPr>
          <p:spPr>
            <a:xfrm>
              <a:off x="5695920" y="4383000"/>
              <a:ext cx="428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07160" y="444492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923080" y="4094280"/>
              <a:ext cx="144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918040" y="4446720"/>
              <a:ext cx="1800" cy="426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77000" y="483696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5892840" y="437040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67560" y="3787920"/>
              <a:ext cx="290520" cy="29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911920" y="3606840"/>
              <a:ext cx="1440" cy="179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5705640" y="3809880"/>
              <a:ext cx="428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Univers (W1)"/>
                  <a:ea typeface="Univers (W1)"/>
                </a:rPr>
                <a:t>os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951440" y="3832200"/>
              <a:ext cx="871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/-50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8175600" y="358632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0040" y="3525840"/>
            <a:ext cx="322200" cy="1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165480" y="3579840"/>
            <a:ext cx="1112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760840" y="3309840"/>
            <a:ext cx="587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346800" y="3598920"/>
            <a:ext cx="1112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905440" y="3544920"/>
            <a:ext cx="436680" cy="108000"/>
            <a:chOff x="5905440" y="3544920"/>
            <a:chExt cx="436680" cy="108000"/>
          </a:xfrm>
        </p:grpSpPr>
        <p:sp>
          <p:nvSpPr>
            <p:cNvPr id="153" name=""/>
            <p:cNvSpPr/>
            <p:nvPr/>
          </p:nvSpPr>
          <p:spPr>
            <a:xfrm>
              <a:off x="6019920" y="3544920"/>
              <a:ext cx="322200" cy="10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905440" y="3598920"/>
              <a:ext cx="111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5853240" y="3335400"/>
            <a:ext cx="587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LVDS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09960" y="2217600"/>
            <a:ext cx="3762360" cy="376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083120" y="1844640"/>
            <a:ext cx="3387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Present Common-Mode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794040" y="5835600"/>
            <a:ext cx="2550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Univers (W1)"/>
                <a:ea typeface="Univers (W1)"/>
              </a:rPr>
              <a:t>Example for illustratio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14360" y="2149560"/>
            <a:ext cx="2571840" cy="3686040"/>
            <a:chOff x="1314360" y="2149560"/>
            <a:chExt cx="2571840" cy="3686040"/>
          </a:xfrm>
        </p:grpSpPr>
        <p:sp>
          <p:nvSpPr>
            <p:cNvPr id="161" name=""/>
            <p:cNvSpPr txBox="1"/>
            <p:nvPr/>
          </p:nvSpPr>
          <p:spPr>
            <a:xfrm>
              <a:off x="2395440" y="2149560"/>
              <a:ext cx="1344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D </a:t>
              </a: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+3V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14360" y="545292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1405080" y="5456160"/>
              <a:ext cx="1222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Current Sourc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698920" y="3616200"/>
              <a:ext cx="0" cy="373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765520" y="355428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9680" y="362736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078000" y="3181320"/>
              <a:ext cx="0" cy="446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57600" y="397512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089160" y="397188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93880" y="2841480"/>
              <a:ext cx="0" cy="354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65520" y="2782800"/>
              <a:ext cx="0" cy="474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755800" y="284940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81240" y="260496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986200" y="259092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59000" y="295920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382840" y="301788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779560" y="3181320"/>
              <a:ext cx="292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1409760" y="279252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BIA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06840" y="438156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73440" y="430524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65520" y="473400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087720" y="4732200"/>
              <a:ext cx="4680" cy="454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68760" y="4394160"/>
              <a:ext cx="3236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89160" y="419112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62000" y="413532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84280" y="4568760"/>
              <a:ext cx="314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411200" y="397188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S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83040" y="4202280"/>
              <a:ext cx="328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701800" y="517536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773440" y="511344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771640" y="55292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089160" y="55213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994120" y="5780160"/>
              <a:ext cx="185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66920" y="529272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390760" y="535320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03372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068640" y="5835600"/>
              <a:ext cx="41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21080" y="414036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763720" y="5189400"/>
              <a:ext cx="3254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2904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63960" y="58356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1411200" y="511488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BIA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398600" y="4308480"/>
              <a:ext cx="947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Switch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79600" y="380700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2387520" y="3800520"/>
              <a:ext cx="1800" cy="766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70000" y="420228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1406520" y="3141720"/>
              <a:ext cx="1222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Current Sourc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3112920" y="3789360"/>
              <a:ext cx="7732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43240" y="417024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43080" y="417024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LVDS Rece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237200" y="2023920"/>
            <a:ext cx="3884760" cy="3614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4464000" y="1639800"/>
            <a:ext cx="3387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Present Common-Mode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125960" y="5486400"/>
            <a:ext cx="2550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Univers (W1)"/>
                <a:ea typeface="Univers (W1)"/>
              </a:rPr>
              <a:t>Example for illustratio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71680" y="1787400"/>
            <a:ext cx="3879720" cy="4059360"/>
            <a:chOff x="571680" y="1787400"/>
            <a:chExt cx="3879720" cy="4059360"/>
          </a:xfrm>
        </p:grpSpPr>
        <p:sp>
          <p:nvSpPr>
            <p:cNvPr id="216" name=""/>
            <p:cNvSpPr txBox="1"/>
            <p:nvPr/>
          </p:nvSpPr>
          <p:spPr>
            <a:xfrm>
              <a:off x="1776240" y="1787400"/>
              <a:ext cx="1344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D </a:t>
              </a: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+3V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1680" y="545292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2397240" y="2819520"/>
              <a:ext cx="3240" cy="571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9000" y="247968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68560" y="242100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050920" y="248760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92200" y="224316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281320" y="222876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54120" y="259704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677960" y="265572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82960" y="2827440"/>
              <a:ext cx="291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2503440" y="2457360"/>
              <a:ext cx="900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9960" y="518796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06560" y="5114880"/>
              <a:ext cx="0" cy="4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06560" y="552924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97200" y="519732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4320" y="373860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06600" y="3930480"/>
              <a:ext cx="887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in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55960" y="373680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038320" y="517536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967040" y="511344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38360" y="55292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641600" y="55213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50880" y="5780160"/>
              <a:ext cx="185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028960" y="5359320"/>
              <a:ext cx="70488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8112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20720" y="5835600"/>
              <a:ext cx="41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41600" y="5208480"/>
              <a:ext cx="3254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58580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625760" y="58356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260360" y="3616200"/>
              <a:ext cx="0" cy="373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1327320" y="355428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1120" y="362736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19040" y="397512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643040" y="3971880"/>
              <a:ext cx="3240" cy="1231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41400" y="380700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419640" y="3930480"/>
              <a:ext cx="10317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in C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533760" y="36212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467160" y="35593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157560" y="363204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139920" y="397980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139920" y="397836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3538440" y="381168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114720" y="553248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24360" y="5791320"/>
              <a:ext cx="185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54240" y="58197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94200" y="584676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059280" y="5819760"/>
              <a:ext cx="115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098880" y="584676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650960" y="338760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144960" y="338760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643040" y="3387600"/>
              <a:ext cx="1486080" cy="3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360" bIns="-54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3213000" y="518472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1955880" y="3586320"/>
              <a:ext cx="1012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184560" y="3138480"/>
              <a:ext cx="900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G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63760" y="335772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85800" y="609480"/>
            <a:ext cx="777240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Ground Offset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as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17640" y="4124160"/>
            <a:ext cx="45975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78280" y="4881600"/>
            <a:ext cx="27669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46680" y="3462480"/>
            <a:ext cx="272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37040" y="346248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82720" y="3052800"/>
            <a:ext cx="4623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90440" y="516096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97000" y="52498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7480" y="5332320"/>
            <a:ext cx="10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28720" y="3922560"/>
            <a:ext cx="379440" cy="37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51320" y="467532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375080" y="4678200"/>
            <a:ext cx="396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+/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22520" y="4338720"/>
            <a:ext cx="10605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12160" y="2595600"/>
            <a:ext cx="243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29600" y="2933640"/>
            <a:ext cx="0" cy="128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24560" y="2933640"/>
            <a:ext cx="874800" cy="65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346880" y="3592440"/>
            <a:ext cx="844560" cy="619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064040"/>
            <a:ext cx="0" cy="10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402680" y="5145120"/>
            <a:ext cx="2854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391520" y="5140440"/>
            <a:ext cx="10800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477200" y="5145120"/>
            <a:ext cx="10620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569360" y="5146560"/>
            <a:ext cx="10764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256520" y="2955960"/>
            <a:ext cx="41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289640" y="38178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496280" y="48387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07280" y="368928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11960" y="315756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65960" y="303516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96200" y="369396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08840" y="4286160"/>
            <a:ext cx="6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26360" y="30081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469200" y="321948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85040" y="367668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69200" y="401652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465960" y="3489480"/>
            <a:ext cx="1440" cy="20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21320" y="407340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19880" y="354492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864400" y="4094280"/>
            <a:ext cx="41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73360" y="368460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68680" y="3152880"/>
            <a:ext cx="1080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30600" y="303840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38560" y="368928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644920" y="4270320"/>
            <a:ext cx="6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.2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85960" y="300348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27320" y="321480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225520" y="3672000"/>
            <a:ext cx="49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35280" y="40114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28800" y="3484440"/>
            <a:ext cx="1800" cy="20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90640" y="407664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2733840" y="3586320"/>
            <a:ext cx="1108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81280" y="354024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08080" y="2933640"/>
            <a:ext cx="0" cy="128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95480" y="2933640"/>
            <a:ext cx="874440" cy="657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117440" y="3592440"/>
            <a:ext cx="844560" cy="619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20840" y="4070520"/>
            <a:ext cx="0" cy="10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74760" y="4838760"/>
            <a:ext cx="76320" cy="7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2077920" y="3048120"/>
            <a:ext cx="65592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1731960" y="4124160"/>
            <a:ext cx="9730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68440" y="41324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00280" y="2849400"/>
            <a:ext cx="379440" cy="379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468440" y="394344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473120" y="3032280"/>
            <a:ext cx="0" cy="17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71680" y="3040200"/>
            <a:ext cx="23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92360" y="3036960"/>
            <a:ext cx="385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19360" y="2508120"/>
            <a:ext cx="398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719360" y="4264200"/>
            <a:ext cx="297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68240" y="358776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25520" y="4892760"/>
            <a:ext cx="302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295880" y="481644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60720" y="3583080"/>
            <a:ext cx="1195560" cy="1341360"/>
            <a:chOff x="3060720" y="3583080"/>
            <a:chExt cx="1195560" cy="1341360"/>
          </a:xfrm>
        </p:grpSpPr>
        <p:sp>
          <p:nvSpPr>
            <p:cNvPr id="342" name=""/>
            <p:cNvSpPr/>
            <p:nvPr/>
          </p:nvSpPr>
          <p:spPr>
            <a:xfrm flipH="1">
              <a:off x="3060720" y="4351320"/>
              <a:ext cx="428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164040" y="442584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3273480" y="4081320"/>
              <a:ext cx="1440" cy="24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3273480" y="4427640"/>
              <a:ext cx="0" cy="414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27400" y="4846680"/>
              <a:ext cx="76320" cy="77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3216240" y="4060800"/>
              <a:ext cx="411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3246480" y="433404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771720"/>
              <a:ext cx="285840" cy="299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273480" y="3583080"/>
              <a:ext cx="1440" cy="191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065400" y="3794040"/>
              <a:ext cx="428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Univers (W1)"/>
                  <a:ea typeface="Univers (W1)"/>
                </a:rPr>
                <a:t>os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3384720" y="3811680"/>
              <a:ext cx="871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/-50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951440" y="3606840"/>
            <a:ext cx="1201680" cy="1306440"/>
            <a:chOff x="4951440" y="3606840"/>
            <a:chExt cx="1201680" cy="1306440"/>
          </a:xfrm>
        </p:grpSpPr>
        <p:sp>
          <p:nvSpPr>
            <p:cNvPr id="354" name=""/>
            <p:cNvSpPr/>
            <p:nvPr/>
          </p:nvSpPr>
          <p:spPr>
            <a:xfrm>
              <a:off x="5695920" y="4383000"/>
              <a:ext cx="428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7160" y="444492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23080" y="4094280"/>
              <a:ext cx="144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18040" y="4446720"/>
              <a:ext cx="1800" cy="426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77000" y="483696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5892840" y="437040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67560" y="3787920"/>
              <a:ext cx="290520" cy="29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911920" y="3606840"/>
              <a:ext cx="1440" cy="179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5705640" y="3809880"/>
              <a:ext cx="428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Univers (W1)"/>
                  <a:ea typeface="Univers (W1)"/>
                </a:rPr>
                <a:t>os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4951440" y="3832200"/>
              <a:ext cx="871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Univers (W1)"/>
                  <a:ea typeface="Univers (W1)"/>
                </a:rPr>
                <a:t>+/-50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8175600" y="358632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040" y="3525840"/>
            <a:ext cx="322200" cy="1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3165480" y="3579840"/>
            <a:ext cx="1112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760840" y="3309840"/>
            <a:ext cx="587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6346800" y="3598920"/>
            <a:ext cx="1112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905440" y="3544920"/>
            <a:ext cx="436680" cy="108000"/>
            <a:chOff x="5905440" y="3544920"/>
            <a:chExt cx="436680" cy="108000"/>
          </a:xfrm>
        </p:grpSpPr>
        <p:sp>
          <p:nvSpPr>
            <p:cNvPr id="370" name=""/>
            <p:cNvSpPr/>
            <p:nvPr/>
          </p:nvSpPr>
          <p:spPr>
            <a:xfrm>
              <a:off x="6019920" y="3544920"/>
              <a:ext cx="322200" cy="10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905440" y="3598920"/>
              <a:ext cx="111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 txBox="1"/>
          <p:nvPr/>
        </p:nvSpPr>
        <p:spPr>
          <a:xfrm>
            <a:off x="5853240" y="3335400"/>
            <a:ext cx="587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Univers (W1)"/>
                <a:ea typeface="Univers (W1)"/>
              </a:rPr>
              <a:t>15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698400" y="380880"/>
            <a:ext cx="777240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LVDS Driver 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as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12920" y="3789360"/>
            <a:ext cx="773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Univers (WN)"/>
                <a:ea typeface="Univers (WN)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Univers (WN)"/>
                <a:ea typeface="Univers (WN)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Univers (WN)"/>
                <a:ea typeface="Univers (WN)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924360" y="1981080"/>
            <a:ext cx="3808440" cy="4149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968640" y="1844640"/>
            <a:ext cx="3576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44800" y="6013440"/>
            <a:ext cx="2550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Univers (W1)"/>
                <a:ea typeface="Univers (W1)"/>
              </a:rPr>
              <a:t>Example for illustratio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314360" y="2149560"/>
            <a:ext cx="2425680" cy="3686040"/>
            <a:chOff x="1314360" y="2149560"/>
            <a:chExt cx="2425680" cy="3686040"/>
          </a:xfrm>
        </p:grpSpPr>
        <p:sp>
          <p:nvSpPr>
            <p:cNvPr id="379" name=""/>
            <p:cNvSpPr txBox="1"/>
            <p:nvPr/>
          </p:nvSpPr>
          <p:spPr>
            <a:xfrm>
              <a:off x="2395440" y="2149560"/>
              <a:ext cx="1344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D </a:t>
              </a: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+3V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14360" y="545292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1405080" y="5456160"/>
              <a:ext cx="1222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Current Sourc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698920" y="3616200"/>
              <a:ext cx="0" cy="373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2765520" y="355428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9680" y="362736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078000" y="3181320"/>
              <a:ext cx="0" cy="446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57600" y="397512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3089160" y="397188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93880" y="2841480"/>
              <a:ext cx="0" cy="354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65520" y="2782800"/>
              <a:ext cx="0" cy="474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2755800" y="284940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81240" y="260496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986200" y="259092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59000" y="295920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382840" y="301788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2779560" y="3181320"/>
              <a:ext cx="292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1409760" y="279252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BIA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06840" y="438156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73440" y="430524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65520" y="473400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087720" y="4732200"/>
              <a:ext cx="4680" cy="454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68760" y="4394160"/>
              <a:ext cx="3236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89160" y="419112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62000" y="413532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84280" y="4568760"/>
              <a:ext cx="314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1411200" y="397188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S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83040" y="4202280"/>
              <a:ext cx="328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701800" y="517536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773440" y="511344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771640" y="55292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089160" y="55213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994120" y="5780160"/>
              <a:ext cx="185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6920" y="529272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390760" y="535320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03372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068640" y="5835600"/>
              <a:ext cx="41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21080" y="414036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763720" y="5189400"/>
              <a:ext cx="3254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2904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63960" y="58356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411200" y="511488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BIA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1398600" y="4308480"/>
              <a:ext cx="947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Switch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79600" y="380700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2387520" y="3800520"/>
              <a:ext cx="1800" cy="766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70000" y="420228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1406520" y="3141720"/>
              <a:ext cx="1222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Current Sourc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43240" y="416880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44880" y="416088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"/>
          <p:cNvSpPr txBox="1"/>
          <p:nvPr/>
        </p:nvSpPr>
        <p:spPr>
          <a:xfrm>
            <a:off x="4759200" y="1639800"/>
            <a:ext cx="1890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+/- 0.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98400" y="380880"/>
            <a:ext cx="7772400" cy="11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Univers (W1)"/>
                <a:ea typeface="Univers (W1)"/>
              </a:rPr>
              <a:t>LVDS Driver </a:t>
            </a: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Univers (W1)"/>
                <a:ea typeface="Univers (W1)"/>
              </a:rPr>
              <a:t>Cas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112920" y="3789360"/>
            <a:ext cx="773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Univers (WN)"/>
                <a:ea typeface="Univers (WN)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Univers (WN)"/>
                <a:ea typeface="Univers (WN)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Univers (WN)"/>
                <a:ea typeface="Univers (WN)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929040" y="1843200"/>
            <a:ext cx="3873600" cy="41482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805200" y="5845320"/>
            <a:ext cx="2550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Univers (W1)"/>
                <a:ea typeface="Univers (W1)"/>
              </a:rPr>
              <a:t>Example for illustration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314360" y="2149560"/>
            <a:ext cx="2425680" cy="3686040"/>
            <a:chOff x="1314360" y="2149560"/>
            <a:chExt cx="2425680" cy="3686040"/>
          </a:xfrm>
        </p:grpSpPr>
        <p:sp>
          <p:nvSpPr>
            <p:cNvPr id="434" name=""/>
            <p:cNvSpPr txBox="1"/>
            <p:nvPr/>
          </p:nvSpPr>
          <p:spPr>
            <a:xfrm>
              <a:off x="2395440" y="2149560"/>
              <a:ext cx="1344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D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4360" y="545292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1405080" y="5456160"/>
              <a:ext cx="1222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Current Sourc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98920" y="3616200"/>
              <a:ext cx="0" cy="373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765520" y="355428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49680" y="362736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078000" y="3181320"/>
              <a:ext cx="0" cy="446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57600" y="397512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089160" y="397188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93880" y="2841480"/>
              <a:ext cx="0" cy="354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65520" y="2782800"/>
              <a:ext cx="0" cy="474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755800" y="284940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81240" y="260496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986200" y="259092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59000" y="295920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2382840" y="301788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779560" y="3181320"/>
              <a:ext cx="292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1409760" y="279252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BIA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06840" y="438156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73440" y="430524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65520" y="4734000"/>
              <a:ext cx="325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087720" y="4732200"/>
              <a:ext cx="4680" cy="454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68760" y="4394160"/>
              <a:ext cx="3236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89160" y="419112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62000" y="413532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84280" y="4568760"/>
              <a:ext cx="314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1411200" y="3971880"/>
              <a:ext cx="619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S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83040" y="4202280"/>
              <a:ext cx="328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701800" y="517536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773440" y="5113440"/>
              <a:ext cx="0" cy="474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771640" y="55292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089160" y="5521320"/>
              <a:ext cx="0" cy="244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994120" y="5780160"/>
              <a:ext cx="185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66920" y="5292720"/>
              <a:ext cx="123840" cy="1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390760" y="5353200"/>
              <a:ext cx="31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03372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3068640" y="5835600"/>
              <a:ext cx="41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1080" y="4140360"/>
              <a:ext cx="123840" cy="11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763720" y="5189400"/>
              <a:ext cx="32544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29040" y="580860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63960" y="58356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1411200" y="5114880"/>
              <a:ext cx="777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Univers (WN)"/>
                  <a:ea typeface="Univers (WN)"/>
                </a:rPr>
                <a:t>BIA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1398600" y="4308480"/>
              <a:ext cx="947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Switch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79600" y="380700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2387520" y="3800520"/>
              <a:ext cx="1800" cy="766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70000" y="4202280"/>
              <a:ext cx="314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1406520" y="3141720"/>
              <a:ext cx="1222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Univers (WN)"/>
                  <a:ea typeface="Univers (WN)"/>
                </a:rPr>
                <a:t>(Current Sourc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43240" y="416880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4880" y="416088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"/>
          <p:cNvSpPr txBox="1"/>
          <p:nvPr/>
        </p:nvSpPr>
        <p:spPr>
          <a:xfrm>
            <a:off x="4871880" y="1447920"/>
            <a:ext cx="167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GND</a:t>
            </a:r>
            <a:r>
              <a:rPr b="1" lang="en-US" sz="1800" spc="-1" strike="noStrike">
                <a:solidFill>
                  <a:srgbClr val="000000"/>
                </a:solidFill>
                <a:latin typeface="Univers (W1)"/>
                <a:ea typeface="Univers (W1)"/>
              </a:rPr>
              <a:t>=+/- 1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371680" y="5865840"/>
            <a:ext cx="51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Univers (W1)"/>
                <a:ea typeface="Univers (W1)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Univers (W1)"/>
                <a:ea typeface="Univers (W1)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ank Gasparik</dc:creator>
  <dc:description/>
  <dc:language>en-US</dc:language>
  <cp:lastModifiedBy>John Lohmeyer</cp:lastModifiedBy>
  <cp:revision>0</cp:revision>
  <dc:subject>X3T10 Proposal X3T10/95-346r0</dc:subject>
  <dc:title>Common-Mode SCSI</dc:title>
</cp:coreProperties>
</file>