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1360" y="6278400"/>
            <a:ext cx="6603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s, Office Automation and Computer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994440" y="6033960"/>
            <a:ext cx="165096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Unitrode"/>
                <a:ea typeface="Unitrode"/>
              </a:rPr>
              <a:t>ab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994440" y="19836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X3T10-95/362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PI-2 - LVDS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1981080"/>
            <a:ext cx="7696080" cy="4114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t 13 Denver SPI-2/L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t 16 Milpita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 6 Palm Sp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PI-2 LVDS 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t 13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ment of the drive and thresholds because of the 1/2 current issues of a multipoint busthat was missed in the Bedford, NH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 current 4.4 to 6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r threshold 70 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or bias reduced 100-130 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bios Logic Presentation, Hybrid does not work, crosstalk data shows this clear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ll Ham’s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Megatransfer good at 27 Meters point to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Megatransfer the distance will have to be reduced  15 met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ct 16 SPI-2 Marketing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752480"/>
            <a:ext cx="7772400" cy="449568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eting committee will be 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nies that will be key members: IBM, Digital, Adaptec, Symbios, Qlogic, Quantum, Seagate, Unitrode, Dallas Se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-Back / BBS / Web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 Reflector / 800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 Sh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s Rel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SI Parallel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e increased usage of parallel S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te customers on when to use S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confusion concerning S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focal point for press, industry, and customer communications regarding S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 and promote product 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 and promote storage as a focal point for system 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the evolution of SCSI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ngelize SCSI as a flexible and powerful connectivity solution for many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chestrate a convergence on a common 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v 6 SPI-2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1981080"/>
            <a:ext cx="7924680" cy="4114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ing pin countHybrid discussion came up again, hybrid does not work, this will push some of the controllers to 244 BGA packages.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rosstalk, Comm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the test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ors, Drivers and Device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gi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ggestion to increase the minimum current to 5 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the termination impedance to better match the loaded cable, which will guarantee incident wave switc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tion of Common mode from +/- 1 Volt to +/- 500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p getting off the bus, Negate, 1/2 Current, o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-2 L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15th Holiday Inn Milp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n 8th D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b 5t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SI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14th Holiday Inn Milp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VDS - 6 mA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ceiver Power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um number of drivers active 23, on 27 line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eceivers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Control current 1 mA * 3.6 mW * 23 lines = 97.2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power 6 mA * (3.6-0.36) Volts, 19.44 mW/Line * 23 Lines = 447.1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r Power 2.5 mA * 3.6 Volts, 9 mW/Line  * 4 Lines = 36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ransceiver power = 58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50840" y="5538960"/>
            <a:ext cx="2241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9-Nov-95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Aloisi</dc:creator>
  <dc:description/>
  <dc:language>en-US</dc:language>
  <cp:lastModifiedBy>Paul Aloisi</cp:lastModifiedBy>
  <cp:revision>0</cp:revision>
  <dc:subject/>
  <dc:title>SPI-2 - LVDS Meetings</dc:title>
</cp:coreProperties>
</file>