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43000" y="31240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143000" y="28954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43000" y="26668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9040" y="2948040"/>
            <a:ext cx="7499160" cy="0"/>
          </a:xfrm>
          <a:prstGeom prst="line">
            <a:avLst/>
          </a:prstGeom>
          <a:ln w="38160">
            <a:solidFill>
              <a:srgbClr val="a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-1006560" y="7450200"/>
            <a:ext cx="2039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JS 5-September 11-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-1311120" y="1430280"/>
            <a:ext cx="111924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Fault 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Configu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295280" y="22096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685800" y="22096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914400" y="28195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914400" y="2590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91440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14300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-53352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-1371600" y="1981080"/>
            <a:ext cx="1219320" cy="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1143000" y="1981080"/>
            <a:ext cx="0" cy="22860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533520" y="1981080"/>
            <a:ext cx="0" cy="22860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5013360" y="7373880"/>
            <a:ext cx="2649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b50069"/>
                </a:solidFill>
                <a:latin typeface="Arial"/>
                <a:ea typeface="Arial"/>
              </a:rPr>
              <a:t>X3T10 High Availability Stud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762120" y="393372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  <a:ea typeface="Arial"/>
              </a:rPr>
              <a:t>Steve Sicola</a:t>
            </a:r>
            <a:br>
              <a:rPr sz="4000"/>
            </a:br>
            <a:r>
              <a:rPr b="1" lang="en-US" sz="4000" spc="-1" strike="noStrike">
                <a:solidFill>
                  <a:srgbClr val="b50069"/>
                </a:solidFill>
                <a:latin typeface="Arial"/>
                <a:ea typeface="Arial"/>
              </a:rPr>
              <a:t>Digital Equipment Corpo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16765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oposed Controller Failove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876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76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43000" y="15620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ed Controller Failover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320" y="32004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bout Fault Tolerant Controller Configurations &amp; Fai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Description of FT Controller Configuratio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SCSI-3 Requirements &amp;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High Availability Issues - Hag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rpose for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3124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ize the concept of fault tolerant controller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controller logically with many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ize usage of SCC to aid OS driver development across all industry platforms for various fault tolerant configur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ze setup and/or registration of controllers in FT configuration (with naming independent of serial #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ze reporting of failing controller/returning controller 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ort to n-port controller 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number of controller boards i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95280" y="17906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C &amp; Fault Tolerant Controller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429000"/>
            <a:ext cx="106668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429000"/>
            <a:ext cx="106668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53352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457200" y="4495680"/>
            <a:ext cx="55627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191120"/>
            <a:ext cx="0" cy="30456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4191120"/>
            <a:ext cx="0" cy="30456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-76320" y="4495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76520" y="457200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52680" y="4495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952880" y="4495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56160" y="4173480"/>
            <a:ext cx="1979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 Bus/Loop/Fabric/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3640" y="363996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70160" y="363996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2076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5576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3228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8476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248520"/>
            <a:ext cx="48769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99160" y="4630680"/>
            <a:ext cx="25052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ll hosts can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All controller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to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All controllers can commun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all other controlle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ation via shared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(es) or private comm intrf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LUN0 response exactl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from all controllers (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controller logically with n-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410080"/>
            <a:ext cx="7621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410080"/>
            <a:ext cx="68580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410080"/>
            <a:ext cx="68580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95280" y="17906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al Description of FT Controller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 used to either create attachments between controllers sharing storage or report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icola</dc:creator>
  <dc:description/>
  <dc:language>en-US</dc:language>
  <cp:lastModifiedBy>Steve Sicola</cp:lastModifiedBy>
  <cp:revision>0</cp:revision>
  <dc:subject>SCSI failover profile presentatoin</dc:subject>
  <dc:title>Steve Sicola Digital Equipment Corporation May 5, 1995</dc:title>
</cp:coreProperties>
</file>