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46280" y="6156360"/>
            <a:ext cx="3613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842160" y="6170760"/>
            <a:ext cx="1281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Unitrode"/>
                <a:ea typeface="Unitrode"/>
              </a:rPr>
              <a:t>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PI-2 LVDS Driver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1120" y="2590920"/>
            <a:ext cx="8313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VDS - 6 mA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ceiver power calculations for a 27 line device at 3.3 Volts + 1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um 21 Active Drivers on a 27 line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Active Rece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control current 1 mA * 3.6 Volts, 3.6 mW * 21 Lines = 75.6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power 6 mA * (3.6-.36) Volts, 19.44 mW * 21 Lines = 408.24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r Power 2.5 mA * 3.6 Volts, 9 mW * 6 Lines = 54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ransceiver current 537.84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PI-2 LVDS Driver 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4720" y="2209680"/>
            <a:ext cx="83059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PI-2 LVDS Wav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0120" y="1828800"/>
            <a:ext cx="7532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380880"/>
            <a:ext cx="77724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PI-2 LVDS 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1195560"/>
            <a:ext cx="66070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PI-2 LVDS Diff S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1709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PI-2 LVDS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9800" y="2514600"/>
            <a:ext cx="8269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une 21, 1995 Merrimack M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ed the document sections of SPI that will be effected by LVDF S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ed the Diff Sense issues and set new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ed common mode issues with each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ed the cost objectives of LV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d the pinning for the based on Single ended, regenerated table done in Harrisburg, but not docu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FAST-40 single ended would still be a longer distance than ATA. This should be a viable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-40 and FAST-80 will require very low delta stub and capacitance for data, parity, ack and req signals. The additive effect of  7 or 15 devices will exceed the skew budg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d timing issues for FAST-40 and FAST-80, external drivers and receivers can not be used, there is no margin in the skew bud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re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ngle chip may work for both single ended (Async, 5, 10,20) or LVDS (FAST-40,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FAST-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Signals in FAST-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ing 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 sense is define with an autosense fea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, (SE) all ground drivers shall be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 out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of 15 pF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mode Driver, no Driver output impedance sp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or bias with current limited, 100 mV at 250 microAmps maxim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ed receiver hyster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VDS Power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ceiver power calculations for a 27 line device at 3.3 Volts + 1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um 21 Active Drivers on a 27 line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 Active Rece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control current 1 mA * 3.6 Volts, 3.6 mW * 21 Lines = 75.6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power 4 mA * (3.6-.24) Volts, 13.6 mW * 21 Lines = 285.6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r Power 2.5 mA * 3.6 Volts, 9 mW * 27 Lines = 243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ransceiver current 604.2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Aloisi</dc:creator>
  <dc:description/>
  <dc:language>en-US</dc:language>
  <cp:lastModifiedBy>Authorized Gateway Customer</cp:lastModifiedBy>
  <cp:revision>0</cp:revision>
  <dc:subject/>
  <dc:title>SPI-2 LVDS Driver Tests</dc:title>
</cp:coreProperties>
</file>