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025640" y="6469200"/>
            <a:ext cx="5454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LL HAM     DIGITAL EQUIPMENT       SPI-2 WORKING GROUP    SEPTEMBER 10,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143000"/>
            <a:ext cx="777240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SOME PRELIMINARY DATA USING THE LVDS DISCRETE DRIVERS SUPPLIED BY TI WITH STANDARD SCSI INTERCONNECT AND PASSIVE TERMIN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INTEREST OF OBTAINING EARLY BOUNDING OF THE LIKELY CONFIGURATION RULES, LABORATORY EXPEDIENCY WAS USED -- SOME OF THE FEATURES ARE NOT IDEAL BUT A REASONABLE APPROXIMATION TO AN ACTUAL IMPLEMENTATION DOES EXI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OINT TO POINT APPLICATIONS APPEAR CABABLE OF OPERATING WELL PAST FAST 100 AT 25 TO 30 MET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ULTIDROP APPLICATIONS ARE SEVERELY AFFECTED BY INTERSYMBOL INTERFERENCE AND WILL REQUIRE SOME MODEST LENGTH REDUCTIONS (GUESS TO AROUND 15 TO 20 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 40 / 80 LVDS PERFORM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CSI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 40 / 80 LVDS PERFORM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CSI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65440" y="1195560"/>
            <a:ext cx="1746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SET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800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800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4800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89280" y="4944960"/>
            <a:ext cx="642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 FO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03680" y="4944960"/>
            <a:ext cx="2125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5 METER 34 PAIR SCSI C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OUND SHIELDED 30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89680" y="5097600"/>
            <a:ext cx="127800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3 HPDF LO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 4” CE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9” STU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5 METER 30 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68 COND F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EP INS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308640" y="4869000"/>
            <a:ext cx="735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432080" y="4335480"/>
            <a:ext cx="663480" cy="587160"/>
            <a:chOff x="1432080" y="4335480"/>
            <a:chExt cx="663480" cy="587160"/>
          </a:xfrm>
        </p:grpSpPr>
        <p:sp>
          <p:nvSpPr>
            <p:cNvPr id="65" name=""/>
            <p:cNvSpPr txBox="1"/>
            <p:nvPr/>
          </p:nvSpPr>
          <p:spPr>
            <a:xfrm>
              <a:off x="1432080" y="4335480"/>
              <a:ext cx="663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V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1660680" y="467820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299360" y="4411800"/>
            <a:ext cx="1030320" cy="549000"/>
            <a:chOff x="7299360" y="4411800"/>
            <a:chExt cx="1030320" cy="549000"/>
          </a:xfrm>
        </p:grpSpPr>
        <p:sp>
          <p:nvSpPr>
            <p:cNvPr id="68" name=""/>
            <p:cNvSpPr txBox="1"/>
            <p:nvPr/>
          </p:nvSpPr>
          <p:spPr>
            <a:xfrm>
              <a:off x="7299360" y="4411800"/>
              <a:ext cx="1030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7451640" y="4716360"/>
              <a:ext cx="262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4632480" y="4106880"/>
            <a:ext cx="1327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EST POINT “MI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498760" y="3878280"/>
            <a:ext cx="932040" cy="846000"/>
            <a:chOff x="2498760" y="3878280"/>
            <a:chExt cx="932040" cy="846000"/>
          </a:xfrm>
        </p:grpSpPr>
        <p:sp>
          <p:nvSpPr>
            <p:cNvPr id="73" name=""/>
            <p:cNvSpPr txBox="1"/>
            <p:nvPr/>
          </p:nvSpPr>
          <p:spPr>
            <a:xfrm>
              <a:off x="2498760" y="3878280"/>
              <a:ext cx="932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O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19520" y="43434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47080" y="4896000"/>
            <a:ext cx="1157400" cy="826920"/>
            <a:chOff x="7147080" y="4896000"/>
            <a:chExt cx="1157400" cy="826920"/>
          </a:xfrm>
        </p:grpSpPr>
        <p:sp>
          <p:nvSpPr>
            <p:cNvPr id="76" name=""/>
            <p:cNvSpPr txBox="1"/>
            <p:nvPr/>
          </p:nvSpPr>
          <p:spPr>
            <a:xfrm>
              <a:off x="7147080" y="5326200"/>
              <a:ext cx="1157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O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391520" y="48960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432080" y="1820880"/>
            <a:ext cx="5376960" cy="1825560"/>
            <a:chOff x="1432080" y="1820880"/>
            <a:chExt cx="5376960" cy="1825560"/>
          </a:xfrm>
        </p:grpSpPr>
        <p:sp>
          <p:nvSpPr>
            <p:cNvPr id="79" name=""/>
            <p:cNvSpPr/>
            <p:nvPr/>
          </p:nvSpPr>
          <p:spPr>
            <a:xfrm>
              <a:off x="1905120" y="2743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9520" y="274320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05520" y="2743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5140440" y="281772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E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T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2030400" y="2811600"/>
              <a:ext cx="642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FOO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T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2916360" y="2841480"/>
              <a:ext cx="21258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 METER 34 PAIR SCSI C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ND SHIELDED 30 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432080" y="2278080"/>
              <a:ext cx="663480" cy="587160"/>
              <a:chOff x="1432080" y="2278080"/>
              <a:chExt cx="663480" cy="587160"/>
            </a:xfrm>
          </p:grpSpPr>
          <p:sp>
            <p:nvSpPr>
              <p:cNvPr id="86" name=""/>
              <p:cNvSpPr txBox="1"/>
              <p:nvPr/>
            </p:nvSpPr>
            <p:spPr>
              <a:xfrm>
                <a:off x="1432080" y="2278080"/>
                <a:ext cx="6634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V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RIV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1660680" y="2620800"/>
                <a:ext cx="27612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708520" y="2335320"/>
              <a:ext cx="1030320" cy="549000"/>
              <a:chOff x="5708520" y="2335320"/>
              <a:chExt cx="1030320" cy="549000"/>
            </a:xfrm>
          </p:grpSpPr>
          <p:sp>
            <p:nvSpPr>
              <p:cNvPr id="89" name=""/>
              <p:cNvSpPr txBox="1"/>
              <p:nvPr/>
            </p:nvSpPr>
            <p:spPr>
              <a:xfrm>
                <a:off x="5708520" y="2335320"/>
                <a:ext cx="103032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RMINA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5861160" y="2639880"/>
                <a:ext cx="262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498760" y="1820880"/>
              <a:ext cx="932040" cy="846000"/>
              <a:chOff x="2498760" y="1820880"/>
              <a:chExt cx="932040" cy="846000"/>
            </a:xfrm>
          </p:grpSpPr>
          <p:sp>
            <p:nvSpPr>
              <p:cNvPr id="92" name=""/>
              <p:cNvSpPr txBox="1"/>
              <p:nvPr/>
            </p:nvSpPr>
            <p:spPr>
              <a:xfrm>
                <a:off x="2498760" y="1820880"/>
                <a:ext cx="93204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ST POI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“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PUT”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819520" y="22860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651640" y="2819520"/>
              <a:ext cx="1157400" cy="826920"/>
              <a:chOff x="5651640" y="2819520"/>
              <a:chExt cx="1157400" cy="826920"/>
            </a:xfrm>
          </p:grpSpPr>
          <p:sp>
            <p:nvSpPr>
              <p:cNvPr id="95" name=""/>
              <p:cNvSpPr txBox="1"/>
              <p:nvPr/>
            </p:nvSpPr>
            <p:spPr>
              <a:xfrm>
                <a:off x="5651640" y="3249720"/>
                <a:ext cx="11574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ST POI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“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RMINATOR”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5896080" y="2819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 txBox="1"/>
          <p:nvPr/>
        </p:nvSpPr>
        <p:spPr>
          <a:xfrm>
            <a:off x="517680" y="1576440"/>
            <a:ext cx="2025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7680" y="3710160"/>
            <a:ext cx="15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77880" y="1515960"/>
            <a:ext cx="5969160" cy="3808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613560" y="3878280"/>
            <a:ext cx="826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VD_1M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55760" y="3040200"/>
            <a:ext cx="2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32280" y="5310360"/>
            <a:ext cx="294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ETER UTP AT 25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41360" y="2811600"/>
            <a:ext cx="868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0 MV/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 40 / 80 LVDS PERFORM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CSI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93640" y="50212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FFSET BOTH CHANNELS 1.2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36840" y="1195560"/>
            <a:ext cx="2025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 40 / 80 LVDS PERFORM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CSI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77880" y="1515960"/>
            <a:ext cx="5969160" cy="3808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7527960" y="5935680"/>
            <a:ext cx="8967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VD_27M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32280" y="5310360"/>
            <a:ext cx="254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 METER AT 25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1360" y="2811600"/>
            <a:ext cx="868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0 MV/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55760" y="3040200"/>
            <a:ext cx="2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3640" y="50212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FFSET BOTH CHANNELS 1.2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336840" y="1195560"/>
            <a:ext cx="2025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 40 / 80 LVDS PERFORM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CSI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727360" y="5462640"/>
            <a:ext cx="254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 METER AT 5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1360" y="2811600"/>
            <a:ext cx="868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0 MV/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55760" y="3040200"/>
            <a:ext cx="2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77880" y="1515960"/>
            <a:ext cx="5969160" cy="3808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6461280" y="3801960"/>
            <a:ext cx="8967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VD_27M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93640" y="50212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FFSET BOTH CHANNELS 1.2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336840" y="1195560"/>
            <a:ext cx="2025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 40 / 80 LVDS PERFORM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CSI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32280" y="5310360"/>
            <a:ext cx="2673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 METER AT 1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41360" y="2811600"/>
            <a:ext cx="868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0 MV/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55760" y="3040200"/>
            <a:ext cx="2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77880" y="1515960"/>
            <a:ext cx="5969160" cy="3808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6537240" y="3878280"/>
            <a:ext cx="8967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VD_27M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3640" y="50212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FFSET BOTH CHANNELS 1.2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336840" y="1195560"/>
            <a:ext cx="2025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 40 / 80 LVDS PERFORM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CSI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9400" y="1568520"/>
            <a:ext cx="5729400" cy="3656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6461280" y="3801960"/>
            <a:ext cx="776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2BIT4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22440" y="4840200"/>
            <a:ext cx="5335560" cy="2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 1 1 1 0 1 1 1 1 0 0 0 0 0 0 1 0 0 0 0 0 1 1 1 1 1 1 1 1 1 1 1 1 1 1 0 1 1 1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08040" y="3040200"/>
            <a:ext cx="2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7680" y="2963880"/>
            <a:ext cx="1003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F VOL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/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1360" y="4780080"/>
            <a:ext cx="1171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MI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812960" y="5456160"/>
            <a:ext cx="58053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 40 LVDS AT 27 METERS WITH 13 LOADS LUMPED NEAR ON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BITS ACCURATELY DETECTED BUT SIGNIFICANT MARGIN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EVIDENT FOR ISOLATED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660680" y="1287360"/>
            <a:ext cx="4530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 SIGNAL AT FAR TERMINATOR (NEAR LUMPED LOA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184560" y="966960"/>
            <a:ext cx="15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 40 / 80 LVDS PERFORM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CSI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08040" y="3040200"/>
            <a:ext cx="2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17680" y="2963880"/>
            <a:ext cx="1003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F VOL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/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040" y="4780080"/>
            <a:ext cx="1171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MI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812960" y="5456160"/>
            <a:ext cx="6313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 80 LVDS AT 27 METERS WITH 13 LOADS LUMPED NEAR ON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OLATED BITS HAVE LOST SO MUCH AMPLITUDE THAT DETECTION IS UN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89120" y="1584360"/>
            <a:ext cx="5729400" cy="3656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6461280" y="3801960"/>
            <a:ext cx="784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2BITP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60600" y="4840200"/>
            <a:ext cx="5335560" cy="2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 1 1 1 0 1 1 1 1 0 0 0 0 0 0 1 0 0 0 0 0 1 1 1 1 1 1 1 1 1 1 1 1 1 1 0 1 1 1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660680" y="1287360"/>
            <a:ext cx="4530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 SIGNAL AT FAR TERMINATOR (NEAR LUMPED LOA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184560" y="966960"/>
            <a:ext cx="15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 40 / 80 LVDS PERFORM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SCSI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461280" y="3801960"/>
            <a:ext cx="776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2BIT4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08040" y="3040200"/>
            <a:ext cx="2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17680" y="2963880"/>
            <a:ext cx="1003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F VOL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/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65040" y="4780080"/>
            <a:ext cx="1171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MI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2960" y="5456160"/>
            <a:ext cx="6391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 80 LVDS AT 27 METERS WITH 13 LOADS LUMPED NEAR ON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OLATED BITS HAVE LOST SO MUCH AMPLITUDE THAT DETECTION IS UN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ALSO PROBLEM WITH 1’S AFTER SEVERAL 0’S AND 0’S AFTER SEVERAL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60680" y="1287360"/>
            <a:ext cx="3881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 SIGNAL AT BEGINNING OF LUMPED LOA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89120" y="1584360"/>
            <a:ext cx="5729400" cy="3656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427040" y="4840200"/>
            <a:ext cx="5335560" cy="2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 1 1 1 0 1 1 1 1 0 0 0 0 0 0 1 0 0 0 0 0 1 1 1 1 1 1 1 1 1 1 1 1 1 1 0 1 1 1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537240" y="387828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2BITM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184560" y="966960"/>
            <a:ext cx="15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m</dc:creator>
  <dc:description>spi-2 working group Sept 11, 1995</dc:description>
  <dc:language>en-US</dc:language>
  <cp:lastModifiedBy>William E. Ham</cp:lastModifiedBy>
  <cp:revision>0</cp:revision>
  <dc:subject/>
  <dc:title>lvds performance on SCSI interconnect</dc:title>
</cp:coreProperties>
</file>