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22200"/>
            <a:ext cx="9132840" cy="152640"/>
            <a:chOff x="0" y="1222200"/>
            <a:chExt cx="9132840" cy="152640"/>
          </a:xfrm>
        </p:grpSpPr>
        <p:sp>
          <p:nvSpPr>
            <p:cNvPr id="1" name=""/>
            <p:cNvSpPr/>
            <p:nvPr/>
          </p:nvSpPr>
          <p:spPr>
            <a:xfrm>
              <a:off x="0" y="122220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3668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99080"/>
            <a:ext cx="1403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ER SPI 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1693800" y="649908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7EB44419-CB03-425E-AF01-B9E7E78092E2}" type="datetime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699400" y="649908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72D52BE-E8A5-4BFC-83C5-F013F42155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84040" y="246240"/>
            <a:ext cx="2346480" cy="857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7527960" y="652320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J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43200" y="228600"/>
            <a:ext cx="57150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fferential SC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22360" y="2193840"/>
            <a:ext cx="64198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743200" y="228600"/>
            <a:ext cx="57150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fferential Driver Power vs 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2028960"/>
            <a:ext cx="5238720" cy="395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638680" y="1736640"/>
            <a:ext cx="31240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as does not affect average power in driver appreci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requires about 50 mW avg p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 VCC and/or VOD are the only path(s) to power dissipation reduction an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43200" y="228600"/>
            <a:ext cx="57150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is LV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3623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VDS stands for Low-Voltage Differential Signaling and is fundamentally RS-422 with reduced output signal levels, receiver sensitivities, and ground potential differences. It has been and is being standardized in IEEE and EIA/T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3200" y="228600"/>
            <a:ext cx="57150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L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14440" y="2400480"/>
            <a:ext cx="641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743200" y="228600"/>
            <a:ext cx="57150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L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76920" y="190512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1Gbps (theoret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Mbps to 10 m over UTP in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line from the die o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tible with 3 V- or 5 V-logic semiconductor processes allowing integration and reduction in sk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2173320"/>
            <a:ext cx="41990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43200" y="228600"/>
            <a:ext cx="57150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s 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77880" y="2036880"/>
            <a:ext cx="56577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743200" y="228600"/>
            <a:ext cx="57150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s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int-to-point vs bus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ulti-drop bus structure would require doubling the driver output currents (lowering the load impedance) of L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impedance driver output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bs and bus loading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le-line fail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43200" y="228600"/>
            <a:ext cx="57150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s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ckward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ven close to the +/-7V ground potential difference capability of RS-4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S-485 signal can be attenuated to interface to LVDS rece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VDS signal should be detectable by most RS-485 receivers but not as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le-line failsafe is not 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vin Gingerich</dc:creator>
  <dc:description/>
  <dc:language>en-US</dc:language>
  <cp:lastModifiedBy>Kevin Gingerich</cp:lastModifiedBy>
  <cp:revision>0</cp:revision>
  <dc:subject/>
  <dc:title>What is LVDS?</dc:title>
</cp:coreProperties>
</file>