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43000" y="31240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143000" y="28954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43000" y="2666880"/>
            <a:ext cx="609480" cy="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9040" y="2948040"/>
            <a:ext cx="7499160" cy="0"/>
          </a:xfrm>
          <a:prstGeom prst="line">
            <a:avLst/>
          </a:prstGeom>
          <a:ln w="38160">
            <a:solidFill>
              <a:srgbClr val="a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15120" y="7391520"/>
            <a:ext cx="1152360" cy="365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-1006560" y="7450200"/>
            <a:ext cx="1336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JS 5-May-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689200" y="7385040"/>
            <a:ext cx="1619280" cy="311040"/>
            <a:chOff x="2689200" y="7385040"/>
            <a:chExt cx="1619280" cy="311040"/>
          </a:xfrm>
        </p:grpSpPr>
        <p:sp>
          <p:nvSpPr>
            <p:cNvPr id="7" name=""/>
            <p:cNvSpPr txBox="1"/>
            <p:nvPr/>
          </p:nvSpPr>
          <p:spPr>
            <a:xfrm>
              <a:off x="4197240" y="7385040"/>
              <a:ext cx="1112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400" spc="-1" strike="noStrike">
                  <a:solidFill>
                    <a:srgbClr val="fcfcfc"/>
                  </a:solidFill>
                  <a:latin typeface="Arial"/>
                  <a:ea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2689200" y="7404120"/>
              <a:ext cx="1484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 txBox="1"/>
          <p:nvPr/>
        </p:nvSpPr>
        <p:spPr>
          <a:xfrm>
            <a:off x="-1311120" y="1430280"/>
            <a:ext cx="111924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Fault 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Impact"/>
                <a:ea typeface="Impact"/>
              </a:rPr>
              <a:t>Configu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1295280" y="2209680"/>
            <a:ext cx="304920" cy="30492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685800" y="2209680"/>
            <a:ext cx="304920" cy="30492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914400" y="28195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-914400" y="25909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914400" y="30481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1143000" y="25146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533520" y="25146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-1371600" y="1981080"/>
            <a:ext cx="1219320" cy="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-114300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-533520" y="1981080"/>
            <a:ext cx="0" cy="22860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762120" y="393372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Steve Sicola</a:t>
            </a:r>
            <a:br>
              <a:rPr sz="4000"/>
            </a:br>
            <a:r>
              <a:rPr b="1" lang="en-US" sz="4000" spc="-1" strike="noStrike">
                <a:solidFill>
                  <a:srgbClr val="b50069"/>
                </a:solidFill>
                <a:latin typeface="Arial"/>
                <a:ea typeface="Arial"/>
              </a:rPr>
              <a:t>Digital Equipment Corpo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16765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Fault Tolerant Controller Configurations for SC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76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1790640"/>
            <a:ext cx="6022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ures and Drawbacks of Today’s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y Available Storage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host port controllers with or without host support reduce produ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-host port controllers without host OS support achieve redundancy more sim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95280" y="1790640"/>
            <a:ext cx="6022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ures and Drawbacks of Today’s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320" y="312408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b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Standard Implementations leading to possible interoperability problems on different platforms in the sam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vover Time is not bounded by several technique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echniques used don’t adequately abort I/O’s on failed control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95280" y="1790640"/>
            <a:ext cx="60228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Metrics of Fault Tolerance are Important to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-Active Configurations to achieve greater availability with their overall system/cluster, as well as performance of two controllers accessing shar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over/Failback time is critical in production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want it for fre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95280" y="163836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Standardize Fault Tolerant Configurations in SC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duce the cost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the convergence of standards on many different interconnects that will have SCSI RAID controllers (FibreChannel, SSA, FAST 20 SCSI) coupled with customer desires of fault tolerance &amp; interoperability with all their system boxes/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19320" y="156204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Standardize Fault Tolerant Configurations in SCSI?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Generalize the number of controllers in a fault tolerance configuration as well as the type of access allowed by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speed of failover from curr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ize the possible system topologies supported in simpl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95280" y="156204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Standardize Fault Tolerant Configurations in SCSI?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2280" y="3124080"/>
            <a:ext cx="6361200" cy="39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in SCSI for ‘Registration’ of multi-controller configurations sharing device access. This would be contained within ‘conspiring’ controllers and readable by all attached ho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in SCSI for ‘Supported Behaviors’ of Controllers during failover/failback to meet the needs of different system topologies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14400" y="2019240"/>
            <a:ext cx="64040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tions for 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of Mode Page definition(s) in the Standard Controller Commands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‘register’ all controllers in a fault tolerant configuration as well as LUNs being served by each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‘register’ behavior or controllers during failover/fail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ASC/ASCQ’s for Failover/Failbac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295280" y="17906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tions for 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bination of a new SCC mode page and additons to the Exception handling page(s) in SCSI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quiry data additions for Controllers to give the ‘registration’ information (yu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47920" y="2171520"/>
            <a:ext cx="6022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3124080"/>
            <a:ext cx="6361200" cy="39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s in Fault Tolerant Configurations are becoming wide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solutions to support for these configurations ex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ization would generalize the problem and solution as well as give Operating Systems MUCH more control and visibility of attached storage sub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95280" y="1790640"/>
            <a:ext cx="6022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troller Configurations For S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320" y="3124080"/>
            <a:ext cx="6361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b50069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 for SCS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atures and Drawbacks of Today’s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Metrics of Fault Tolerance are Important to Custom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Standardize Fault Tolerant Controller Configurations?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s for Standardization &amp;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680" y="156204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System Customers today want high availability with their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rs are part of the system, and must be made highly available using redundancy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dancy Techniqu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+ Hot Standb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+ Activ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95280" y="156204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3276720"/>
            <a:ext cx="636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ypical Fault Tolerant Controller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08440" y="4554360"/>
            <a:ext cx="328464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 typical Dual Controller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Controllers sharing acces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tached devices, in this case with 3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ing shared between the control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definition does NOT specify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ontrollers are attached to th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 to the devices with parallel SCSI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419720"/>
            <a:ext cx="121932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4419720"/>
            <a:ext cx="121932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7150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7150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7150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5791320"/>
            <a:ext cx="304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5791320"/>
            <a:ext cx="304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3840" y="5651640"/>
            <a:ext cx="438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79640" y="5651640"/>
            <a:ext cx="438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62485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6324480"/>
            <a:ext cx="5335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6324480"/>
            <a:ext cx="60984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67816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67816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67816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685800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685800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257800"/>
            <a:ext cx="0" cy="10666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257800"/>
            <a:ext cx="0" cy="1676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257800"/>
            <a:ext cx="0" cy="1676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0" cy="106668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876920"/>
            <a:ext cx="1219320" cy="0"/>
          </a:xfrm>
          <a:prstGeom prst="line">
            <a:avLst/>
          </a:prstGeom>
          <a:ln w="255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43000" y="163836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trollers add new details to access of host data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ing varying attachement to the host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more than one host port per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ntrollers attached on different host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163836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trollers add new details to access of host data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ing various types of access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shared topology to the devices between the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use of protocol policies such as Reserve &amp; Release in SC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19320" y="163836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320" y="3276720"/>
            <a:ext cx="6361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ult Tolerant Controllers add new details to access of host data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ing Failover of device control from a failed controller to the survi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host operating syst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host operating syst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ing Failback with and without host operating system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43000" y="156204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320" y="3276720"/>
            <a:ext cx="6361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lock diagram of a controller incorporating all possible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4800600"/>
            <a:ext cx="121932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800600"/>
            <a:ext cx="1219320" cy="762120"/>
          </a:xfrm>
          <a:prstGeom prst="rect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638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638680"/>
            <a:ext cx="0" cy="533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0958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60958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609588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04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6172200"/>
            <a:ext cx="3049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93840" y="6032520"/>
            <a:ext cx="438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79640" y="6032520"/>
            <a:ext cx="438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66294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66294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662940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6705720"/>
            <a:ext cx="5335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6705720"/>
            <a:ext cx="60984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71629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71629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7162920"/>
            <a:ext cx="380880" cy="228600"/>
          </a:xfrm>
          <a:prstGeom prst="ellipse">
            <a:avLst/>
          </a:prstGeom>
          <a:noFill/>
          <a:ln w="38160">
            <a:solidFill>
              <a:srgbClr val="fcfcf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723888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7238880"/>
            <a:ext cx="762120" cy="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638680"/>
            <a:ext cx="0" cy="106704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638680"/>
            <a:ext cx="0" cy="1676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638680"/>
            <a:ext cx="0" cy="167652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5638680"/>
            <a:ext cx="0" cy="1067040"/>
          </a:xfrm>
          <a:prstGeom prst="line">
            <a:avLst/>
          </a:prstGeom>
          <a:ln w="381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2556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267080"/>
            <a:ext cx="5791320" cy="0"/>
          </a:xfrm>
          <a:prstGeom prst="line">
            <a:avLst/>
          </a:prstGeom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572000"/>
            <a:ext cx="5791320" cy="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853920" y="4173480"/>
            <a:ext cx="97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 Bu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853920" y="4478400"/>
            <a:ext cx="971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 Bu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4267080"/>
            <a:ext cx="0" cy="53352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371600" y="4572000"/>
            <a:ext cx="0" cy="30492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86200" y="4267080"/>
            <a:ext cx="0" cy="53352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05320" y="4572000"/>
            <a:ext cx="0" cy="304920"/>
          </a:xfrm>
          <a:prstGeom prst="line">
            <a:avLst/>
          </a:prstGeom>
          <a:ln w="381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96720" y="4782960"/>
            <a:ext cx="1108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Host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20760" y="5925960"/>
            <a:ext cx="1158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r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74880" y="4935600"/>
            <a:ext cx="9889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36840" y="4935600"/>
            <a:ext cx="9889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r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4240" y="4859280"/>
            <a:ext cx="2682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Host ports allows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)hot/standby controller w/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)active/active w/o host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w/one host port idle un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il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0 active/active w/ host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with all ports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tachment two two different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es enhances system availability but REQUIRES host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9320" y="1486080"/>
            <a:ext cx="6022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ault Tolerant Controller Configurations For SCSI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320" y="3048120"/>
            <a:ext cx="63612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3365fb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solutions in industry for the typical configurations show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ndor Unique host operating system support for single port per controller and/or multi-host bus attachment (Failover can be manual or auto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 Failover with 2 host ports per controller (2nd idle until failover). Failback can be automatic or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 Failover with one host port, assuming hardware can act as &gt;1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icola</dc:creator>
  <dc:description/>
  <dc:language>en-US</dc:language>
  <cp:lastModifiedBy>John Lohmeyer</cp:lastModifiedBy>
  <cp:revision>0</cp:revision>
  <dc:subject>SCSI failover presentatoin</dc:subject>
  <dc:title>Steve Sicola Digital Equipment Corporation May 5, 1995</dc:title>
</cp:coreProperties>
</file>