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400800" y="6210360"/>
            <a:ext cx="1622520" cy="403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898560" y="6270480"/>
            <a:ext cx="2259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3T10/94-164R2 (Jan 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3 Volt SCSI Termpw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56160" y="6294600"/>
            <a:ext cx="803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Volts TERMPWR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3 Volts minus JEDEC tolerance is 3.0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3 Volt systems should connect to 5 Volt SCSI termpwr requiring a regulator for 2.8 to 5.25 Volt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directional Circuit Breaker Required for less than 0.2 Volt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tion reference SPI 7.3 Add note Use a Unidirectional Circuit Breaker for 3.3 Volt system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ircuit Breaker Maximum drop, 0.2 Volts under ful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drop 0.1 Volts with 1/2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 regulator drop less than 0.2 Volts, all lines 24 mA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from SPI Table 7 (add) 3.3 Volt Single-ended 2,90 VDC Min 5,25 VDC Max 1000 mA for 8 Data bit b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from SPI Table 7 (add) 3.3 Volt Single-ended 2,90 VDC Min 5,25 VDC Max 1500 mA for 16 Data bit b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7760" y="204840"/>
            <a:ext cx="2306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Volt Requires 2.8 Volt terminators at the far end or power from an other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 termination requires at least 4.0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all 3.3 Volt systems can provide power for the far end termina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3 Volt Terminators must work to 5.25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 Special Icons showing users the limitations instead of the symbols shown in SPI Annex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3 Volt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22840" y="6377040"/>
            <a:ext cx="1123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92400" y="6324480"/>
            <a:ext cx="1341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2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657600" y="533412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27560" y="522756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rcle/Slash used when Termpwr is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equate for the fa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2760" y="3886200"/>
            <a:ext cx="2620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2057400"/>
            <a:ext cx="70866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ulated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SI-3 SPI Maximum pull up current is 24 mA at 0.2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SI-3 SPI minimum pull up voltage is 2.5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tery systems often require TERMPWR to be supplied extern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pwr could be from a 5.25 Volt source, which requires all 3.3 Volt systems to run with 2.7 to 5.25 Volt TERMPW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from SPI section to 7.1.1  3.3 Volt Systems the terminators must regulate with TERMPWR from 2,7 VDC to 5,25 V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gulated terminators shall use source/sink regulators to reduce overshoot, high Active Negation Driver pull up voltage, and protect 3.3 Volt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voltage clamp to protect logic 3.6 Volts (AM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94040" y="629460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3 Volt Logic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imum SPI-LV bus Voltage,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6 Volts is the maximum recommended voltage for 3.3 Volt logic. The JEDEC standard is 3.3 Volts +/- 0.3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me controllers may require clamping when connected to 5 volt SCSI units that drive signal lines above 3.6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meet current standard levels except ViH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is not problem using the standard thresholds for 3.3 Volt logic. 2.0 Volts is the maximum high Thresho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ommended termination reference voltage is 2.5 to 3.0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ximum pull up current with Termpwr from 2.7 to 5.25 Volts is 24 mA at 0.2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s should not source current when the line is over 3.24 Vo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22640" y="6294600"/>
            <a:ext cx="676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>November update after the Working group SCSILPV</dc:description>
  <dc:language>en-US</dc:language>
  <cp:lastModifiedBy>Paul Aloisi</cp:lastModifiedBy>
  <cp:revision>0</cp:revision>
  <dc:subject>X3T10/94-164R2</dc:subject>
  <dc:title>3.3 Volt SCSI Termination</dc:title>
</cp:coreProperties>
</file>