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98560" y="638496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T10/94-230R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an 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73840" y="6332400"/>
            <a:ext cx="162252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Swap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evices from Laptop connections to RAIDs will require devices to be changed while the system is running without corrupting data or hanging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like cameras, CDs, Hard drives, and scanners added in the field without powering down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glitching, data and contro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pwr Glitching excessive by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Glitching (Current limiting devices 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lty device current lim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ed down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708440" y="6446880"/>
            <a:ext cx="676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Paul Aloisi</cp:lastModifiedBy>
  <cp:revision>0</cp:revision>
  <dc:subject>SCSI Hot Swap Issues</dc:subject>
  <dc:title>X3T10 /94-230R1</dc:title>
</cp:coreProperties>
</file>