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62120" y="630864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T10/94-229R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Jan 1995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873840" y="6408720"/>
            <a:ext cx="1622520" cy="40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SCSI for Lapt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top computers need to limit the power for longer batter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 power units may not be able to provide TERMPWR for the far end termina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 power units may not be able to power the terminator inside in normal power mode when an external cable is att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erformance and low power must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 TERMPWR fusing for the application, 1 Amp min for 8 bit bus and 1.5 Amp for 16 bit b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ed terminators reduce the TERMPWR cur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mode for the terminators on short bus configurations, automatic termination current adjustment when external cables are ad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403880" y="6370560"/>
            <a:ext cx="676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SCSI for Lapt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Down Modes required when the SCSI devices are not in use, this includes powering down the SCSI bus, Termination, and controll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evice errors when the bus is powered down or hang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 Volt operation compatible with 5.0 Volt de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pwr 2.8 &lt; 5.25 Volts to the terminators at the far end of the c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 may require TERMPWR to be supplied externally for the controller terminator to run in normal power mode versus low power mode when running the internal bus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56160" y="6446880"/>
            <a:ext cx="676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Aloisi</dc:creator>
  <dc:description/>
  <dc:language>en-US</dc:language>
  <cp:lastModifiedBy>Paul Aloisi</cp:lastModifiedBy>
  <cp:revision>0</cp:revision>
  <dc:subject>Low Power SCSI for Laptops</dc:subject>
  <dc:title>X3T10 /94/229R1</dc:title>
</cp:coreProperties>
</file>