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2240" y="81835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17680" y="8831160"/>
            <a:ext cx="5307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LL HAM     DIGITAL EQUIPMENT    SCSI WORKING GROUP      NOVEMBER 9,  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743040" y="1727280"/>
            <a:ext cx="537228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GLE ENDED FAST 20 SCSI HAS BEEN FURTHER CHARACTERIZED IN TWO IMPORTANT 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ECTS OF DEVICE CAPAC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DEVICE LOADS ARE “CLUSTERED” ON THE BUS THE CAPACITANCE MUST BE REDUCED TO SIGNIFICANTLY LESS THAN 10 PF TO REGAIN GOOD WAVE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DEVICE LOADS ARE NOT “CLUSTERED” ONE MAY EXTEND THE SINGLE ENDED BUS TO THE FULL 25 METERS (WITH GOOD GROUN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INT TO POINT SINGLE ENDED FAST 20 SCSI RETAINS VERY GOOD SIGNALS AT THE FULL PROTOCOL LIMITED LENGTH OF 25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POINT TO POINT RESULTS APPLY TO FAST 10 AND SLOW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819000" y="203040"/>
            <a:ext cx="53722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ST 20 SINGLE ENDED S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549360" y="3884760"/>
            <a:ext cx="1555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lt; 1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19000" y="203040"/>
            <a:ext cx="53722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ST 20 SINGLE ENDED S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20574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150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098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46280" y="187488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50840" y="1798560"/>
            <a:ext cx="5062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”                            68”                           8”    8”    8”    8”    8”    8”    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50840" y="2103480"/>
            <a:ext cx="4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127160" y="2637000"/>
            <a:ext cx="43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50840" y="24843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080040" y="195120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032280" y="2179800"/>
            <a:ext cx="7603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X 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UB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ADS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17680" y="3017880"/>
            <a:ext cx="532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ICE      7                                                      6      5     4    3      2      1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660680" y="1469880"/>
            <a:ext cx="362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 (10 FEET) OVERALL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479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197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148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794040" y="6072120"/>
            <a:ext cx="12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IC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184480" y="3857760"/>
            <a:ext cx="254160" cy="1315800"/>
            <a:chOff x="2184480" y="3857760"/>
            <a:chExt cx="254160" cy="1315800"/>
          </a:xfrm>
        </p:grpSpPr>
        <p:sp>
          <p:nvSpPr>
            <p:cNvPr id="377" name=""/>
            <p:cNvSpPr txBox="1"/>
            <p:nvPr/>
          </p:nvSpPr>
          <p:spPr>
            <a:xfrm>
              <a:off x="2184480" y="49291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2184480" y="42879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2184480" y="47260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2184480" y="45086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2184480" y="40672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2184480" y="38577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387504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19000" y="203040"/>
            <a:ext cx="53722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ST 20 SINGLE ENDED S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22860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46280" y="210348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50840" y="2027160"/>
            <a:ext cx="5062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50840" y="2332080"/>
            <a:ext cx="471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127160" y="2865600"/>
            <a:ext cx="43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93640" y="24843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080040" y="217980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2080" y="1674720"/>
            <a:ext cx="4226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 METERS (82 FEET) OVERAL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470560" y="2484360"/>
            <a:ext cx="963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041560" y="2332080"/>
            <a:ext cx="3003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END LOADS FOR THIS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HIELDED 34 PAIR EXTERNAL 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438280" y="5970600"/>
            <a:ext cx="3875040" cy="247032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438280" y="3352680"/>
            <a:ext cx="3875040" cy="2470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517680" y="7161120"/>
            <a:ext cx="1222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17680" y="4648320"/>
            <a:ext cx="1019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33520" y="3960720"/>
            <a:ext cx="952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17680" y="6551640"/>
            <a:ext cx="1008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184480" y="3897360"/>
            <a:ext cx="254160" cy="1315800"/>
            <a:chOff x="2184480" y="3897360"/>
            <a:chExt cx="254160" cy="1315800"/>
          </a:xfrm>
        </p:grpSpPr>
        <p:sp>
          <p:nvSpPr>
            <p:cNvPr id="402" name=""/>
            <p:cNvSpPr txBox="1"/>
            <p:nvPr/>
          </p:nvSpPr>
          <p:spPr>
            <a:xfrm>
              <a:off x="2184480" y="49687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2184480" y="43275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2184480" y="47656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2184480" y="45482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2184480" y="41068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2184480" y="38973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184480" y="6488280"/>
            <a:ext cx="254160" cy="1315800"/>
            <a:chOff x="2184480" y="6488280"/>
            <a:chExt cx="254160" cy="1315800"/>
          </a:xfrm>
        </p:grpSpPr>
        <p:sp>
          <p:nvSpPr>
            <p:cNvPr id="409" name=""/>
            <p:cNvSpPr txBox="1"/>
            <p:nvPr/>
          </p:nvSpPr>
          <p:spPr>
            <a:xfrm>
              <a:off x="2184480" y="75596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2184480" y="69184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2184480" y="735660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2184480" y="71391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2184480" y="669780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2184480" y="64882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819000" y="203040"/>
            <a:ext cx="53722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ST 20 SINGLE ENDED S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20574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46280" y="187488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50840" y="1798560"/>
            <a:ext cx="5062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”                            68”                           8”    8”    8”    8”    8”    8”    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50840" y="2103480"/>
            <a:ext cx="4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27160" y="2637000"/>
            <a:ext cx="43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50840" y="24843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80040" y="195120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32280" y="2179800"/>
            <a:ext cx="7430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X 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UB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7680" y="3017880"/>
            <a:ext cx="532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ICE      7                                                      6      5     4    3      2      1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60680" y="1469880"/>
            <a:ext cx="362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 (10 FEET) OVERALL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46680" y="2658960"/>
            <a:ext cx="1884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ACH LOAD APPROX 10 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590920"/>
            <a:ext cx="18288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3875040" cy="2470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38280" y="6048360"/>
            <a:ext cx="3875040" cy="2470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17680" y="43498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17680" y="7008840"/>
            <a:ext cx="1109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ICE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184480" y="3857760"/>
            <a:ext cx="254160" cy="1315800"/>
            <a:chOff x="2184480" y="3857760"/>
            <a:chExt cx="254160" cy="1315800"/>
          </a:xfrm>
        </p:grpSpPr>
        <p:sp>
          <p:nvSpPr>
            <p:cNvPr id="68" name=""/>
            <p:cNvSpPr txBox="1"/>
            <p:nvPr/>
          </p:nvSpPr>
          <p:spPr>
            <a:xfrm>
              <a:off x="2184480" y="49291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2184480" y="42879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2184480" y="47260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2184480" y="45086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2184480" y="40672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2184480" y="38577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184480" y="6600960"/>
            <a:ext cx="254160" cy="1315800"/>
            <a:chOff x="2184480" y="6600960"/>
            <a:chExt cx="254160" cy="1315800"/>
          </a:xfrm>
        </p:grpSpPr>
        <p:sp>
          <p:nvSpPr>
            <p:cNvPr id="75" name=""/>
            <p:cNvSpPr txBox="1"/>
            <p:nvPr/>
          </p:nvSpPr>
          <p:spPr>
            <a:xfrm>
              <a:off x="2184480" y="76723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2184480" y="70311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2184480" y="74692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2184480" y="72518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2184480" y="68104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2184480" y="66009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17680" y="203040"/>
            <a:ext cx="5840280" cy="3272040"/>
            <a:chOff x="517680" y="203040"/>
            <a:chExt cx="5840280" cy="3272040"/>
          </a:xfrm>
        </p:grpSpPr>
        <p:sp>
          <p:nvSpPr>
            <p:cNvPr id="82" name=""/>
            <p:cNvSpPr txBox="1"/>
            <p:nvPr/>
          </p:nvSpPr>
          <p:spPr>
            <a:xfrm>
              <a:off x="819000" y="203040"/>
              <a:ext cx="537228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 20 SINGLE ENDED SCS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66680" y="2057400"/>
              <a:ext cx="495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1500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008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0552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988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746280" y="1874880"/>
              <a:ext cx="277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1050840" y="1798560"/>
              <a:ext cx="5062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”                            68”                           8”    8”    8”    8”    8”    8”    4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1050840" y="210348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9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1127160" y="2637000"/>
              <a:ext cx="43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1050840" y="2484360"/>
              <a:ext cx="7603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2428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6080040" y="1951200"/>
              <a:ext cx="277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3032280" y="2179800"/>
              <a:ext cx="74304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X 2.9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17680" y="3017880"/>
              <a:ext cx="5324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ICE      7                                                      6      5     4    3      2      1    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1660680" y="1469880"/>
              <a:ext cx="3622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METERS (10 FEET) OVERALL LENG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4792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1972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480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3946680" y="2658960"/>
            <a:ext cx="1884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ACH LOAD APPROX 10 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590920"/>
            <a:ext cx="18288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3875040" cy="2470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438280" y="6048360"/>
            <a:ext cx="3875040" cy="2470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533520" y="4349880"/>
            <a:ext cx="1109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I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7680" y="7161120"/>
            <a:ext cx="1109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IC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184480" y="3873600"/>
            <a:ext cx="254160" cy="1315800"/>
            <a:chOff x="2184480" y="3873600"/>
            <a:chExt cx="254160" cy="1315800"/>
          </a:xfrm>
        </p:grpSpPr>
        <p:sp>
          <p:nvSpPr>
            <p:cNvPr id="108" name=""/>
            <p:cNvSpPr txBox="1"/>
            <p:nvPr/>
          </p:nvSpPr>
          <p:spPr>
            <a:xfrm>
              <a:off x="2184480" y="49449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2184480" y="430380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184480" y="47419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184480" y="45244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2184480" y="40831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2184480" y="387360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184480" y="6568920"/>
            <a:ext cx="254160" cy="1322640"/>
            <a:chOff x="2184480" y="6568920"/>
            <a:chExt cx="254160" cy="1322640"/>
          </a:xfrm>
        </p:grpSpPr>
        <p:sp>
          <p:nvSpPr>
            <p:cNvPr id="115" name=""/>
            <p:cNvSpPr txBox="1"/>
            <p:nvPr/>
          </p:nvSpPr>
          <p:spPr>
            <a:xfrm>
              <a:off x="2184480" y="76471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2184480" y="70023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2184480" y="74422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184480" y="72248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184480" y="67802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84480" y="65689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517680" y="203040"/>
            <a:ext cx="5840280" cy="3272040"/>
            <a:chOff x="517680" y="203040"/>
            <a:chExt cx="5840280" cy="3272040"/>
          </a:xfrm>
        </p:grpSpPr>
        <p:sp>
          <p:nvSpPr>
            <p:cNvPr id="122" name=""/>
            <p:cNvSpPr txBox="1"/>
            <p:nvPr/>
          </p:nvSpPr>
          <p:spPr>
            <a:xfrm>
              <a:off x="819000" y="203040"/>
              <a:ext cx="537228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 20 SINGLE ENDED SCS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2057400"/>
              <a:ext cx="495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1008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552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746280" y="1874880"/>
              <a:ext cx="277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1050840" y="1798560"/>
              <a:ext cx="5062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”                            68”                           8”    8”    8”    8”    8”    8”    4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1050840" y="210348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9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127160" y="2637000"/>
              <a:ext cx="43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1050840" y="2484360"/>
              <a:ext cx="7603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2428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6080040" y="1951200"/>
              <a:ext cx="277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3032280" y="2179800"/>
              <a:ext cx="74304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X 2.9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517680" y="3017880"/>
              <a:ext cx="5324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ICE      7                                                      6      5     4    3      2      1    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1660680" y="1469880"/>
              <a:ext cx="3622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METERS (10 FEET) OVERALL LENG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792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1480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3946680" y="2658960"/>
            <a:ext cx="1814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ACH LOAD APPROX 3 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2590920"/>
            <a:ext cx="18288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3875040" cy="2470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438280" y="6048360"/>
            <a:ext cx="3875040" cy="2470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17680" y="43498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17680" y="7085160"/>
            <a:ext cx="1109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ICE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184480" y="3857760"/>
            <a:ext cx="254160" cy="1315800"/>
            <a:chOff x="2184480" y="3857760"/>
            <a:chExt cx="254160" cy="1315800"/>
          </a:xfrm>
        </p:grpSpPr>
        <p:sp>
          <p:nvSpPr>
            <p:cNvPr id="148" name=""/>
            <p:cNvSpPr txBox="1"/>
            <p:nvPr/>
          </p:nvSpPr>
          <p:spPr>
            <a:xfrm>
              <a:off x="2184480" y="49291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184480" y="42879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184480" y="47260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184480" y="45086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2184480" y="40672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184480" y="38577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184480" y="6600960"/>
            <a:ext cx="254160" cy="1315800"/>
            <a:chOff x="2184480" y="6600960"/>
            <a:chExt cx="254160" cy="1315800"/>
          </a:xfrm>
        </p:grpSpPr>
        <p:sp>
          <p:nvSpPr>
            <p:cNvPr id="155" name=""/>
            <p:cNvSpPr txBox="1"/>
            <p:nvPr/>
          </p:nvSpPr>
          <p:spPr>
            <a:xfrm>
              <a:off x="2184480" y="76723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2184480" y="70311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2184480" y="74692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2184480" y="72518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184480" y="68104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2184480" y="66009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517680" y="203040"/>
            <a:ext cx="5840280" cy="3272040"/>
            <a:chOff x="517680" y="203040"/>
            <a:chExt cx="5840280" cy="3272040"/>
          </a:xfrm>
        </p:grpSpPr>
        <p:sp>
          <p:nvSpPr>
            <p:cNvPr id="162" name=""/>
            <p:cNvSpPr txBox="1"/>
            <p:nvPr/>
          </p:nvSpPr>
          <p:spPr>
            <a:xfrm>
              <a:off x="819000" y="203040"/>
              <a:ext cx="537228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 20 SINGLE ENDED SCS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66680" y="2057400"/>
              <a:ext cx="495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500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0988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746280" y="1874880"/>
              <a:ext cx="277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1050840" y="1798560"/>
              <a:ext cx="5062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”                            68”                           8”    8”    8”    8”    8”    8”    4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1050840" y="210348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9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1127160" y="2637000"/>
              <a:ext cx="43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1050840" y="2484360"/>
              <a:ext cx="7603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2428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080040" y="1951200"/>
              <a:ext cx="277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3032280" y="2179800"/>
              <a:ext cx="74304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X 2.9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517680" y="3017880"/>
              <a:ext cx="5324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ICE      7                                                      6      5     4    3      2      1    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1660680" y="1469880"/>
              <a:ext cx="3622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METERS (10 FEET) OVERALL LENG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4792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972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1480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 txBox="1"/>
          <p:nvPr/>
        </p:nvSpPr>
        <p:spPr>
          <a:xfrm>
            <a:off x="3946680" y="2658960"/>
            <a:ext cx="1814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ACH LOAD APPROX 3 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2590920"/>
            <a:ext cx="18288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3875040" cy="2470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438280" y="6124680"/>
            <a:ext cx="3875040" cy="2470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517680" y="4349880"/>
            <a:ext cx="1109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I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17680" y="7161120"/>
            <a:ext cx="1109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IC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184480" y="3857760"/>
            <a:ext cx="254160" cy="1315800"/>
            <a:chOff x="2184480" y="3857760"/>
            <a:chExt cx="254160" cy="1315800"/>
          </a:xfrm>
        </p:grpSpPr>
        <p:sp>
          <p:nvSpPr>
            <p:cNvPr id="188" name=""/>
            <p:cNvSpPr txBox="1"/>
            <p:nvPr/>
          </p:nvSpPr>
          <p:spPr>
            <a:xfrm>
              <a:off x="2184480" y="49291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2184480" y="42879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2184480" y="47260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2184480" y="45086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2184480" y="40672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2184480" y="38577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184480" y="6637320"/>
            <a:ext cx="254160" cy="1322280"/>
            <a:chOff x="2184480" y="6637320"/>
            <a:chExt cx="254160" cy="1322280"/>
          </a:xfrm>
        </p:grpSpPr>
        <p:sp>
          <p:nvSpPr>
            <p:cNvPr id="195" name=""/>
            <p:cNvSpPr txBox="1"/>
            <p:nvPr/>
          </p:nvSpPr>
          <p:spPr>
            <a:xfrm>
              <a:off x="2184480" y="77151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2184480" y="70707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2184480" y="75103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2184480" y="72928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2184480" y="68486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184480" y="66373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19000" y="203040"/>
            <a:ext cx="53722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ST 20 SINGLE ENDED S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20574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46280" y="187488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50840" y="1798560"/>
            <a:ext cx="5062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”                            68”                           8”    8”    8”    8”    8”    8”    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50840" y="2103480"/>
            <a:ext cx="4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27160" y="2637000"/>
            <a:ext cx="43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50840" y="24843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80040" y="195120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17680" y="3017880"/>
            <a:ext cx="532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ICE      7                                                      6      5     4    3      2      1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660680" y="1469880"/>
            <a:ext cx="362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 (10 FEET) OVERALL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946680" y="2658960"/>
            <a:ext cx="1996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ACH LOAD LESS THAN 1 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1640" y="2602080"/>
            <a:ext cx="19810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438280" y="6086520"/>
            <a:ext cx="3875040" cy="24703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438280" y="3352680"/>
            <a:ext cx="3875040" cy="24703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517680" y="43498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7680" y="7085160"/>
            <a:ext cx="1109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ICE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184480" y="3857760"/>
            <a:ext cx="254160" cy="1315800"/>
            <a:chOff x="2184480" y="3857760"/>
            <a:chExt cx="254160" cy="1315800"/>
          </a:xfrm>
        </p:grpSpPr>
        <p:sp>
          <p:nvSpPr>
            <p:cNvPr id="226" name=""/>
            <p:cNvSpPr txBox="1"/>
            <p:nvPr/>
          </p:nvSpPr>
          <p:spPr>
            <a:xfrm>
              <a:off x="2184480" y="49291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2184480" y="42879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2184480" y="47260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2184480" y="45086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2184480" y="40672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184480" y="38577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184480" y="6605640"/>
            <a:ext cx="254160" cy="1315800"/>
            <a:chOff x="2184480" y="6605640"/>
            <a:chExt cx="254160" cy="1315800"/>
          </a:xfrm>
        </p:grpSpPr>
        <p:sp>
          <p:nvSpPr>
            <p:cNvPr id="233" name=""/>
            <p:cNvSpPr txBox="1"/>
            <p:nvPr/>
          </p:nvSpPr>
          <p:spPr>
            <a:xfrm>
              <a:off x="2184480" y="767700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2184480" y="70358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2184480" y="74739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2184480" y="72565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2184480" y="68151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2184480" y="66056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 txBox="1"/>
          <p:nvPr/>
        </p:nvSpPr>
        <p:spPr>
          <a:xfrm>
            <a:off x="2879640" y="2103480"/>
            <a:ext cx="1268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ST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19000" y="203040"/>
            <a:ext cx="53722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ST 20 SINGLE ENDED S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20574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746280" y="187488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50840" y="1798560"/>
            <a:ext cx="5062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”                            68”                           8”    8”    8”    8”    8”    8”    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50840" y="2103480"/>
            <a:ext cx="4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127160" y="2637000"/>
            <a:ext cx="43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50840" y="24843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80040" y="195120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17680" y="3017880"/>
            <a:ext cx="532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ICE      7                                                      6      5     4    3      2      1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660680" y="1469880"/>
            <a:ext cx="362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 (10 FEET) OVERALL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46680" y="2658960"/>
            <a:ext cx="1996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ACH LOAD LESS THAN 1 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41640" y="2602080"/>
            <a:ext cx="19810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3875040" cy="2470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438280" y="6048360"/>
            <a:ext cx="3875040" cy="2470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517680" y="4349880"/>
            <a:ext cx="1109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I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17680" y="7085160"/>
            <a:ext cx="1109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IC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184480" y="3857760"/>
            <a:ext cx="254160" cy="1315800"/>
            <a:chOff x="2184480" y="3857760"/>
            <a:chExt cx="254160" cy="1315800"/>
          </a:xfrm>
        </p:grpSpPr>
        <p:sp>
          <p:nvSpPr>
            <p:cNvPr id="265" name=""/>
            <p:cNvSpPr txBox="1"/>
            <p:nvPr/>
          </p:nvSpPr>
          <p:spPr>
            <a:xfrm>
              <a:off x="2184480" y="49291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2184480" y="42879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2184480" y="47260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2184480" y="45086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2184480" y="40672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2184480" y="38577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184480" y="6568920"/>
            <a:ext cx="254160" cy="1316160"/>
            <a:chOff x="2184480" y="6568920"/>
            <a:chExt cx="254160" cy="1316160"/>
          </a:xfrm>
        </p:grpSpPr>
        <p:sp>
          <p:nvSpPr>
            <p:cNvPr id="272" name=""/>
            <p:cNvSpPr txBox="1"/>
            <p:nvPr/>
          </p:nvSpPr>
          <p:spPr>
            <a:xfrm>
              <a:off x="2184480" y="76406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2184480" y="69991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2184480" y="743760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2184480" y="721980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2184480" y="677880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2184480" y="65689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 txBox="1"/>
          <p:nvPr/>
        </p:nvSpPr>
        <p:spPr>
          <a:xfrm>
            <a:off x="2879640" y="2103480"/>
            <a:ext cx="1268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ST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73040" y="670392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73040" y="441972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19000" y="203040"/>
            <a:ext cx="53722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ST 20 SINGLE ENDED S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20574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100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055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46280" y="187488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050840" y="1798560"/>
            <a:ext cx="5062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”                            68”                           8”    8”    8”    8”    8”    8”    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50840" y="2103480"/>
            <a:ext cx="4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127160" y="2637000"/>
            <a:ext cx="43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050840" y="24843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242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80040" y="195120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32280" y="2179800"/>
            <a:ext cx="7603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X 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UB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ADS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17680" y="3017880"/>
            <a:ext cx="532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ICE      7                                                      6      5     4    3      2      1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660680" y="1469880"/>
            <a:ext cx="362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 (10 FEET) OVERALL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197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148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9480" y="8205840"/>
            <a:ext cx="12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IC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438280" y="5789520"/>
            <a:ext cx="3549600" cy="22622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438280" y="3352680"/>
            <a:ext cx="3549600" cy="226224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2184480" y="6242040"/>
            <a:ext cx="254160" cy="1316160"/>
            <a:chOff x="2184480" y="6242040"/>
            <a:chExt cx="254160" cy="1316160"/>
          </a:xfrm>
        </p:grpSpPr>
        <p:sp>
          <p:nvSpPr>
            <p:cNvPr id="304" name=""/>
            <p:cNvSpPr txBox="1"/>
            <p:nvPr/>
          </p:nvSpPr>
          <p:spPr>
            <a:xfrm>
              <a:off x="2184480" y="73137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2184480" y="66722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2184480" y="71103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2184480" y="68929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2184480" y="64515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2184480" y="62420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184480" y="3800520"/>
            <a:ext cx="254160" cy="1315800"/>
            <a:chOff x="2184480" y="3800520"/>
            <a:chExt cx="254160" cy="1315800"/>
          </a:xfrm>
        </p:grpSpPr>
        <p:sp>
          <p:nvSpPr>
            <p:cNvPr id="311" name=""/>
            <p:cNvSpPr txBox="1"/>
            <p:nvPr/>
          </p:nvSpPr>
          <p:spPr>
            <a:xfrm>
              <a:off x="2184480" y="487188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2184480" y="42307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2184480" y="46688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2184480" y="445140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2184480" y="40100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2184480" y="38005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73040" y="441972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33520" y="693252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 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19000" y="203040"/>
            <a:ext cx="53722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ST 20 SINGLE ENDED S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20574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50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055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46280" y="187488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50840" y="1798560"/>
            <a:ext cx="5062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”                            68”                           8”    8”    8”    8”    8”    8”    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50840" y="2103480"/>
            <a:ext cx="4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27160" y="2637000"/>
            <a:ext cx="43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50840" y="24843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80040" y="195120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32280" y="2179800"/>
            <a:ext cx="7603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X 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UB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ADS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17680" y="3017880"/>
            <a:ext cx="532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ICE      7                                                      6      5     4    3      2      1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660680" y="1469880"/>
            <a:ext cx="362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 (10 FEET) OVERALL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479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09480" y="8282160"/>
            <a:ext cx="12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IC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184480" y="6337440"/>
            <a:ext cx="254160" cy="1315800"/>
            <a:chOff x="2184480" y="6337440"/>
            <a:chExt cx="254160" cy="1315800"/>
          </a:xfrm>
        </p:grpSpPr>
        <p:sp>
          <p:nvSpPr>
            <p:cNvPr id="340" name=""/>
            <p:cNvSpPr txBox="1"/>
            <p:nvPr/>
          </p:nvSpPr>
          <p:spPr>
            <a:xfrm>
              <a:off x="2184480" y="740880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2184480" y="67676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2184480" y="72057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184480" y="69883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2184480" y="65469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2184480" y="63374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184480" y="3876840"/>
            <a:ext cx="254160" cy="1315800"/>
            <a:chOff x="2184480" y="3876840"/>
            <a:chExt cx="254160" cy="1315800"/>
          </a:xfrm>
        </p:grpSpPr>
        <p:sp>
          <p:nvSpPr>
            <p:cNvPr id="347" name=""/>
            <p:cNvSpPr txBox="1"/>
            <p:nvPr/>
          </p:nvSpPr>
          <p:spPr>
            <a:xfrm>
              <a:off x="2184480" y="494820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2184480" y="43070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2184480" y="47451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2184480" y="452772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2184480" y="408636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2184480" y="3876840"/>
              <a:ext cx="254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3875040" cy="24703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438280" y="6024600"/>
            <a:ext cx="387504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iam E. Ham</dc:creator>
  <dc:description>NOVEMBER 1994 WORKING GROUP</dc:description>
  <dc:language>en-US</dc:language>
  <cp:lastModifiedBy>William E. Ham</cp:lastModifiedBy>
  <cp:revision>0</cp:revision>
  <dc:subject/>
  <dc:title>FAST20 WORKING GROUP</dc:title>
</cp:coreProperties>
</file>