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898560" y="6384960"/>
            <a:ext cx="4772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rode Communication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SI PnP Termin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 in SCSI PnP do not eliminate disabled terminators on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3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P SCSI simplifies termination by making proper termination a side effect of configuring the system.  Termination is not included within SCSI peripheral devices; thus the confusion over the presence of a terminator and the possibility of excessive terminators are elimin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SI PnP Ter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6.2 Terminat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ection defines the requirements of the terminator and terminator power.  Section 7 defines the location of terminators in system configu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erminators in PnP SCSI systems shall conform to the terminator requirements in the SCSI-3 Parallel Interface document.  The terminators shall operate correctly over a TERMPWR voltage range of 4.0-5.25 Vdc.  Regulated terminators are required.  These are often referred to as alternative 2 or active termina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st and the peripheral sub-system shall provide terminator power (TERMPWR) to the SCSI bus.  All terminators must be powered from the TERMPWR line(s) in the SCSI b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SI PnP Ter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- Exceptions may be necessary for  battery operated devices and PCMCIA PC-C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 providing TERMPWR must provide a self-resetting device (e.g. positive-temperature-coefficient or circuit breaker device) to limit the maximum amount of current sourced instead of a fuse.  Such a device opens the circuit when excessive current is drawn and closes the circuit when the device res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Aloisi</dc:creator>
  <dc:description/>
  <dc:language>en-US</dc:language>
  <cp:lastModifiedBy>Paul Aloisi</cp:lastModifiedBy>
  <cp:revision>0</cp:revision>
  <dc:subject/>
  <dc:title>SCSI PnP Definitions</dc:title>
</cp:coreProperties>
</file>