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04920" y="3276720"/>
            <a:ext cx="777240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-244440" y="7527960"/>
            <a:ext cx="477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rode Communication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99160" y="1417680"/>
            <a:ext cx="1268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T10/94-222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457200" y="1752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igh Density Conn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Connector, 16 bit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Connector, 32 Bit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Connector, 32 Bit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Volt Termp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Volt guid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.25 Volt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-40 RAID/Serv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ended restricted bus &amp; Device capac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Hot Plugging Devices-not just in the Ann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457200" y="1752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T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T needs to track the performance of th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bit processors Systems and PCs, video servers, RAIDs 20 to 160 megabyte/second transfer rate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Sizes 2, 4, 8, 10 Gigabyte drives announce now, SPIT should be targeted to the future 10 to 100 Gigabyte dr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small connectors and c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Swap - even for PCs, not just RAIDs and ser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457200" y="1752480"/>
            <a:ext cx="7772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AWG Wire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PWR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8 AWG 8 bit bus - 3 / 6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0 AWG 16 Bit bus - 3 / 6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32 AWG 16/32 Bit Bus 1.5 / 3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current - Far end current 18 Lines 0.5 Amps, 27 Lines 0.75 Amps, 45 Lines 1.25 A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pin Connector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 pin Connector resistance SPI/SPIT (Minia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+ pin Connector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Paul Aloisi</cp:lastModifiedBy>
  <cp:revision>0</cp:revision>
  <dc:subject>Committee goals</dc:subject>
  <dc:title>SPIT Goals</dc:title>
</cp:coreProperties>
</file>