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838080" y="2133720"/>
            <a:ext cx="7772400" cy="41148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98560" y="6384960"/>
            <a:ext cx="47721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nitrode Communications Marketing</a:t>
            </a:r>
            <a:endParaRPr b="0" lang="en-US" sz="24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85800" y="609480"/>
            <a:ext cx="7772400" cy="1143000"/>
          </a:xfrm>
          <a:prstGeom prst="rect">
            <a:avLst/>
          </a:prstGeom>
          <a:noFill/>
          <a:ln w="12600">
            <a:solidFill>
              <a:srgbClr val="000000"/>
            </a:solidFill>
            <a:round/>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AST-20 Termination</a:t>
            </a:r>
            <a:endParaRPr b="0" lang="en-US" sz="4400" spc="-1" strike="noStrike">
              <a:solidFill>
                <a:srgbClr val="000000"/>
              </a:solidFill>
              <a:latin typeface="Arial"/>
            </a:endParaRPr>
          </a:p>
        </p:txBody>
      </p:sp>
      <p:sp>
        <p:nvSpPr>
          <p:cNvPr id="41" name=""/>
          <p:cNvSpPr txBox="1"/>
          <p:nvPr/>
        </p:nvSpPr>
        <p:spPr>
          <a:xfrm>
            <a:off x="685800" y="1981080"/>
            <a:ext cx="7772400" cy="411480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1 Second Paragraph Should be replaced with</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rminators within a device must comply with all the device guidelines. The termination enabled must only be at the end of the SCSI bus, clear instructions shall be on the device of  disabling termination and enabling termination. The device total capacitance must not exceed 25 pF. 15 pF has been achieved in designs with disabled terminators on the device. Low capacitance is recommended for better signal integrity. The terminator must pass hot plugging test with or without TERMP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609480"/>
            <a:ext cx="7772400" cy="1143000"/>
          </a:xfrm>
          <a:prstGeom prst="rect">
            <a:avLst/>
          </a:prstGeom>
          <a:noFill/>
          <a:ln w="12600">
            <a:solidFill>
              <a:srgbClr val="000000"/>
            </a:solidFill>
            <a:round/>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AST - 20 Termination</a:t>
            </a:r>
            <a:endParaRPr b="0" lang="en-US" sz="4400" spc="-1" strike="noStrike">
              <a:solidFill>
                <a:srgbClr val="000000"/>
              </a:solidFill>
              <a:latin typeface="Arial"/>
            </a:endParaRPr>
          </a:p>
        </p:txBody>
      </p:sp>
      <p:sp>
        <p:nvSpPr>
          <p:cNvPr id="43" name=""/>
          <p:cNvSpPr txBox="1"/>
          <p:nvPr/>
        </p:nvSpPr>
        <p:spPr>
          <a:xfrm>
            <a:off x="685800" y="1981080"/>
            <a:ext cx="7772400" cy="411480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ST-20 requires active negation drivers, additional requirement for the termination section 6.1.1 is requi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 Each terminator shall source current to the signal line whenever its terminal voltage is below 2,5 V d.c. and this current shall not exceed 24 mA for an line voltage above 0,2 V d.c., even when the all other signal lines are driven to 4,0 V d.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ul Aloisi</dc:creator>
  <dc:description/>
  <dc:language>en-US</dc:language>
  <cp:lastModifiedBy>Paul Aloisi</cp:lastModifiedBy>
  <cp:revision>0</cp:revision>
  <dc:subject>Comments to Fast-20</dc:subject>
  <dc:title>FAST-20 Termination</dc:title>
</cp:coreProperties>
</file>