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2240" y="81835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17680" y="8831160"/>
            <a:ext cx="5433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LL HAM     DIGITAL EQUIPMENT    SCSI WORKING GROUP      SEPTEMBER  14,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844720" y="3666960"/>
            <a:ext cx="3292560" cy="21034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1203480" y="3808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44720" y="6029280"/>
            <a:ext cx="3292560" cy="210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03480" y="6094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17680" y="203040"/>
            <a:ext cx="5840280" cy="3272040"/>
            <a:chOff x="517680" y="203040"/>
            <a:chExt cx="5840280" cy="3272040"/>
          </a:xfrm>
        </p:grpSpPr>
        <p:sp>
          <p:nvSpPr>
            <p:cNvPr id="45" name=""/>
            <p:cNvSpPr txBox="1"/>
            <p:nvPr/>
          </p:nvSpPr>
          <p:spPr>
            <a:xfrm>
              <a:off x="819000" y="203040"/>
              <a:ext cx="537228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 20 SINGLE ENDED SCS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66680" y="2057400"/>
              <a:ext cx="495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1500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100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055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98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746280" y="1874880"/>
              <a:ext cx="277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1050840" y="1798560"/>
              <a:ext cx="5062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”                            68”                           8”    8”    8”    8”    8”    8”    4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1050840" y="210348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9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1127160" y="263700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050840" y="2484360"/>
              <a:ext cx="760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428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6080040" y="1951200"/>
              <a:ext cx="277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3032280" y="2179800"/>
              <a:ext cx="7430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X 2.9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517680" y="3017880"/>
              <a:ext cx="5324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ICE      7                                                      6      5     4    3      2      1    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1660680" y="1469880"/>
              <a:ext cx="3622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METERS (10 FEET) OVERALL LENG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79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2057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 txBox="1"/>
          <p:nvPr/>
        </p:nvSpPr>
        <p:spPr>
          <a:xfrm>
            <a:off x="1203480" y="8358120"/>
            <a:ext cx="2381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POSITION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03480" y="3808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03480" y="6094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637000"/>
            <a:ext cx="43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32280" y="2179800"/>
            <a:ext cx="743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03480" y="8358120"/>
            <a:ext cx="2381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POSI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44720" y="5952960"/>
            <a:ext cx="3292560" cy="210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44720" y="3591000"/>
            <a:ext cx="329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03480" y="3808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03480" y="6094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27160" y="2637000"/>
            <a:ext cx="43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2280" y="2179800"/>
            <a:ext cx="743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3480" y="8358120"/>
            <a:ext cx="2381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POSI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44720" y="3514680"/>
            <a:ext cx="3292560" cy="2103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844720" y="5877000"/>
            <a:ext cx="329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03480" y="3808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03480" y="6094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27160" y="2637000"/>
            <a:ext cx="43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32280" y="2179800"/>
            <a:ext cx="743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03480" y="8358120"/>
            <a:ext cx="2381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POSI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4720" y="5877000"/>
            <a:ext cx="3292560" cy="2103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844720" y="3514680"/>
            <a:ext cx="329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03480" y="3808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03480" y="6094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27160" y="2637000"/>
            <a:ext cx="3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32280" y="2179800"/>
            <a:ext cx="743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03480" y="8358120"/>
            <a:ext cx="2381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POSITI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44720" y="3591000"/>
            <a:ext cx="3292560" cy="2103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844720" y="5952960"/>
            <a:ext cx="329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203480" y="3808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03480" y="6094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27160" y="2637000"/>
            <a:ext cx="3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32280" y="2179800"/>
            <a:ext cx="743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03480" y="8358120"/>
            <a:ext cx="2381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POSIT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44720" y="5877000"/>
            <a:ext cx="3292560" cy="2103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844720" y="3438360"/>
            <a:ext cx="329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203480" y="3808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03480" y="6094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27160" y="2637000"/>
            <a:ext cx="43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32280" y="2179800"/>
            <a:ext cx="760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ADS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03480" y="8358120"/>
            <a:ext cx="2381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POSITIO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844720" y="3438360"/>
            <a:ext cx="3292560" cy="2103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844720" y="5800680"/>
            <a:ext cx="329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03480" y="3808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03480" y="6094440"/>
            <a:ext cx="1494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 PF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19000" y="20304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ST 20 SINGLE ENDED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20574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46280" y="18748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50840" y="1798560"/>
            <a:ext cx="5062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”                            68”                           8”    8”    8”    8”    8”    8”    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50840" y="210348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27160" y="2637000"/>
            <a:ext cx="48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50840" y="24843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80040" y="195120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32280" y="2179800"/>
            <a:ext cx="743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X 2.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7680" y="30178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ICE      7                                                      6      5     4    3      2      1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60680" y="14698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 (10 FEET) OVERAL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03480" y="8358120"/>
            <a:ext cx="3460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POSITION 7 (DR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844720" y="5952960"/>
            <a:ext cx="3292560" cy="2103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844720" y="3591000"/>
            <a:ext cx="329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iam E. Ham</dc:creator>
  <dc:description>PRESENTED AT SEPT 1994 WG</dc:description>
  <dc:language>en-US</dc:language>
  <cp:lastModifiedBy>William E. Ham</cp:lastModifiedBy>
  <cp:revision>0</cp:revision>
  <dc:subject/>
  <dc:title>20 PF VS 25 PF FAST 20 DATA</dc:title>
</cp:coreProperties>
</file>