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1066680" y="2057400"/>
            <a:ext cx="7162920" cy="41148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" name="" descr=""/>
          <p:cNvPicPr/>
          <p:nvPr/>
        </p:nvPicPr>
        <p:blipFill>
          <a:blip r:embed="rId2"/>
          <a:stretch/>
        </p:blipFill>
        <p:spPr>
          <a:xfrm>
            <a:off x="6400800" y="6210360"/>
            <a:ext cx="1622520" cy="40320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1066680" y="2057400"/>
            <a:ext cx="7162920" cy="41148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.3 Volt SCSI Termpw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1050840" y="6148440"/>
            <a:ext cx="39067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3T10 Committee X3T10/94-164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ge 1   July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3 Volts doesn’t work with a diode Dr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3 Volts minus tolerance minus diode drop is less than 3.0 Vo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3 Volt systems should connect to 5 Volt SCSI termpwr requiring a regulator for 3.0 to 5.25 Volt oper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Unidirectional Circuit Breaker Required for less than 0.2 Volt drop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ection 7.3 Add note Use a Unidirectional Circuit Breaker for 3.3 Volt systems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Arial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Change SPI Table 7 (add) 3.3 Volt Single-ended 3,00 VDC Min 5,25 VDC Max 1500 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927760" y="204840"/>
            <a:ext cx="2306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1066680" y="2057400"/>
            <a:ext cx="7162920" cy="41148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3.3 Volt Requires 3.0 Volt terminators at the far end or power from an other devi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tandard termination requires at least 4.0 Vo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Not all 3.3 Volt systems can provide power for the far end terminator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3.3 Volt Terminators must work to 5.25 Volt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Special Icons showing users the limitations to Annex H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3.3 Volt Basic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5622840" y="6377040"/>
            <a:ext cx="1123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 txBox="1"/>
          <p:nvPr/>
        </p:nvSpPr>
        <p:spPr>
          <a:xfrm>
            <a:off x="1020600" y="6324480"/>
            <a:ext cx="4389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3T10 Committee X3T10/94-164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2   July 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3657600" y="5334120"/>
            <a:ext cx="685800" cy="2286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 txBox="1"/>
          <p:nvPr/>
        </p:nvSpPr>
        <p:spPr>
          <a:xfrm>
            <a:off x="4327560" y="5227560"/>
            <a:ext cx="306396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Circle/Slash used when Termpwr is not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adequate for the far 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1"/>
          <a:stretch/>
        </p:blipFill>
        <p:spPr>
          <a:xfrm>
            <a:off x="1112760" y="3886200"/>
            <a:ext cx="2620800" cy="2438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"/>
          <p:cNvSpPr/>
          <p:nvPr/>
        </p:nvSpPr>
        <p:spPr>
          <a:xfrm>
            <a:off x="1143000" y="2057400"/>
            <a:ext cx="7086600" cy="41148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SCSI-2 Alternative Optional 2.7 V, 0.3 Volt maximum drop out regulator with 110 ohm resistors meet SCSI-3 24 mA at 0.2V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ttery systems often require termpwr to be supplied externall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Termpwr could be from a 5.25 Volt source, which requires all 3.3 Volt systems to run with 3.0 to 5.25 Volt Termpwr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dd section to 7.1.1  3.3 Volt Systems the terminators must regulate with Termpwr from 3,0 VDC to 5,25 VDC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 txBox="1"/>
          <p:nvPr/>
        </p:nvSpPr>
        <p:spPr>
          <a:xfrm>
            <a:off x="1050840" y="6148440"/>
            <a:ext cx="3906720" cy="549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3T10 Committee X3T10/94-164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Page 3   July 199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990720" y="2057400"/>
            <a:ext cx="7238880" cy="4114800"/>
          </a:xfrm>
          <a:prstGeom prst="rect">
            <a:avLst/>
          </a:prstGeom>
          <a:solidFill>
            <a:srgbClr val="919191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990720" y="609480"/>
            <a:ext cx="7162920" cy="114300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algn="ctr">
              <a:lnSpc>
                <a:spcPct val="90000"/>
              </a:lnSpc>
            </a:pPr>
            <a:r>
              <a:rPr b="1" lang="en-US" sz="3600" spc="-1" strike="noStrike">
                <a:solidFill>
                  <a:srgbClr val="000000"/>
                </a:solidFill>
                <a:latin typeface="Arial"/>
                <a:ea typeface="Arial"/>
              </a:rPr>
              <a:t>Low Power Mod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 txBox="1"/>
          <p:nvPr/>
        </p:nvSpPr>
        <p:spPr>
          <a:xfrm>
            <a:off x="990720" y="1981080"/>
            <a:ext cx="7162920" cy="4114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0" rIns="0" tIns="0" bIns="0" anchor="t">
            <a:noAutofit/>
          </a:bodyPr>
          <a:p>
            <a:pPr marL="285840" indent="-28584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Battery systems with short buses do not need standard termination current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Buses less than 0.3 meters within an enclosur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Reduce currents down to 1m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Switch to normal termination when a cable is attached, recommended Signal Line 50 used to detect the cabl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685800" indent="-228600">
              <a:lnSpc>
                <a:spcPct val="90000"/>
              </a:lnSpc>
              <a:spcBef>
                <a:spcPts val="720"/>
              </a:spcBef>
              <a:buClr>
                <a:srgbClr val="000000"/>
              </a:buClr>
              <a:buFont typeface="Monotype Sorts"/>
              <a:buChar char=""/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Add an informative annex for Laptops termination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5546880" y="6224760"/>
            <a:ext cx="1123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1020600" y="6324480"/>
            <a:ext cx="41608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X3T10 Committee X3T10/94-164R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  <a:ea typeface="Arial"/>
              </a:rPr>
              <a:t>Page 4  July 1994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Paul Aloisi</dc:creator>
  <dc:description/>
  <dc:language>en-US</dc:language>
  <cp:lastModifiedBy>Paul Aloisi</cp:lastModifiedBy>
  <cp:revision>0</cp:revision>
  <dc:subject/>
  <dc:title>3.3 Volt SCSI Termination</dc:title>
</cp:coreProperties>
</file>