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1736640" y="8602560"/>
            <a:ext cx="402264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BILL HAM  DIGITAL EQUIPMENT SCSI PLENARY JULY 21, 1994</a:t>
            </a:r>
            <a:endParaRPr b="0" lang="en-US" sz="1000" spc="-1" strike="noStrike">
              <a:solidFill>
                <a:srgbClr val="000000"/>
              </a:solidFill>
              <a:latin typeface="Arial"/>
            </a:endParaRPr>
          </a:p>
        </p:txBody>
      </p:sp>
      <p:sp>
        <p:nvSpPr>
          <p:cNvPr id="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514440" y="279360"/>
            <a:ext cx="5829480" cy="1523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FAST 20 SCSI</a:t>
            </a:r>
            <a:br>
              <a:rPr sz="2400"/>
            </a:br>
            <a:r>
              <a:rPr b="1" lang="en-US" sz="2400" spc="-1" strike="noStrike">
                <a:solidFill>
                  <a:srgbClr val="000000"/>
                </a:solidFill>
                <a:latin typeface="Arial"/>
                <a:ea typeface="Arial"/>
              </a:rPr>
              <a:t>DEVICE CAPACITANCE VALUE</a:t>
            </a:r>
            <a:endParaRPr b="0" lang="en-US" sz="2400" spc="-1" strike="noStrike">
              <a:solidFill>
                <a:srgbClr val="000000"/>
              </a:solidFill>
              <a:latin typeface="Arial"/>
            </a:endParaRPr>
          </a:p>
        </p:txBody>
      </p:sp>
      <p:sp>
        <p:nvSpPr>
          <p:cNvPr id="40" name=""/>
          <p:cNvSpPr txBox="1"/>
          <p:nvPr/>
        </p:nvSpPr>
        <p:spPr>
          <a:xfrm>
            <a:off x="514440" y="2260440"/>
            <a:ext cx="5829480" cy="5486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TWO VALUES FOR THE MAXIMUM CAPACITANCE AT THE FAST 20 DEVICE CONNECTOR ARE PRESENTLY UNDER DISCUSSION --- 20 pF AND 25 pF</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THE 25 pF VALUE IS THE SAME AS FOR SCSI-2 AND SCSI-3 SPI: IT IS ALSO THE VALUE USED FOR ALL SINGLE ENDED FAST 20 TEST RESULTS TO DAT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THE 20 pF VALUE IS BEING CONSIDERED BECAUSE IT WILL GIVE MORE NOISE MARGIN IF ALL (OR MOST) DEVICES ON THE BUS USE I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THERE IS SIGNIFICANT DISAGREEMENT WITHIN X3T10 ON THE VALUE TO BE USED FOR FAST 20</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THIS IS THE ONLY AREA OF THE FAST 20 DRAFT SPECIFICATION WHERE ANY DISAGREEMENT PRESENTLY EXI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514440" y="1650960"/>
            <a:ext cx="5829480" cy="61934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SINCE ALL EXISTING SCSI-2 AND SPI DEVICES MUST MEET THE 25 pF VALUE ONE MAY CONFIGURE ANY SCSI SYSTEM USING THE PRESENT FAST 20 RULES WITHOUT REGARD FOR THE MIX OR PLACEMENT ON THE BU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25 pF PRESERVES THE PRESENT COST STRUCTURE IN THE SILICON, BOARDS, AND SWITCHABLE TERMINATOR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ANY CHANGE FROM 25 pF WILL INVALIDATE THE PRESENT FAST 20 CONFIGURATION RUL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NOT ACCEPTING THE 25 pF VALUE WILL DELAY BOTH IMPLEMENTATIONS AND THE FORWARDING OF THE FAST 20 DOCU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IT WILL REQUIRE LARGE DECREASES IN CAPACITANCE (PROBABLY TO AROUND 10 pF) TO ACHEIVE THE INCIDENT WAVE SWITCHING REQUIRED FOR LONGER BUS LENGTHS AND FULL SPI LEVEL DEVICE COUNTS</a:t>
            </a:r>
            <a:endParaRPr b="0" lang="en-US" sz="2000" spc="-1" strike="noStrike">
              <a:solidFill>
                <a:srgbClr val="000000"/>
              </a:solidFill>
              <a:latin typeface="Arial"/>
            </a:endParaRPr>
          </a:p>
        </p:txBody>
      </p:sp>
      <p:sp>
        <p:nvSpPr>
          <p:cNvPr id="42" name=""/>
          <p:cNvSpPr txBox="1"/>
          <p:nvPr/>
        </p:nvSpPr>
        <p:spPr>
          <a:xfrm>
            <a:off x="514440" y="203040"/>
            <a:ext cx="5829480" cy="1523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FAST 20 SCSI</a:t>
            </a:r>
            <a:br>
              <a:rPr sz="2400"/>
            </a:br>
            <a:r>
              <a:rPr b="1" lang="en-US" sz="2400" spc="-1" strike="noStrike">
                <a:solidFill>
                  <a:srgbClr val="000000"/>
                </a:solidFill>
                <a:latin typeface="Arial"/>
                <a:ea typeface="Arial"/>
              </a:rPr>
              <a:t>DEVICE CAPACITANCE VALU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THE CASE FOR 25 p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514440" y="2108160"/>
            <a:ext cx="5829480" cy="5486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20 pF WILL INCREASE THE NOISE MARGIN WITH THE PRESENT FAST 20 RUL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IT MAY BE POSSIBLE TO ACHEIVE MARGINAL INCREASES IN DEVICE COUNT FOR FAST 20 (KEEPING EVERYTHING ELSE AS I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20 pF ENCOURAGES ALL SCSI IMPLEMENTATIONS TO USE LOWER CAPACITANCE -- WHERE ADOPTED MORE ROBUST OPERATION IS EXPECT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IF THE 20 pF VALUE IS REQUIRED, BACKWARDS COMPATIBILITY IS STILL MAINTAINED IF THE PRESENT FAST 20 CONFIGURATION RULES ARE US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NEW, MORE RELAXED, CONFIGURATION RULES FOR FAST 20 MAY BE POSSIBLE</a:t>
            </a:r>
            <a:endParaRPr b="0" lang="en-US" sz="2000" spc="-1" strike="noStrike">
              <a:solidFill>
                <a:srgbClr val="000000"/>
              </a:solidFill>
              <a:latin typeface="Arial"/>
            </a:endParaRPr>
          </a:p>
        </p:txBody>
      </p:sp>
      <p:sp>
        <p:nvSpPr>
          <p:cNvPr id="44" name=""/>
          <p:cNvSpPr txBox="1"/>
          <p:nvPr/>
        </p:nvSpPr>
        <p:spPr>
          <a:xfrm>
            <a:off x="514440" y="203040"/>
            <a:ext cx="5829480" cy="1523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FAST 20 SCSI</a:t>
            </a:r>
            <a:br>
              <a:rPr sz="2400"/>
            </a:br>
            <a:r>
              <a:rPr b="1" lang="en-US" sz="2400" spc="-1" strike="noStrike">
                <a:solidFill>
                  <a:srgbClr val="000000"/>
                </a:solidFill>
                <a:latin typeface="Arial"/>
                <a:ea typeface="Arial"/>
              </a:rPr>
              <a:t>DEVICE CAPACITANCE VALU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THE CASE FOR 20 p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14440" y="203040"/>
            <a:ext cx="5829480" cy="15238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SOME OPTIONS</a:t>
            </a:r>
            <a:endParaRPr b="0" lang="en-US" sz="2400" spc="-1" strike="noStrike">
              <a:solidFill>
                <a:srgbClr val="000000"/>
              </a:solidFill>
              <a:latin typeface="Arial"/>
            </a:endParaRPr>
          </a:p>
        </p:txBody>
      </p:sp>
      <p:sp>
        <p:nvSpPr>
          <p:cNvPr id="46" name=""/>
          <p:cNvSpPr txBox="1"/>
          <p:nvPr/>
        </p:nvSpPr>
        <p:spPr>
          <a:xfrm>
            <a:off x="514440" y="2031840"/>
            <a:ext cx="5829480" cy="5486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ACCEPT THE 25 pF VALUE AND GET ON WITH FORWARDING THE DOCUMENT (AN ANNEX WILL EXPLAIN THE BENEFITS AND COMPLEXITIES OF USING LOWER VALU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AS ABOVE BUT WITH  THE 20 pF VALUE INSTEAD OF THE 25 pF VALUE (NO OTHER WORDING CHANGES IN THE FAST 20 DOCUMENT) AND FORWARD THE DOCU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ACCEPT THE 20 pF VALUE AND DEVELOP NEW CONFIGURATION RULES FOR PURE FAST 20 SYSTEM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000" spc="-1" strike="noStrike">
                <a:solidFill>
                  <a:srgbClr val="000000"/>
                </a:solidFill>
                <a:latin typeface="Arial"/>
                <a:ea typeface="Arial"/>
              </a:rPr>
              <a:t>ACCEPT THE 20 pF VALUE AND DEVELOP NEW CONFIGURATION RULES FOR MIXED FAST 20 AND SCSI-2/SPI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M</dc:creator>
  <dc:description/>
  <dc:language>en-US</dc:language>
  <cp:lastModifiedBy>William E. Ham</cp:lastModifiedBy>
  <cp:revision>0</cp:revision>
  <dc:subject/>
  <dc:title>CAPACITANCE OPTIONS FAST 20 SCSI</dc:title>
</cp:coreProperties>
</file>