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804-8263-40AA-B21B-ABE41103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0F9-DB78-453F-A2BC-7BD90A50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508-3795-4ECB-95A4-5407BBE2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8DB-0662-4A68-A51C-6B274FC7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99C-4E94-45C0-9738-580B7C26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391-4E46-4D82-84BA-FD03704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3F9-56B9-4EC5-B7B2-64528DA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B21-3562-4720-8E9A-CF453BED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D8F-2B81-4922-8E16-578A16F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1E9-BA7E-4F93-8411-33D44AD3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86F-C5E9-451A-8A84-4DFF53B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280-4234-4F5F-B7B5-46F24BA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85DA-060B-48BA-942F-7CCEDF34A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SR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st model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4876920"/>
            <a:ext cx="3124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Permission is granted to members of INCITS, its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committees and their associated task groups to reprod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this document for the purposes of INCITS standard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activities, provided this notice is includ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hos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80" y="3389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0" y="3824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6668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64K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362320" y="4952880"/>
            <a:ext cx="2743200" cy="228600"/>
            <a:chOff x="2362320" y="4952880"/>
            <a:chExt cx="2743200" cy="228600"/>
          </a:xfrm>
        </p:grpSpPr>
        <p:sp>
          <p:nvSpPr>
            <p:cNvPr id="50" name=""/>
            <p:cNvSpPr/>
            <p:nvPr/>
          </p:nvSpPr>
          <p:spPr>
            <a:xfrm>
              <a:off x="23623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95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97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769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67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625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55520" y="457200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Writ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48" idx="3"/>
            <a:endCxn id="50" idx="0"/>
          </p:cNvCxnSpPr>
          <p:nvPr/>
        </p:nvCxnSpPr>
        <p:spPr>
          <a:xfrm>
            <a:off x="1143000" y="2781360"/>
            <a:ext cx="1334160" cy="2171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1"/>
            <a:endCxn id="48" idx="2"/>
          </p:cNvCxnSpPr>
          <p:nvPr/>
        </p:nvCxnSpPr>
        <p:spPr>
          <a:xfrm rot="10800000">
            <a:off x="1028160" y="2894760"/>
            <a:ext cx="1334160" cy="2172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7080" y="228600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write block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920" y="4191120"/>
            <a:ext cx="14518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eck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non-recove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71800" y="1828800"/>
            <a:ext cx="3886200" cy="228600"/>
            <a:chOff x="2971800" y="1828800"/>
            <a:chExt cx="3886200" cy="228600"/>
          </a:xfrm>
        </p:grpSpPr>
        <p:grpSp>
          <p:nvGrpSpPr>
            <p:cNvPr id="68" name=""/>
            <p:cNvGrpSpPr/>
            <p:nvPr/>
          </p:nvGrpSpPr>
          <p:grpSpPr>
            <a:xfrm>
              <a:off x="2971800" y="1828800"/>
              <a:ext cx="2743200" cy="228600"/>
              <a:chOff x="2971800" y="1828800"/>
              <a:chExt cx="2743200" cy="228600"/>
            </a:xfrm>
          </p:grpSpPr>
          <p:sp>
            <p:nvSpPr>
              <p:cNvPr id="69" name=""/>
              <p:cNvSpPr/>
              <p:nvPr/>
            </p:nvSpPr>
            <p:spPr>
              <a:xfrm>
                <a:off x="29718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004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290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76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006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292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2578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864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862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148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434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720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7150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64K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" name=""/>
          <p:cNvCxnSpPr>
            <a:stCxn id="50" idx="0"/>
            <a:endCxn id="69" idx="1"/>
          </p:cNvCxnSpPr>
          <p:nvPr/>
        </p:nvCxnSpPr>
        <p:spPr>
          <a:xfrm flipH="1" flipV="1" rot="5400000">
            <a:off x="1218960" y="3200040"/>
            <a:ext cx="301032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855800" y="2514600"/>
            <a:ext cx="17290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Check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or recove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14360" y="3124080"/>
            <a:ext cx="120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ITE10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47920" y="6172200"/>
            <a:ext cx="6400800" cy="228600"/>
            <a:chOff x="1447920" y="6172200"/>
            <a:chExt cx="6400800" cy="228600"/>
          </a:xfrm>
        </p:grpSpPr>
        <p:grpSp>
          <p:nvGrpSpPr>
            <p:cNvPr id="90" name=""/>
            <p:cNvGrpSpPr/>
            <p:nvPr/>
          </p:nvGrpSpPr>
          <p:grpSpPr>
            <a:xfrm>
              <a:off x="1905120" y="6172200"/>
              <a:ext cx="2743200" cy="228600"/>
              <a:chOff x="1905120" y="6172200"/>
              <a:chExt cx="2743200" cy="228600"/>
            </a:xfrm>
          </p:grpSpPr>
          <p:sp>
            <p:nvSpPr>
              <p:cNvPr id="91" name=""/>
              <p:cNvSpPr/>
              <p:nvPr/>
            </p:nvSpPr>
            <p:spPr>
              <a:xfrm>
                <a:off x="1905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33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362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90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33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62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91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19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8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76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05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48320" y="6172200"/>
              <a:ext cx="2743200" cy="228600"/>
              <a:chOff x="4648320" y="6172200"/>
              <a:chExt cx="2743200" cy="228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648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76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05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4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77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05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34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62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62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1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19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6765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79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201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15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191480" y="57913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57" idx="3"/>
            <a:endCxn id="119" idx="0"/>
          </p:cNvCxnSpPr>
          <p:nvPr/>
        </p:nvCxnSpPr>
        <p:spPr>
          <a:xfrm>
            <a:off x="5105160" y="5067000"/>
            <a:ext cx="2400840" cy="110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874480" y="525780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ite from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12120" y="144792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buffer for deferred error reporting (FIF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44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3840" y="160020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ceed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971800"/>
            <a:ext cx="175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4480" y="2438280"/>
            <a:ext cx="268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defect management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H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endCxn id="79" idx="2"/>
          </p:cNvCxnSpPr>
          <p:nvPr/>
        </p:nvCxnSpPr>
        <p:spPr>
          <a:xfrm rot="10800000">
            <a:off x="4457160" y="2056680"/>
            <a:ext cx="2400840" cy="2363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887280" y="3124080"/>
            <a:ext cx="2098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erred error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ET PERFORM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3880" y="4267080"/>
            <a:ext cx="249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Verify P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t needing the write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76" idx="2"/>
            <a:endCxn id="126" idx="1"/>
          </p:cNvCxnSpPr>
          <p:nvPr/>
        </p:nvCxnSpPr>
        <p:spPr>
          <a:xfrm flipH="1" rot="16200000">
            <a:off x="5753160" y="1904760"/>
            <a:ext cx="102960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73" idx="2"/>
            <a:endCxn id="126" idx="1"/>
          </p:cNvCxnSpPr>
          <p:nvPr/>
        </p:nvCxnSpPr>
        <p:spPr>
          <a:xfrm flipH="1" rot="16200000">
            <a:off x="5409360" y="1562040"/>
            <a:ext cx="1029600" cy="2019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963680" y="2241720"/>
            <a:ext cx="136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ectiv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al host deferred error reporting buffer, assuming N is the host buffer size and N also equals the device write buff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80" y="3389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0" y="3824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6668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62320" y="4952880"/>
            <a:ext cx="2743200" cy="228600"/>
            <a:chOff x="2362320" y="4952880"/>
            <a:chExt cx="2743200" cy="228600"/>
          </a:xfrm>
        </p:grpSpPr>
        <p:sp>
          <p:nvSpPr>
            <p:cNvPr id="140" name=""/>
            <p:cNvSpPr/>
            <p:nvPr/>
          </p:nvSpPr>
          <p:spPr>
            <a:xfrm>
              <a:off x="23623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97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483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769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39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95288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81840" y="4572000"/>
            <a:ext cx="28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Write Buffer (simple FIF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38" idx="3"/>
            <a:endCxn id="140" idx="0"/>
          </p:cNvCxnSpPr>
          <p:nvPr/>
        </p:nvCxnSpPr>
        <p:spPr>
          <a:xfrm>
            <a:off x="1143000" y="2781360"/>
            <a:ext cx="1334160" cy="2171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0" idx="1"/>
            <a:endCxn id="138" idx="2"/>
          </p:cNvCxnSpPr>
          <p:nvPr/>
        </p:nvCxnSpPr>
        <p:spPr>
          <a:xfrm rot="10800000">
            <a:off x="1028160" y="2894760"/>
            <a:ext cx="1334160" cy="2172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7080" y="228600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write block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7760" y="4191120"/>
            <a:ext cx="176868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a)Check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non-recove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+1 kept in write block bu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40" idx="0"/>
          </p:cNvCxnSpPr>
          <p:nvPr/>
        </p:nvCxnSpPr>
        <p:spPr>
          <a:xfrm flipH="1" flipV="1" rot="5400000">
            <a:off x="1218960" y="3200040"/>
            <a:ext cx="301032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1413000" y="2514600"/>
            <a:ext cx="262080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b)No Check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or recove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CC block 1 has been verified without finding an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8680" y="3124080"/>
            <a:ext cx="1735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1)(5a)WRITE10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47920" y="6172200"/>
            <a:ext cx="6400800" cy="228600"/>
            <a:chOff x="1447920" y="6172200"/>
            <a:chExt cx="6400800" cy="228600"/>
          </a:xfrm>
        </p:grpSpPr>
        <p:grpSp>
          <p:nvGrpSpPr>
            <p:cNvPr id="161" name=""/>
            <p:cNvGrpSpPr/>
            <p:nvPr/>
          </p:nvGrpSpPr>
          <p:grpSpPr>
            <a:xfrm>
              <a:off x="1905120" y="6172200"/>
              <a:ext cx="2743200" cy="228600"/>
              <a:chOff x="1905120" y="6172200"/>
              <a:chExt cx="2743200" cy="228600"/>
            </a:xfrm>
          </p:grpSpPr>
          <p:sp>
            <p:nvSpPr>
              <p:cNvPr id="162" name=""/>
              <p:cNvSpPr/>
              <p:nvPr/>
            </p:nvSpPr>
            <p:spPr>
              <a:xfrm>
                <a:off x="1905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33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62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90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33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62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91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9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19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8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76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05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648320" y="6172200"/>
              <a:ext cx="2743200" cy="228600"/>
              <a:chOff x="4648320" y="6172200"/>
              <a:chExt cx="2743200" cy="228600"/>
            </a:xfrm>
          </p:grpSpPr>
          <p:sp>
            <p:nvSpPr>
              <p:cNvPr id="175" name=""/>
              <p:cNvSpPr/>
              <p:nvPr/>
            </p:nvSpPr>
            <p:spPr>
              <a:xfrm>
                <a:off x="4648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76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05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34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771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05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34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62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627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13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199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48520" y="61722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6765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9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01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91520" y="617220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191480" y="57913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47" idx="3"/>
            <a:endCxn id="190" idx="0"/>
          </p:cNvCxnSpPr>
          <p:nvPr/>
        </p:nvCxnSpPr>
        <p:spPr>
          <a:xfrm>
            <a:off x="5105160" y="5067000"/>
            <a:ext cx="2400840" cy="110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874480" y="525780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ite from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75800" y="129528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buffer for deferred error reporting (FIF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944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41200" y="160020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(3b) 1 exceed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eshold and is rem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2971800"/>
            <a:ext cx="175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14480" y="2438280"/>
            <a:ext cx="268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defect management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H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/>
          <p:nvPr/>
        </p:nvCxnSpPr>
        <p:spPr>
          <a:xfrm rot="10800000">
            <a:off x="4457160" y="2056680"/>
            <a:ext cx="2400840" cy="2363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267720" y="3003480"/>
            <a:ext cx="3335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3a)N+1 write fail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RITE ERROR, RECOVERY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 GET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3880" y="4267080"/>
            <a:ext cx="249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Verify P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t needing the write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197" idx="1"/>
          </p:cNvCxnSpPr>
          <p:nvPr/>
        </p:nvCxnSpPr>
        <p:spPr>
          <a:xfrm flipH="1" rot="16200000">
            <a:off x="5753160" y="1904760"/>
            <a:ext cx="102960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endCxn id="197" idx="1"/>
          </p:cNvCxnSpPr>
          <p:nvPr/>
        </p:nvCxnSpPr>
        <p:spPr>
          <a:xfrm flipH="1" rot="16200000">
            <a:off x="5409360" y="1562040"/>
            <a:ext cx="1029600" cy="2019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4963680" y="2241720"/>
            <a:ext cx="136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4a)Ke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ectiv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971800" y="1828800"/>
            <a:ext cx="2743200" cy="228600"/>
            <a:chOff x="2971800" y="1828800"/>
            <a:chExt cx="2743200" cy="228600"/>
          </a:xfrm>
        </p:grpSpPr>
        <p:sp>
          <p:nvSpPr>
            <p:cNvPr id="206" name=""/>
            <p:cNvSpPr/>
            <p:nvPr/>
          </p:nvSpPr>
          <p:spPr>
            <a:xfrm>
              <a:off x="29718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4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06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78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64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62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4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23:19:44Z</dcterms:created>
  <dc:creator>David Burg</dc:creator>
  <dc:description/>
  <dc:language>en-US</dc:language>
  <cp:lastModifiedBy>David Burg</cp:lastModifiedBy>
  <dcterms:modified xsi:type="dcterms:W3CDTF">2005-04-19T15:14:28Z</dcterms:modified>
  <cp:revision>14</cp:revision>
  <dc:subject/>
  <dc:title>TSR Buffers</dc:title>
</cp:coreProperties>
</file>