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2F2-5C7D-464B-85E1-BD5E4DD1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E76-F351-4522-9CCA-496527A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662-61FC-4462-8376-948A3878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F32-A21E-4DCB-BCFA-211DC549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48B-5F92-474C-A968-B6112BA6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C1D-6E27-4187-BDB3-51EA6BF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E7E-9C21-4128-B9E0-CFF522ED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590-66FF-4715-9821-36102DAD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387-9E17-4D94-B637-45446CD3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64D-2516-4BC3-91CC-2453219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BDE-68F8-4660-9F76-B3725BC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326-58BB-40F7-9BFB-B6960B7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205-5AB1-4A64-9C1F-FD5A42DC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imely Safe Reco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aranteed fast, guaranteed safe record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257800"/>
            <a:ext cx="3124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Permission is granted to members of INCITS, its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committees and their associated task groups to reprod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this document for the purposes of INCITS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activities, provided this notice is includ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S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drives with Hardware Def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phases re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poned def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stened write with ve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e diagram of T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1181160"/>
          <a:ext cx="685980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81160"/>
                    <a:ext cx="68598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876920"/>
            <a:ext cx="6400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876920"/>
            <a:ext cx="838440" cy="533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ear replacement or software re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362320"/>
            <a:ext cx="6400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2362320"/>
            <a:ext cx="16002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r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3623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3623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876920"/>
            <a:ext cx="16002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r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4" idx="2"/>
            <a:endCxn id="58" idx="2"/>
          </p:cNvCxnSpPr>
          <p:nvPr/>
        </p:nvCxnSpPr>
        <p:spPr>
          <a:xfrm flipH="1" rot="16200000">
            <a:off x="4380480" y="228960"/>
            <a:ext cx="2520" cy="5334480"/>
          </a:xfrm>
          <a:prstGeom prst="curvedConnector5">
            <a:avLst>
              <a:gd name="adj1" fmla="val 14400000"/>
              <a:gd name="adj2" fmla="val 49996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60" idx="2"/>
          </p:cNvCxnSpPr>
          <p:nvPr/>
        </p:nvCxnSpPr>
        <p:spPr>
          <a:xfrm flipH="1" rot="16200000">
            <a:off x="4647240" y="419760"/>
            <a:ext cx="2520" cy="49532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010280" y="2362320"/>
            <a:ext cx="763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362320"/>
            <a:ext cx="763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48769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8769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828440" y="510516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838440"/>
              <a:gd name="textAreaBottom" fmla="*/ 772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876920"/>
            <a:ext cx="838080" cy="5331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93760" y="5659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deo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3"/>
            <a:endCxn id="64" idx="2"/>
          </p:cNvCxnSpPr>
          <p:nvPr/>
        </p:nvCxnSpPr>
        <p:spPr>
          <a:xfrm flipV="1">
            <a:off x="2682360" y="5409720"/>
            <a:ext cx="2156400" cy="4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509280" y="320040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a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80680" y="5943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re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9840" y="171288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usua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9120" y="4151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stream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7010280" y="3047760"/>
            <a:ext cx="152280" cy="15264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152640"/>
              <a:gd name="textAreaBottom" fmla="*/ 1407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37480" y="315756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tially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28600" y="274680"/>
          <a:ext cx="8686800" cy="64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680"/>
                    <a:ext cx="8686800" cy="64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ase differentiation on POW – see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7.3.0 Implementation notes for the Logical Un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o report errors – see “TSR reporting threshold.pp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rizing bad ECCs – see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7.3.0 Implementation notes for the Logical Un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ftware reallocation: not too hard? – already performed in today’s hos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aris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433760"/>
        </p:xfrm>
        <a:graphic>
          <a:graphicData uri="http://schemas.openxmlformats.org/drawingml/2006/table">
            <a:tbl>
              <a:tblPr/>
              <a:tblGrid>
                <a:gridCol w="2681280"/>
                <a:gridCol w="2017800"/>
                <a:gridCol w="1963800"/>
                <a:gridCol w="15667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defect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defect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y Safe Recor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defect det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pent in see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/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with defect management (software realloc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defect management (sequential writing of spa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mless play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to Host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acy compat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with MR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 cho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 have defect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5:18:27Z</dcterms:created>
  <dc:creator>David Burg</dc:creator>
  <dc:description/>
  <dc:language>en-US</dc:language>
  <cp:lastModifiedBy>David Burg</cp:lastModifiedBy>
  <dcterms:modified xsi:type="dcterms:W3CDTF">2005-04-19T15:14:38Z</dcterms:modified>
  <cp:revision>21</cp:revision>
  <dc:subject/>
  <dc:title>Timely Safe Recording</dc:title>
</cp:coreProperties>
</file>