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1CF-358F-4944-9EEA-09F864AB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099-0D5E-4273-84CE-BD576D3C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F47-A9AA-431D-B569-A76F2C00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CD4-3449-4A9E-AA0C-C21CF598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604-FF7B-444E-A9E1-D07A481C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68A-8386-4258-9A20-567D6184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3C2-96E4-4C11-A13F-050BBCE3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320-7EB0-4377-B284-40CCC9A4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958-3EF8-4E71-B41B-44C768FB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7E5-A51E-437D-B628-85CD66F6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002-9FFA-4231-A68C-9C0A3068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326-92D2-45F5-8928-E26E3CEB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E93F-F0B8-4699-A1E7-BB4431508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SR error reporting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ppens when threshold is re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334120"/>
            <a:ext cx="31240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Permission is granted to members of INCITS, its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committees and their associated task groups to reprodu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this document for the purposes of INCITS standard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##    activities, provided this notice is includ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shold rea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280" y="3389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0" y="3824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6668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+X+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362320" y="4572000"/>
            <a:ext cx="2743200" cy="228600"/>
            <a:chOff x="2362320" y="4572000"/>
            <a:chExt cx="2743200" cy="228600"/>
          </a:xfrm>
        </p:grpSpPr>
        <p:sp>
          <p:nvSpPr>
            <p:cNvPr id="50" name=""/>
            <p:cNvSpPr/>
            <p:nvPr/>
          </p:nvSpPr>
          <p:spPr>
            <a:xfrm>
              <a:off x="23623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+X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09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+x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95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97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769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Y&gt;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767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9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62520" y="45720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55520" y="419112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vice Writ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48" idx="3"/>
            <a:endCxn id="50" idx="0"/>
          </p:cNvCxnSpPr>
          <p:nvPr/>
        </p:nvCxnSpPr>
        <p:spPr>
          <a:xfrm>
            <a:off x="1143000" y="2781360"/>
            <a:ext cx="1334160" cy="1791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1"/>
            <a:endCxn id="48" idx="2"/>
          </p:cNvCxnSpPr>
          <p:nvPr/>
        </p:nvCxnSpPr>
        <p:spPr>
          <a:xfrm rot="10800000">
            <a:off x="1028160" y="2894760"/>
            <a:ext cx="1334160" cy="1791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7080" y="228600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st write block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6000" y="4191120"/>
            <a:ext cx="16696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)Check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NG WRITE IN 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6)Check 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f error f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71800" y="1828800"/>
            <a:ext cx="3886200" cy="228600"/>
            <a:chOff x="2971800" y="1828800"/>
            <a:chExt cx="3886200" cy="228600"/>
          </a:xfrm>
        </p:grpSpPr>
        <p:grpSp>
          <p:nvGrpSpPr>
            <p:cNvPr id="68" name=""/>
            <p:cNvGrpSpPr/>
            <p:nvPr/>
          </p:nvGrpSpPr>
          <p:grpSpPr>
            <a:xfrm>
              <a:off x="2971800" y="1828800"/>
              <a:ext cx="2743200" cy="228600"/>
              <a:chOff x="2971800" y="1828800"/>
              <a:chExt cx="2743200" cy="228600"/>
            </a:xfrm>
          </p:grpSpPr>
          <p:sp>
            <p:nvSpPr>
              <p:cNvPr id="69" name=""/>
              <p:cNvSpPr/>
              <p:nvPr/>
            </p:nvSpPr>
            <p:spPr>
              <a:xfrm>
                <a:off x="29718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+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004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+X-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4290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576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006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292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2578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4864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862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148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434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72000" y="182880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7150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22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08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182880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181160" y="3124080"/>
            <a:ext cx="1469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1)WRITE10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5)(9)Retry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447920" y="5867280"/>
            <a:ext cx="6400800" cy="228600"/>
            <a:chOff x="1447920" y="5867280"/>
            <a:chExt cx="6400800" cy="228600"/>
          </a:xfrm>
        </p:grpSpPr>
        <p:grpSp>
          <p:nvGrpSpPr>
            <p:cNvPr id="88" name=""/>
            <p:cNvGrpSpPr/>
            <p:nvPr/>
          </p:nvGrpSpPr>
          <p:grpSpPr>
            <a:xfrm>
              <a:off x="1905120" y="5867280"/>
              <a:ext cx="2743200" cy="228600"/>
              <a:chOff x="1905120" y="5867280"/>
              <a:chExt cx="2743200" cy="228600"/>
            </a:xfrm>
          </p:grpSpPr>
          <p:sp>
            <p:nvSpPr>
              <p:cNvPr id="89" name=""/>
              <p:cNvSpPr/>
              <p:nvPr/>
            </p:nvSpPr>
            <p:spPr>
              <a:xfrm>
                <a:off x="19051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1337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+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3623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N+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909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339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625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911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197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8195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481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767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053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648320" y="5867280"/>
              <a:ext cx="2743200" cy="228600"/>
              <a:chOff x="4648320" y="5867280"/>
              <a:chExt cx="2743200" cy="228600"/>
            </a:xfrm>
          </p:grpSpPr>
          <p:sp>
            <p:nvSpPr>
              <p:cNvPr id="102" name=""/>
              <p:cNvSpPr/>
              <p:nvPr/>
            </p:nvSpPr>
            <p:spPr>
              <a:xfrm>
                <a:off x="46483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769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055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4771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057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9343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Y-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629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Y-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627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913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199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64K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248520" y="58672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676520" y="5867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47920" y="5867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20120" y="5867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5867280"/>
              <a:ext cx="2286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191480" y="548640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12120" y="1447920"/>
            <a:ext cx="37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st buffer for deferred error reporting (FIF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1944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3840" y="160020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ceed 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2971800"/>
            <a:ext cx="1752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14480" y="2438280"/>
            <a:ext cx="268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st defect management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HD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0"/>
            <a:endCxn id="79" idx="2"/>
          </p:cNvCxnSpPr>
          <p:nvPr/>
        </p:nvCxnSpPr>
        <p:spPr>
          <a:xfrm flipV="1" rot="16200000">
            <a:off x="4401000" y="2113200"/>
            <a:ext cx="2286720" cy="2173680"/>
          </a:xfrm>
          <a:prstGeom prst="curvedConnector5">
            <a:avLst>
              <a:gd name="adj1" fmla="val 49992"/>
              <a:gd name="adj2" fmla="val 49991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3777120" y="3124080"/>
            <a:ext cx="2323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7) Deferred error re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GET PERFORM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80440" y="4343400"/>
            <a:ext cx="189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3)Device Verify P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rting from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76" idx="2"/>
            <a:endCxn id="122" idx="1"/>
          </p:cNvCxnSpPr>
          <p:nvPr/>
        </p:nvCxnSpPr>
        <p:spPr>
          <a:xfrm flipH="1" rot="16200000">
            <a:off x="5753160" y="1904760"/>
            <a:ext cx="1029600" cy="133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73" idx="2"/>
            <a:endCxn id="122" idx="1"/>
          </p:cNvCxnSpPr>
          <p:nvPr/>
        </p:nvCxnSpPr>
        <p:spPr>
          <a:xfrm flipH="1" rot="16200000">
            <a:off x="5409360" y="1562040"/>
            <a:ext cx="1029600" cy="2019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4963680" y="2241720"/>
            <a:ext cx="13647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8)Ke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ective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50" idx="2"/>
            <a:endCxn id="125" idx="2"/>
          </p:cNvCxnSpPr>
          <p:nvPr/>
        </p:nvCxnSpPr>
        <p:spPr>
          <a:xfrm flipH="1" rot="16200000">
            <a:off x="4523400" y="2753280"/>
            <a:ext cx="61200" cy="4155120"/>
          </a:xfrm>
          <a:prstGeom prst="curvedConnector5">
            <a:avLst>
              <a:gd name="adj1" fmla="val 478698"/>
              <a:gd name="adj2" fmla="val 49995"/>
              <a:gd name="adj3" fmla="val 478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5" idx="2"/>
            <a:endCxn id="89" idx="0"/>
          </p:cNvCxnSpPr>
          <p:nvPr/>
        </p:nvCxnSpPr>
        <p:spPr>
          <a:xfrm rot="5400000">
            <a:off x="3821400" y="3058200"/>
            <a:ext cx="1006920" cy="4612320"/>
          </a:xfrm>
          <a:prstGeom prst="curvedConnector5">
            <a:avLst>
              <a:gd name="adj1" fmla="val 50000"/>
              <a:gd name="adj2" fmla="val 4999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89" idx="2"/>
            <a:endCxn id="109" idx="2"/>
          </p:cNvCxnSpPr>
          <p:nvPr/>
        </p:nvCxnSpPr>
        <p:spPr>
          <a:xfrm flipH="1" rot="16200000">
            <a:off x="4646160" y="3467520"/>
            <a:ext cx="2520" cy="52585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09" idx="0"/>
            <a:endCxn id="125" idx="3"/>
          </p:cNvCxnSpPr>
          <p:nvPr/>
        </p:nvCxnSpPr>
        <p:spPr>
          <a:xfrm flipH="1" flipV="1" rot="5400000">
            <a:off x="6793200" y="5085000"/>
            <a:ext cx="1265760" cy="299160"/>
          </a:xfrm>
          <a:prstGeom prst="curvedConnector5">
            <a:avLst>
              <a:gd name="adj1" fmla="val 39772"/>
              <a:gd name="adj2" fmla="val 87951"/>
              <a:gd name="adj3" fmla="val 397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2226960" y="6284880"/>
            <a:ext cx="48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4) Verify until Y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or less, but at least as much as the failed write comm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440" y="228600"/>
            <a:ext cx="39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 is the first recorded LBA with TS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 is the oldest buffered wri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Y-1 is the newest recorded L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reporting threshold i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o Copyrigh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00:28:11Z</dcterms:created>
  <dc:creator>David Burg</dc:creator>
  <dc:description/>
  <dc:language>en-US</dc:language>
  <cp:lastModifiedBy>David Burg</cp:lastModifiedBy>
  <dcterms:modified xsi:type="dcterms:W3CDTF">2005-04-19T15:14:52Z</dcterms:modified>
  <cp:revision>8</cp:revision>
  <dc:subject/>
  <dc:title>TSR reporting threshold</dc:title>
</cp:coreProperties>
</file>