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0A0-33C3-4527-AE7A-B57813AF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C10-D2B3-4E16-86DD-B973D3A7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934-E971-4688-B1A2-758F684A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DBB-9ADF-4796-9BA8-2CCAD8FF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DD2-DEB7-4159-8C2F-6B01CA9A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93E-A3BF-4A12-8074-CB054255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E89-01CC-4270-9667-A35579DA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9F2-65B9-4BEE-867E-9A02040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69E-F5F6-4480-ADF4-C95A4DAB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320-67E1-4E54-9830-E8D99C41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E35-6B5D-4EDF-951C-A6037E8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D9E-FBC5-4C06-9FB3-3283E37D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38B6-7ECA-4E8D-9ABF-C3EC1EDE3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SR step by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Once versus Rew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4876920"/>
            <a:ext cx="3124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Permission is granted to members of INCITS, its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committees and their associated task groups to reprod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this document for the purposes of INCITS standard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activities, provided this notice is includ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writable, P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st issues WRITE command with TSR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rive shall write data and detect error (for instance with verify). If defective sectors are found, then drive shall register the address of the defective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f Drive report error, host shall get the defect status from the dr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st shall issue WRITE command with TSR=0 for defective s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rive writes the data and performs DM with linear re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rite-Once POW, P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st issues WRITE command with TSR=1, non-P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rive shall write data and detect error (for instance with verify). If defective sectors are found, then drive shall register the address of the defective s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f Drive report error, host shall get the defect status from the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st shall issue WRITE command with TSR=1 for defective s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rive writes the data and performs DM with linear repla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writable and Write-Once, Video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st issues WRITE12 command with TSR=1 and Streaming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rive shall write data and detect error (for instance with verify). If defective sectors are found, then drive shall register the address of the defective s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f Drive report error, host shall get the defect status from the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st should issue WRITE12 command with TSR=1 and Streaming=1 to write video chunk at new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Go to step 2 until no defective sector is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00:04:04Z</dcterms:created>
  <dc:creator>David Burg</dc:creator>
  <dc:description/>
  <dc:language>en-US</dc:language>
  <cp:lastModifiedBy>David Burg</cp:lastModifiedBy>
  <dcterms:modified xsi:type="dcterms:W3CDTF">2005-04-19T15:15:13Z</dcterms:modified>
  <cp:revision>8</cp:revision>
  <dc:subject/>
  <dc:title>TSR step by step</dc:title>
</cp:coreProperties>
</file>