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2A91A5-EE33-42DB-AEE3-8E03EFBCD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90480" y="76320"/>
            <a:ext cx="4164120" cy="60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A Optical Conve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304812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ce Mel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e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7-273-2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72540.1774@compuserv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e Channel 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7524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ad hoc meeting November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ompanies contributed to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es Standard DB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OK for 1 GB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data rates may require new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Envelope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.9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A Proposed Form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04960" y="1467000"/>
            <a:ext cx="5719680" cy="392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248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53341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4280" y="55627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4572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4952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4114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152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029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5105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54100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86200" y="55627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.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3623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23623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77120" y="251604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.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s acceptab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-D stabilit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or Las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Distance Require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ode cable 500 meters to 1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Mode cable 10 kil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a need for this produc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Interoperability Specificat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will write a specific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nce Melendy</dc:creator>
  <dc:description/>
  <dc:language>en-US</dc:language>
  <cp:lastModifiedBy>Vince Melendy</cp:lastModifiedBy>
  <cp:revision>0</cp:revision>
  <dc:subject/>
  <dc:title>SSA Optical Converter</dc:title>
</cp:coreProperties>
</file>