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01720" cy="342900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091440" y="3448080"/>
            <a:ext cx="800280" cy="3397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932360" cy="73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52880" y="6134040"/>
            <a:ext cx="4938840" cy="711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18ffd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09480"/>
            <a:ext cx="8420040" cy="548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44600" y="6456240"/>
            <a:ext cx="907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ND/MDSM2PH2/60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B23270AC-5395-454A-B9D5-9B0D6007457E}" type="slidenum"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356600" y="6372360"/>
            <a:ext cx="2209680" cy="3412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90680" y="1200240"/>
            <a:ext cx="732312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762120" y="2286000"/>
            <a:ext cx="8381880" cy="34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618ffd"/>
                </a:solidFill>
                <a:latin typeface="Arial"/>
                <a:ea typeface="Arial"/>
              </a:rPr>
              <a:t>MDSM</a:t>
            </a:r>
            <a:br>
              <a:rPr sz="9600"/>
            </a:br>
            <a:r>
              <a:rPr b="1" lang="en-US" sz="4800" spc="-1" strike="noStrike">
                <a:solidFill>
                  <a:srgbClr val="618ffd"/>
                </a:solidFill>
                <a:latin typeface="Arial"/>
                <a:ea typeface="Arial"/>
              </a:rPr>
              <a:t>SSA PH2</a:t>
            </a:r>
            <a:br>
              <a:rPr sz="4800"/>
            </a:br>
            <a:r>
              <a:rPr b="1" lang="en-US" sz="4800" spc="-1" strike="noStrike">
                <a:solidFill>
                  <a:srgbClr val="618ffd"/>
                </a:solidFill>
                <a:latin typeface="Arial"/>
                <a:ea typeface="Arial"/>
              </a:rPr>
              <a:t>High Frequency Charactar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62120" y="60948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Transfer Impedance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0" y="5467320"/>
            <a:ext cx="127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LOSED.T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57160" y="1962000"/>
            <a:ext cx="5086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Measurement ( Closed Test Fixtur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81200" y="6094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Transfer Impedance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9320" y="16956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TEM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020080" y="2762280"/>
            <a:ext cx="1257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124760" y="3352680"/>
            <a:ext cx="180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hielded MD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334280" y="4095720"/>
            <a:ext cx="1542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elded MD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05680" y="5010120"/>
            <a:ext cx="20574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ax C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Double Shiel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10320" y="523872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629400" y="4305240"/>
            <a:ext cx="78120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686640" y="3562200"/>
            <a:ext cx="51444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667560" y="2971800"/>
            <a:ext cx="1371600" cy="9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219480" y="2228760"/>
            <a:ext cx="66672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609480"/>
            <a:ext cx="8344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Transfer Impedance</a:t>
            </a:r>
            <a:br>
              <a:rPr sz="1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2120" y="838080"/>
            <a:ext cx="8362800" cy="14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Hig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quency Charactaristics</a:t>
            </a:r>
            <a:br>
              <a:rPr sz="1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81200" y="2095560"/>
            <a:ext cx="8344080" cy="35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DSM Meets SSA PH2 Impedance Requirements at Rise Times up to 250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DSM Meets SSA PH2 Transfer Impedance (Shield Effect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mmend to Continue With SSA PH1 / 2 Tes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mmend to Use an Allside Closed Test Fixture for Transfer Impedance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0028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Imped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asuremen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19000" y="1962000"/>
            <a:ext cx="83250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ify impedance at 375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edance target : 150 Ohm ±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DR Tektronic 118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istor connected to pcb tails of external device connector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ernal cable connector harnessed with Madison cable 6702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19000" y="60948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Imped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asuremen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9680" y="1962000"/>
            <a:ext cx="704844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Ohm coaxial cable connected between Madison cable and T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erential signal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asurement single 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ble on inpu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00280" y="60948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Impe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25880" y="1409760"/>
            <a:ext cx="3494160" cy="54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ual Data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0 p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5/ 85   Ohm</a:t>
            </a:r>
            <a:br>
              <a:rPr sz="20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0 p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7,6/ 81,4  Ohm</a:t>
            </a:r>
            <a:br>
              <a:rPr sz="20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75 p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0,4/ 77,8  Ohm</a:t>
            </a:r>
            <a:br>
              <a:rPr sz="20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0 p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1,8/ 76,5 Ohm</a:t>
            </a: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7440" y="5753160"/>
            <a:ext cx="1009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SM375.T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240" y="5143320"/>
            <a:ext cx="4449600" cy="1239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762360" y="2152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,5 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81440" y="4114800"/>
            <a:ext cx="1038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,5 O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809800" y="2019240"/>
            <a:ext cx="250524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90720" y="2476440"/>
            <a:ext cx="24861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90720" y="2790720"/>
            <a:ext cx="2486160" cy="1057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81360" y="2952720"/>
            <a:ext cx="2523960" cy="1628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19000" y="60948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Transfer Impedance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57160" y="22096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Different Measurements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SA PH2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 Inj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TEM Method ( for informatio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81200" y="60948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Transfer Impedance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81200" y="1581120"/>
            <a:ext cx="8286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e Inj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43400" y="1657440"/>
            <a:ext cx="4743360" cy="216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7029360" y="3295800"/>
            <a:ext cx="628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in.T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0" y="3524400"/>
            <a:ext cx="3962520" cy="2476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333600" y="379080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TEM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10120" y="4019400"/>
            <a:ext cx="781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 u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81800" y="5238720"/>
            <a:ext cx="952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62240" y="4743360"/>
            <a:ext cx="1790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Anal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19000" y="60948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Transfer Impedanc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640" y="5394240"/>
            <a:ext cx="322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d = Sample - Reference +(-)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CF = 20 log(2/(1-p)), p = 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2560" y="1085760"/>
            <a:ext cx="915336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905280" y="1695600"/>
            <a:ext cx="2457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S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00280" y="60948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Transfer Impedanc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3960" y="1378080"/>
            <a:ext cx="9439200" cy="4530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610000" y="1886040"/>
            <a:ext cx="468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 Inj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62120" y="60948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DSM SSA PH2 Transfer Impedance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1640" y="1771560"/>
            <a:ext cx="523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Measurement ( Open Test Fix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257960" y="5619600"/>
            <a:ext cx="5904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OPEN.T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nnon</dc:creator>
  <dc:description/>
  <dc:language>en-US</dc:language>
  <cp:lastModifiedBy>Cannon</cp:lastModifiedBy>
  <cp:revision>0</cp:revision>
  <dc:subject>Standardisierubg Phase 2</dc:subject>
  <dc:title>mdsm ssa ph2</dc:title>
</cp:coreProperties>
</file>