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50000">
                  <a:srgbClr val="ebebeb"/>
                </a:gs>
                <a:gs pos="100000">
                  <a:srgbClr val="bcbcbc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90360" y="6485040"/>
            <a:ext cx="1982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thlight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A892C30C-31A7-45C1-AD54-EA377FFFEBF9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1E11013B-12BC-40F7-A5EC-B3284C0426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289080" y="220680"/>
            <a:ext cx="12366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X3T10.1/96a129r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tworking over SSA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liminary Stud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A. DeWi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96080" y="136440"/>
            <a:ext cx="121932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rogram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vide applications using existing networks to migrate transparently to SSA 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low a single SSA adapter to support both storage and network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imize overheads in protocol support and over the SSA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832880" y="152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.  Define a new TCP-like protocol to provide the same services to applications as TCP/IP and UDP/IP but without the overhead and functions redundant to SSA trans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.  Alternately, define an efficient means to tunnel IP datagrams between SSA nodes adding minimal protocol to that imposed by TCP/IP and UD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96080" y="152280"/>
            <a:ext cx="120348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SA-TCP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nection oriented service application interface consists of OPEN(), CLOSE(), SEND(), RECEIVE(), STATUS(), and ABORT() service calls, with asynchronous event notification to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nectionless service application interface consists of SendTo(), ReceiveFrom() and CreateRcvPort() calls, with asynchronous event notif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s an interface with transport layer that cleanly divides the layers and permits other protocols to share transport managed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96080" y="152280"/>
            <a:ext cx="120348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SSA-TCP Protocol (cont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header-resident protocol handshakes are converted to SMSs, 7 new SMS commands, 6 new reply SMSs.  Use of SMSs replaces TCP header.  IP header unnecessary with SSA Tran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ndles connection loss and repathing/multipa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k transfer incurs 6%-9% total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port interface could be made more generic for other serial transport la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96080" y="152280"/>
            <a:ext cx="120348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P over S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nimal preliminary work done to date, mostly exploring possible means to imp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approach is to create SMSs to perform the work of IP headers, similarly to SSA-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ternate approach is to use dedicated channels for IP data and embed socket information in headers of fixed length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resents lower efficiency bandwidth usage of SSA, but much smaller software effort across multiple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96080" y="152280"/>
            <a:ext cx="120168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Program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SA-TCP document ~75% complete, requires ~1 man-month 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SA-IP document not started.  Study needs ~1 m-m to complete and document another m-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thlight is currently evaluating the need for networking over SSA and the priority for dedicating th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772400" y="152280"/>
            <a:ext cx="120168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Unresolved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crosoft and some other operating systems architectures do not permit the use of the same device by both storage and network drivers, making dual use difficult without “cheating” in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ndor-Unique or ANSI Standard ULP c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96080" y="152280"/>
            <a:ext cx="120168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k DeWilde</dc:creator>
  <dc:description/>
  <dc:language>en-US</dc:language>
  <cp:lastModifiedBy>Lawrence J. Lamers</cp:lastModifiedBy>
  <cp:revision>0</cp:revision>
  <dc:subject/>
  <dc:title>Networking over SSA </dc:title>
</cp:coreProperties>
</file>