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72185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8228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5920" y="3682080"/>
            <a:ext cx="8228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6260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592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6260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2836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08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592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2836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08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5920" y="1604520"/>
            <a:ext cx="8228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8228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260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45920" y="273600"/>
            <a:ext cx="8228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260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592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260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6260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59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592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260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5920" y="3682080"/>
            <a:ext cx="8228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25600" y="0"/>
            <a:ext cx="8896320" cy="6845400"/>
            <a:chOff x="52560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52560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2864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1128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516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8092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704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2560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379440" y="648504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T Cann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471960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83C0B2A6-39F3-4AA5-AEFB-6E15557CAF0C}" type="datetime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95968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0B8AABC3-CC0A-46DB-87F6-A43B15534E6D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50840" y="22860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SM Imped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results IBM / ITT Can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43208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74880" y="1486080"/>
            <a:ext cx="4702320" cy="4951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308640" y="1447920"/>
            <a:ext cx="2971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D resistor direct connected to pcb tails of external device connector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rnal cable connector harnessed with 100mm Madison cable 6702 .500mm of 75 ohms cable connected between Madison cable and T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fferential signal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ment single 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ble on left 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rmination on right sid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79840" y="3352680"/>
            <a:ext cx="9144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327560" y="5791320"/>
            <a:ext cx="76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32080" y="4191120"/>
            <a:ext cx="464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8280" y="4572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08040" y="48769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622840" y="3962520"/>
            <a:ext cx="76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622840" y="4343400"/>
            <a:ext cx="76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622840" y="4648320"/>
            <a:ext cx="762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O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84560" y="3733920"/>
            <a:ext cx="60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46480" y="4038480"/>
            <a:ext cx="685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60680" y="4191120"/>
            <a:ext cx="60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0 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TT Cannon GmbH</dc:creator>
  <dc:description>overhead presented at Lake Tahoe on Feb. 27,96</dc:description>
  <dc:language>en-US</dc:language>
  <cp:lastModifiedBy>ITT Cannon GmbH</cp:lastModifiedBy>
  <cp:revision>0</cp:revision>
  <dc:subject/>
  <dc:title>mdsm impedance 150+-10ohms</dc:title>
</cp:coreProperties>
</file>