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46280" y="8678880"/>
            <a:ext cx="4573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LL HAM   DIGITAL EQUIPMENT                              SEPTEMBER 25, 19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14440" y="507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514440" y="1955880"/>
            <a:ext cx="5829480" cy="57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ALL STATUS AND CONC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VIEW OF REC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RMINATION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OR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A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UB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OUND RETURN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EATER / LRC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QUALIZ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ITTER FREQUENC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AGREEMENTS ON DETAILS OF MEASUREMENT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ON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14440" y="203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55760" y="5203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00280" y="5965920"/>
            <a:ext cx="866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61840" y="439416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625320" y="5203800"/>
            <a:ext cx="2376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L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108240" y="718488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46280" y="1469880"/>
            <a:ext cx="5526000" cy="2482920"/>
            <a:chOff x="746280" y="1469880"/>
            <a:chExt cx="5526000" cy="2482920"/>
          </a:xfrm>
        </p:grpSpPr>
        <p:sp>
          <p:nvSpPr>
            <p:cNvPr id="210" name=""/>
            <p:cNvSpPr/>
            <p:nvPr/>
          </p:nvSpPr>
          <p:spPr>
            <a:xfrm>
              <a:off x="76212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5288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2880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7692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05120" y="23623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4792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8148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746280" y="2841480"/>
              <a:ext cx="8557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4937040" y="2917800"/>
              <a:ext cx="1093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2879640" y="2384280"/>
              <a:ext cx="1171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D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1812960" y="1622520"/>
              <a:ext cx="136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4784760" y="1469880"/>
              <a:ext cx="1487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3413160" y="1698480"/>
              <a:ext cx="1596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3260880" y="3222720"/>
              <a:ext cx="1527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TANCE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89856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31828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48280" y="22096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48280" y="24382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105520" y="1752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14800" y="2057400"/>
              <a:ext cx="9144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752480" y="205740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572000" y="236232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441360" y="7618320"/>
            <a:ext cx="56372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RECEIVER WITH 50 OHMS TERMINATING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NO ADDITIONAL CAPACITANCE/STU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35120" y="4024440"/>
            <a:ext cx="47721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14440" y="203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55760" y="5203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00280" y="5965920"/>
            <a:ext cx="866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61840" y="439416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625320" y="5203800"/>
            <a:ext cx="2376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L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108240" y="718488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46280" y="1469880"/>
            <a:ext cx="5526000" cy="2482920"/>
            <a:chOff x="746280" y="1469880"/>
            <a:chExt cx="5526000" cy="2482920"/>
          </a:xfrm>
        </p:grpSpPr>
        <p:sp>
          <p:nvSpPr>
            <p:cNvPr id="241" name=""/>
            <p:cNvSpPr/>
            <p:nvPr/>
          </p:nvSpPr>
          <p:spPr>
            <a:xfrm>
              <a:off x="76212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5288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880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7692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05120" y="23623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4792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8148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746280" y="2841480"/>
              <a:ext cx="8557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4937040" y="2917800"/>
              <a:ext cx="1093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2879640" y="2384280"/>
              <a:ext cx="1171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D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1812960" y="1622520"/>
              <a:ext cx="136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4784760" y="1469880"/>
              <a:ext cx="1487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3413160" y="1698480"/>
              <a:ext cx="1596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3260880" y="3222720"/>
              <a:ext cx="1527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TANCE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89856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531828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48280" y="22096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48280" y="24382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105520" y="1752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057400"/>
              <a:ext cx="9144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752480" y="205740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4572000" y="236232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 txBox="1"/>
          <p:nvPr/>
        </p:nvSpPr>
        <p:spPr>
          <a:xfrm>
            <a:off x="441360" y="7618320"/>
            <a:ext cx="5365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DRIVER WITH 75 OHMS TERMINATING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5pF ADDITIONAL CAPACITANCE BETW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+ AND LINE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635120" y="4013280"/>
            <a:ext cx="47721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514440" y="203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355760" y="5203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00280" y="5965920"/>
            <a:ext cx="866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61840" y="439416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625320" y="5203800"/>
            <a:ext cx="2376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L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108240" y="718488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46280" y="1469880"/>
            <a:ext cx="5526000" cy="2482920"/>
            <a:chOff x="746280" y="1469880"/>
            <a:chExt cx="5526000" cy="2482920"/>
          </a:xfrm>
        </p:grpSpPr>
        <p:sp>
          <p:nvSpPr>
            <p:cNvPr id="272" name=""/>
            <p:cNvSpPr/>
            <p:nvPr/>
          </p:nvSpPr>
          <p:spPr>
            <a:xfrm>
              <a:off x="76212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5288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2880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7692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05120" y="23623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8148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746280" y="2841480"/>
              <a:ext cx="8557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4937040" y="2917800"/>
              <a:ext cx="1093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2879640" y="2384280"/>
              <a:ext cx="1171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D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1812960" y="1622520"/>
              <a:ext cx="136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4784760" y="1469880"/>
              <a:ext cx="1487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3413160" y="1698480"/>
              <a:ext cx="1596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3260880" y="3222720"/>
              <a:ext cx="1527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TANCE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89856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531828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48280" y="22096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48280" y="24382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105520" y="1752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14800" y="2057400"/>
              <a:ext cx="9144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752480" y="205740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572000" y="236232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 txBox="1"/>
          <p:nvPr/>
        </p:nvSpPr>
        <p:spPr>
          <a:xfrm>
            <a:off x="441360" y="7618320"/>
            <a:ext cx="56372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RECEIVER WITH 75 OHMS TERMINATING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5pF ADDITIONAL CAPACITANCE BETW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 + AND LINE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635120" y="4024440"/>
            <a:ext cx="47721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514440" y="203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355760" y="5203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00280" y="5965920"/>
            <a:ext cx="866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61840" y="439416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625320" y="5203800"/>
            <a:ext cx="2376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L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108240" y="718488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46280" y="1469880"/>
            <a:ext cx="5526000" cy="2482920"/>
            <a:chOff x="746280" y="1469880"/>
            <a:chExt cx="5526000" cy="2482920"/>
          </a:xfrm>
        </p:grpSpPr>
        <p:sp>
          <p:nvSpPr>
            <p:cNvPr id="303" name=""/>
            <p:cNvSpPr/>
            <p:nvPr/>
          </p:nvSpPr>
          <p:spPr>
            <a:xfrm>
              <a:off x="76212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5288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2880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7692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05120" y="23623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792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8148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746280" y="2841480"/>
              <a:ext cx="8557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4937040" y="2917800"/>
              <a:ext cx="1093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2879640" y="2384280"/>
              <a:ext cx="1171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D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1812960" y="1622520"/>
              <a:ext cx="136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4784760" y="1469880"/>
              <a:ext cx="1487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3413160" y="1698480"/>
              <a:ext cx="1596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3260880" y="3222720"/>
              <a:ext cx="1527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TANCE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89856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531828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48280" y="22096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48280" y="24382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05520" y="1752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14800" y="2057400"/>
              <a:ext cx="9144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752480" y="205740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4572000" y="236232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 txBox="1"/>
          <p:nvPr/>
        </p:nvSpPr>
        <p:spPr>
          <a:xfrm>
            <a:off x="441360" y="7618320"/>
            <a:ext cx="5365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DRIVER WITH 75 OHMS TERMINATING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10pF ADDITIONAL CAPACITANCE BETW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 + AND LINE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623960" y="3959280"/>
            <a:ext cx="47721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514440" y="203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355760" y="5203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00280" y="5965920"/>
            <a:ext cx="866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861840" y="439416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625320" y="5203800"/>
            <a:ext cx="2376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L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108240" y="718488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46280" y="1469880"/>
            <a:ext cx="5526000" cy="2482920"/>
            <a:chOff x="746280" y="1469880"/>
            <a:chExt cx="5526000" cy="2482920"/>
          </a:xfrm>
        </p:grpSpPr>
        <p:sp>
          <p:nvSpPr>
            <p:cNvPr id="334" name=""/>
            <p:cNvSpPr/>
            <p:nvPr/>
          </p:nvSpPr>
          <p:spPr>
            <a:xfrm>
              <a:off x="76212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288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2880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7692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23623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8148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746280" y="2841480"/>
              <a:ext cx="8557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4937040" y="2917800"/>
              <a:ext cx="1093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879640" y="2384280"/>
              <a:ext cx="1171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D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1812960" y="1622520"/>
              <a:ext cx="136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4784760" y="1469880"/>
              <a:ext cx="1487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3413160" y="1698480"/>
              <a:ext cx="1596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3260880" y="3222720"/>
              <a:ext cx="1527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TANCE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89856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531828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48280" y="22096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8280" y="24382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105520" y="1752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14800" y="2057400"/>
              <a:ext cx="9144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1752480" y="205740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572000" y="236232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 txBox="1"/>
          <p:nvPr/>
        </p:nvSpPr>
        <p:spPr>
          <a:xfrm>
            <a:off x="441360" y="7618320"/>
            <a:ext cx="56372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RECEIVER WITH 75 OHMS TERMINATING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10pF ADDITIONAL CAPACITANCE BETW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 + AND LINE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635120" y="4024440"/>
            <a:ext cx="47721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14440" y="203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355760" y="5203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00280" y="5965920"/>
            <a:ext cx="866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61840" y="439416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625320" y="5203800"/>
            <a:ext cx="2376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L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108240" y="718488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746280" y="1469880"/>
            <a:ext cx="5526000" cy="2482920"/>
            <a:chOff x="746280" y="1469880"/>
            <a:chExt cx="5526000" cy="2482920"/>
          </a:xfrm>
        </p:grpSpPr>
        <p:sp>
          <p:nvSpPr>
            <p:cNvPr id="365" name=""/>
            <p:cNvSpPr/>
            <p:nvPr/>
          </p:nvSpPr>
          <p:spPr>
            <a:xfrm>
              <a:off x="76212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5288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2880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7692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05120" y="23623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792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8148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746280" y="2841480"/>
              <a:ext cx="8557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4937040" y="2917800"/>
              <a:ext cx="1093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2879640" y="2384280"/>
              <a:ext cx="1171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D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1812960" y="1622520"/>
              <a:ext cx="136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4784760" y="1469880"/>
              <a:ext cx="1487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3413160" y="1698480"/>
              <a:ext cx="1596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3260880" y="3222720"/>
              <a:ext cx="1527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TANCE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89856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531828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48280" y="22096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48280" y="24382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105520" y="1752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14800" y="2057400"/>
              <a:ext cx="9144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752480" y="205740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4572000" y="236232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 txBox="1"/>
          <p:nvPr/>
        </p:nvSpPr>
        <p:spPr>
          <a:xfrm>
            <a:off x="441360" y="7618320"/>
            <a:ext cx="5365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DRIVER WITH 75 OHMS TERMINATING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15pF ADDITIONAL CAPACITANCE BETW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 + AND LINE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635120" y="4024440"/>
            <a:ext cx="47721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514440" y="203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355760" y="5203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00280" y="5965920"/>
            <a:ext cx="866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61840" y="439416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625320" y="5203800"/>
            <a:ext cx="2376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L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108240" y="718488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46280" y="1469880"/>
            <a:ext cx="5526000" cy="2482920"/>
            <a:chOff x="746280" y="1469880"/>
            <a:chExt cx="5526000" cy="2482920"/>
          </a:xfrm>
        </p:grpSpPr>
        <p:sp>
          <p:nvSpPr>
            <p:cNvPr id="396" name=""/>
            <p:cNvSpPr/>
            <p:nvPr/>
          </p:nvSpPr>
          <p:spPr>
            <a:xfrm>
              <a:off x="76212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5288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2880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7692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05120" y="23623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4792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8148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746280" y="2841480"/>
              <a:ext cx="8557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4937040" y="2917800"/>
              <a:ext cx="1093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2879640" y="2384280"/>
              <a:ext cx="1171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D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1812960" y="1622520"/>
              <a:ext cx="136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4784760" y="1469880"/>
              <a:ext cx="1487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3413160" y="1698480"/>
              <a:ext cx="1596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3260880" y="3222720"/>
              <a:ext cx="1527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TANCE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89856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531828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48280" y="22096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48280" y="24382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5105520" y="1752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14800" y="2057400"/>
              <a:ext cx="9144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1752480" y="205740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572000" y="236232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 txBox="1"/>
          <p:nvPr/>
        </p:nvSpPr>
        <p:spPr>
          <a:xfrm>
            <a:off x="441360" y="7618320"/>
            <a:ext cx="56372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RECEIVER WITH 75 OHMS TERMINATING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15pF ADDITIONAL CAPACITANCE BETW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 + AND LINE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635120" y="4024440"/>
            <a:ext cx="47721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14440" y="203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355760" y="5203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00280" y="5965920"/>
            <a:ext cx="866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61840" y="439416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625320" y="5203800"/>
            <a:ext cx="2376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L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108240" y="718488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46280" y="1469880"/>
            <a:ext cx="5526000" cy="2482920"/>
            <a:chOff x="746280" y="1469880"/>
            <a:chExt cx="5526000" cy="2482920"/>
          </a:xfrm>
        </p:grpSpPr>
        <p:sp>
          <p:nvSpPr>
            <p:cNvPr id="427" name=""/>
            <p:cNvSpPr/>
            <p:nvPr/>
          </p:nvSpPr>
          <p:spPr>
            <a:xfrm>
              <a:off x="76212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5288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7692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05120" y="23623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4792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8148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746280" y="2841480"/>
              <a:ext cx="8557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4937040" y="2917800"/>
              <a:ext cx="1093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2879640" y="2384280"/>
              <a:ext cx="1171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D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1812960" y="1622520"/>
              <a:ext cx="136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4784760" y="1469880"/>
              <a:ext cx="1487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3413160" y="1698480"/>
              <a:ext cx="1596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3260880" y="3222720"/>
              <a:ext cx="1527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TANCE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89856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531828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48280" y="22096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48280" y="24382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105520" y="1752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14800" y="2057400"/>
              <a:ext cx="9144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1752480" y="205740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572000" y="236232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 txBox="1"/>
          <p:nvPr/>
        </p:nvSpPr>
        <p:spPr>
          <a:xfrm>
            <a:off x="441360" y="7618320"/>
            <a:ext cx="56372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RECEIVER WITH 75 OHMS TERMINATING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33pF ADDITIONAL CAPACITANCE BETW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 + AND LINE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1635120" y="4024440"/>
            <a:ext cx="47721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514440" y="203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355760" y="5203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800280" y="5965920"/>
            <a:ext cx="866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61840" y="439416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625320" y="5203800"/>
            <a:ext cx="2376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L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108240" y="718488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746280" y="1469880"/>
            <a:ext cx="5526000" cy="2482920"/>
            <a:chOff x="746280" y="1469880"/>
            <a:chExt cx="5526000" cy="2482920"/>
          </a:xfrm>
        </p:grpSpPr>
        <p:sp>
          <p:nvSpPr>
            <p:cNvPr id="458" name=""/>
            <p:cNvSpPr/>
            <p:nvPr/>
          </p:nvSpPr>
          <p:spPr>
            <a:xfrm>
              <a:off x="76212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5288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2880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7692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905120" y="23623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4792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148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746280" y="2841480"/>
              <a:ext cx="8557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4937040" y="2917800"/>
              <a:ext cx="1093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2879640" y="2384280"/>
              <a:ext cx="1171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D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1812960" y="1622520"/>
              <a:ext cx="136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4784760" y="1469880"/>
              <a:ext cx="1487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3413160" y="1698480"/>
              <a:ext cx="1596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3260880" y="3222720"/>
              <a:ext cx="1527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TANCE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89856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531828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48280" y="22096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48280" y="24382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105520" y="1752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14800" y="2057400"/>
              <a:ext cx="9144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1752480" y="205740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4572000" y="236232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 txBox="1"/>
          <p:nvPr/>
        </p:nvSpPr>
        <p:spPr>
          <a:xfrm>
            <a:off x="441360" y="7618320"/>
            <a:ext cx="56372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RECEIVER WITH 75 OHMS TERMINATING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3” ADDITIONAL 3O AWG UTP STU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 + AND LINE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635120" y="4024440"/>
            <a:ext cx="47721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514440" y="203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355760" y="5203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00280" y="5965920"/>
            <a:ext cx="866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861840" y="439416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625320" y="5203800"/>
            <a:ext cx="2376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L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108240" y="718488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746280" y="1469880"/>
            <a:ext cx="5526000" cy="2482920"/>
            <a:chOff x="746280" y="1469880"/>
            <a:chExt cx="5526000" cy="2482920"/>
          </a:xfrm>
        </p:grpSpPr>
        <p:sp>
          <p:nvSpPr>
            <p:cNvPr id="489" name=""/>
            <p:cNvSpPr/>
            <p:nvPr/>
          </p:nvSpPr>
          <p:spPr>
            <a:xfrm>
              <a:off x="76212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5288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2880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87692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05120" y="23623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4792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8148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746280" y="2841480"/>
              <a:ext cx="8557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4937040" y="2917800"/>
              <a:ext cx="1093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2879640" y="2384280"/>
              <a:ext cx="1171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D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 txBox="1"/>
            <p:nvPr/>
          </p:nvSpPr>
          <p:spPr>
            <a:xfrm>
              <a:off x="1812960" y="1622520"/>
              <a:ext cx="136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4784760" y="1469880"/>
              <a:ext cx="1487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3413160" y="1698480"/>
              <a:ext cx="1596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 txBox="1"/>
            <p:nvPr/>
          </p:nvSpPr>
          <p:spPr>
            <a:xfrm>
              <a:off x="3260880" y="3222720"/>
              <a:ext cx="1527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TANCE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89856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531828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48280" y="22096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48280" y="24382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5105520" y="1752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2057400"/>
              <a:ext cx="9144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752480" y="205740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4572000" y="236232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 txBox="1"/>
          <p:nvPr/>
        </p:nvSpPr>
        <p:spPr>
          <a:xfrm>
            <a:off x="441360" y="7618320"/>
            <a:ext cx="56372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RECEIVER WITH 75 OHMS TERMINATING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6” ADDITIONAL 3O AWG UTP STU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 + AND LINE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635120" y="4002120"/>
            <a:ext cx="47721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14440" y="507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4440" y="19558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FFECTS OF IMPERFECT TERMINATION, CONNECTORS, EQUALIZERS, LRC’S AND OTHER DISTURBANCES IN THE LINK PATH MAY NOT AFFECT THE MARGINS LINEARL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RESENT SPECIFICATION ASSUMES THAT THE DRIVER, RECEIVER, AND INTERCONNECT CAN BE INDEPENDENTLY TESTED AND THE RESULTS WILL APPLY WHEN ALL THREE ARE ACTUALLY CONNECTED AT THE SAME TI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ASSUMPTION IGNORES EFFECTS CAUSED BY REFLECTIONS IN THE TRANSMISSION LINES -- ESPECIALLY THAT CAUSED BY IMPERFECT REACTIVE TERMIN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514440" y="203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355760" y="5203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800280" y="5965920"/>
            <a:ext cx="866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861840" y="439416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625320" y="5203800"/>
            <a:ext cx="2376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L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108240" y="718488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746280" y="1469880"/>
            <a:ext cx="5526000" cy="2482920"/>
            <a:chOff x="746280" y="1469880"/>
            <a:chExt cx="5526000" cy="2482920"/>
          </a:xfrm>
        </p:grpSpPr>
        <p:sp>
          <p:nvSpPr>
            <p:cNvPr id="520" name=""/>
            <p:cNvSpPr/>
            <p:nvPr/>
          </p:nvSpPr>
          <p:spPr>
            <a:xfrm>
              <a:off x="76212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5288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2880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7692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05120" y="23623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792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8148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746280" y="2841480"/>
              <a:ext cx="8557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4937040" y="2917800"/>
              <a:ext cx="1093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>
              <a:off x="2879640" y="2384280"/>
              <a:ext cx="1171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D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1812960" y="1622520"/>
              <a:ext cx="136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4784760" y="1469880"/>
              <a:ext cx="1487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3413160" y="1698480"/>
              <a:ext cx="1596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3260880" y="3222720"/>
              <a:ext cx="1527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TANCE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 txBox="1"/>
            <p:nvPr/>
          </p:nvSpPr>
          <p:spPr>
            <a:xfrm>
              <a:off x="89856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531828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48280" y="22096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48280" y="24382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5105520" y="1752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14800" y="2057400"/>
              <a:ext cx="9144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1752480" y="205740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572000" y="236232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 txBox="1"/>
          <p:nvPr/>
        </p:nvSpPr>
        <p:spPr>
          <a:xfrm>
            <a:off x="441360" y="7618320"/>
            <a:ext cx="56372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RECEIVER WITH 75 OHMS TERMINATING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12” ADDITIONAL 3O AWG UTP STU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 + AND LINE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635120" y="4024440"/>
            <a:ext cx="47721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514440" y="203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355760" y="5203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00280" y="5965920"/>
            <a:ext cx="866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61840" y="439416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625320" y="5203800"/>
            <a:ext cx="2376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L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108240" y="718488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746280" y="1469880"/>
            <a:ext cx="5526000" cy="2482920"/>
            <a:chOff x="746280" y="1469880"/>
            <a:chExt cx="5526000" cy="2482920"/>
          </a:xfrm>
        </p:grpSpPr>
        <p:sp>
          <p:nvSpPr>
            <p:cNvPr id="551" name=""/>
            <p:cNvSpPr/>
            <p:nvPr/>
          </p:nvSpPr>
          <p:spPr>
            <a:xfrm>
              <a:off x="76212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5288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2880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692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05120" y="23623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4792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8148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 txBox="1"/>
            <p:nvPr/>
          </p:nvSpPr>
          <p:spPr>
            <a:xfrm>
              <a:off x="746280" y="2841480"/>
              <a:ext cx="8557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 txBox="1"/>
            <p:nvPr/>
          </p:nvSpPr>
          <p:spPr>
            <a:xfrm>
              <a:off x="4937040" y="2917800"/>
              <a:ext cx="1093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 txBox="1"/>
            <p:nvPr/>
          </p:nvSpPr>
          <p:spPr>
            <a:xfrm>
              <a:off x="2879640" y="2384280"/>
              <a:ext cx="1171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D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 txBox="1"/>
            <p:nvPr/>
          </p:nvSpPr>
          <p:spPr>
            <a:xfrm>
              <a:off x="1812960" y="1622520"/>
              <a:ext cx="136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 txBox="1"/>
            <p:nvPr/>
          </p:nvSpPr>
          <p:spPr>
            <a:xfrm>
              <a:off x="4784760" y="1469880"/>
              <a:ext cx="1487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 txBox="1"/>
            <p:nvPr/>
          </p:nvSpPr>
          <p:spPr>
            <a:xfrm>
              <a:off x="3413160" y="1698480"/>
              <a:ext cx="1596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 txBox="1"/>
            <p:nvPr/>
          </p:nvSpPr>
          <p:spPr>
            <a:xfrm>
              <a:off x="3260880" y="3222720"/>
              <a:ext cx="1527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TANCE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 txBox="1"/>
            <p:nvPr/>
          </p:nvSpPr>
          <p:spPr>
            <a:xfrm>
              <a:off x="89856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531828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48280" y="22096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48280" y="24382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5105520" y="1752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14800" y="2057400"/>
              <a:ext cx="9144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752480" y="205740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4572000" y="236232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 txBox="1"/>
          <p:nvPr/>
        </p:nvSpPr>
        <p:spPr>
          <a:xfrm>
            <a:off x="441360" y="7618320"/>
            <a:ext cx="58453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RECEIVER WITH 75 OHMS TERMINATING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12 pF BETWEEN BOTH LINE + AND LINE - TO 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635120" y="4024440"/>
            <a:ext cx="47721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514440" y="203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355760" y="5203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00280" y="5965920"/>
            <a:ext cx="866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61840" y="439416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625320" y="5203800"/>
            <a:ext cx="2376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L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108240" y="718488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746280" y="1469880"/>
            <a:ext cx="5526000" cy="2482920"/>
            <a:chOff x="746280" y="1469880"/>
            <a:chExt cx="5526000" cy="2482920"/>
          </a:xfrm>
        </p:grpSpPr>
        <p:sp>
          <p:nvSpPr>
            <p:cNvPr id="582" name=""/>
            <p:cNvSpPr/>
            <p:nvPr/>
          </p:nvSpPr>
          <p:spPr>
            <a:xfrm>
              <a:off x="76212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95288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2880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7692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05120" y="23623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44792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8148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 txBox="1"/>
            <p:nvPr/>
          </p:nvSpPr>
          <p:spPr>
            <a:xfrm>
              <a:off x="746280" y="2841480"/>
              <a:ext cx="8557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 txBox="1"/>
            <p:nvPr/>
          </p:nvSpPr>
          <p:spPr>
            <a:xfrm>
              <a:off x="4937040" y="2917800"/>
              <a:ext cx="1093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 txBox="1"/>
            <p:nvPr/>
          </p:nvSpPr>
          <p:spPr>
            <a:xfrm>
              <a:off x="2879640" y="2384280"/>
              <a:ext cx="1171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D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>
              <a:off x="1812960" y="1622520"/>
              <a:ext cx="136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 txBox="1"/>
            <p:nvPr/>
          </p:nvSpPr>
          <p:spPr>
            <a:xfrm>
              <a:off x="4784760" y="1469880"/>
              <a:ext cx="1487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 txBox="1"/>
            <p:nvPr/>
          </p:nvSpPr>
          <p:spPr>
            <a:xfrm>
              <a:off x="3413160" y="1698480"/>
              <a:ext cx="1596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3260880" y="3222720"/>
              <a:ext cx="1527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TANCE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 txBox="1"/>
            <p:nvPr/>
          </p:nvSpPr>
          <p:spPr>
            <a:xfrm>
              <a:off x="89856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531828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048280" y="22096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048280" y="24382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5105520" y="1752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114800" y="2057400"/>
              <a:ext cx="9144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1752480" y="205740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4572000" y="236232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"/>
          <p:cNvSpPr txBox="1"/>
          <p:nvPr/>
        </p:nvSpPr>
        <p:spPr>
          <a:xfrm>
            <a:off x="441360" y="7618320"/>
            <a:ext cx="58453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RECEIVER WITH 75 OHMS TERMINATING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33 pF BETWEEN BOTH LINE + AND LINE - TO 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635120" y="4024440"/>
            <a:ext cx="47721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14440" y="507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14440" y="1650960"/>
            <a:ext cx="5829480" cy="64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CEIVER SPECIFICATION IS BASED ON MEASUREMENT OF ERROR RATE BY THE OPERATING SSA SYSTE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 “RECEIVER” CANNOT REPORT ERROR RATE IT CANNOT USE THE PRESENT SPECIFICATIONS -- THIS ISSUE APPLIES MOST STRONGLY TO REPEATERS WHERE RECEIVERS IN THE SSA SENSE CANNOT EXI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EATERS MAY THEREFORE ONLY BE CONSIDERED AS DRIVERS AND SHOULD BE SUBJECT ONLY TO DRIVER SPECIFICATIO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EATERS MUST PROVIDE SSA TERMINATION HOWEVER SINCE THEIR INPUTS (REPEATER  “RECEIVERS”) ARE DIRECTLY CONNECTED TO THE SSA DRIVE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14440" y="507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14440" y="180324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AN IMPLICIT ASSUMPTION THAT THE TERMINATION IS VERY CLOSE TO THE ELECTRICAL RECEIV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ALSO A REQUIREMENT THAT TERMINATORS SUPPLY THE DC PATH BACK TO THE DRIVE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ATHS FROM THE SSA DRIVER TO THE TERMINATOR NEAR THE REAL SSA RECEIVER ARE GENERALLY ASSUMED TO BE LOW RESISTANCE DIRECTLY COUPLED COPPER LIN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INTRODUCTION OF REPEATERS AND EQUALIZERS VIOLATES THIS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14440" y="203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625320" y="4024440"/>
            <a:ext cx="7032600" cy="3465360"/>
            <a:chOff x="-625320" y="4024440"/>
            <a:chExt cx="7032600" cy="34653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635120" y="4024440"/>
              <a:ext cx="4772160" cy="30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 txBox="1"/>
            <p:nvPr/>
          </p:nvSpPr>
          <p:spPr>
            <a:xfrm>
              <a:off x="1355760" y="5203800"/>
              <a:ext cx="282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800280" y="5965920"/>
              <a:ext cx="866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900 m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861840" y="4394160"/>
              <a:ext cx="806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0 m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-625320" y="5203800"/>
              <a:ext cx="2376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FFERENTIAL VOLT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3108240" y="7184880"/>
              <a:ext cx="1004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nS / DI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746280" y="1469880"/>
            <a:ext cx="5526000" cy="2482920"/>
            <a:chOff x="746280" y="1469880"/>
            <a:chExt cx="5526000" cy="2482920"/>
          </a:xfrm>
        </p:grpSpPr>
        <p:sp>
          <p:nvSpPr>
            <p:cNvPr id="56" name=""/>
            <p:cNvSpPr/>
            <p:nvPr/>
          </p:nvSpPr>
          <p:spPr>
            <a:xfrm>
              <a:off x="76212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5288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7692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05120" y="23623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792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8148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746280" y="2841480"/>
              <a:ext cx="8557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4937040" y="2917800"/>
              <a:ext cx="1093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2879640" y="2384280"/>
              <a:ext cx="1171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D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1812960" y="1622520"/>
              <a:ext cx="136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4784760" y="1469880"/>
              <a:ext cx="1487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3413160" y="1698480"/>
              <a:ext cx="1596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3260880" y="3222720"/>
              <a:ext cx="1527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TANCE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89856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531828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48280" y="22096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48280" y="24382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105520" y="1752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14800" y="2057400"/>
              <a:ext cx="9144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752480" y="205740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572000" y="236232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 txBox="1"/>
          <p:nvPr/>
        </p:nvSpPr>
        <p:spPr>
          <a:xfrm>
            <a:off x="822240" y="7694640"/>
            <a:ext cx="55022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DRIVER WITH 75 OHMS TERMINATING RESIS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NO ADDITIONAL CAPACITANCE/STU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14440" y="203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355760" y="5203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00280" y="5965920"/>
            <a:ext cx="866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61840" y="439416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625320" y="5203800"/>
            <a:ext cx="2376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L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108240" y="718488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46280" y="1469880"/>
            <a:ext cx="5526000" cy="2482920"/>
            <a:chOff x="746280" y="1469880"/>
            <a:chExt cx="5526000" cy="2482920"/>
          </a:xfrm>
        </p:grpSpPr>
        <p:sp>
          <p:nvSpPr>
            <p:cNvPr id="86" name=""/>
            <p:cNvSpPr/>
            <p:nvPr/>
          </p:nvSpPr>
          <p:spPr>
            <a:xfrm>
              <a:off x="76212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5288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2880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692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05120" y="23623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4792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8148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46280" y="2841480"/>
              <a:ext cx="8557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937040" y="2917800"/>
              <a:ext cx="1093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2879640" y="2384280"/>
              <a:ext cx="1171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D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1812960" y="1622520"/>
              <a:ext cx="136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4784760" y="1469880"/>
              <a:ext cx="1487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3413160" y="1698480"/>
              <a:ext cx="1596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260880" y="3222720"/>
              <a:ext cx="1527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TANCE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89856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531828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48280" y="22096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48280" y="24382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105520" y="1752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14800" y="2057400"/>
              <a:ext cx="9144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752480" y="205740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572000" y="236232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441360" y="7618320"/>
            <a:ext cx="57722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RECEIVER WITH 75 OHMS TERMINATING RESIS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NO ADDITIONAL CAPACITANCE/STU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11440" y="4024440"/>
            <a:ext cx="47721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14440" y="203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55760" y="5203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00280" y="5965920"/>
            <a:ext cx="866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61840" y="439416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625320" y="5203800"/>
            <a:ext cx="2376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L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108240" y="718488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46280" y="1469880"/>
            <a:ext cx="5526000" cy="2482920"/>
            <a:chOff x="746280" y="1469880"/>
            <a:chExt cx="5526000" cy="2482920"/>
          </a:xfrm>
        </p:grpSpPr>
        <p:sp>
          <p:nvSpPr>
            <p:cNvPr id="117" name=""/>
            <p:cNvSpPr/>
            <p:nvPr/>
          </p:nvSpPr>
          <p:spPr>
            <a:xfrm>
              <a:off x="76212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5288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2880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692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3623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792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746280" y="2841480"/>
              <a:ext cx="8557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4937040" y="2917800"/>
              <a:ext cx="1093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2879640" y="2384280"/>
              <a:ext cx="1171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D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1812960" y="1622520"/>
              <a:ext cx="136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4784760" y="1469880"/>
              <a:ext cx="1487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3413160" y="1698480"/>
              <a:ext cx="1596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3260880" y="3222720"/>
              <a:ext cx="1527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TANCE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89856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531828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48280" y="22096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8280" y="24382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105520" y="1752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2057400"/>
              <a:ext cx="9144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752480" y="205740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572000" y="236232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41360" y="7618320"/>
            <a:ext cx="5478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DRIVER WITH 100 OHMS TERMINATING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NO ADDITIONAL CAPACITANCE/STU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35120" y="4013280"/>
            <a:ext cx="47721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14440" y="203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355760" y="5203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00280" y="5965920"/>
            <a:ext cx="866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61840" y="439416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625320" y="5203800"/>
            <a:ext cx="2376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L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8240" y="718488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46280" y="1469880"/>
            <a:ext cx="5526000" cy="2482920"/>
            <a:chOff x="746280" y="1469880"/>
            <a:chExt cx="5526000" cy="2482920"/>
          </a:xfrm>
        </p:grpSpPr>
        <p:sp>
          <p:nvSpPr>
            <p:cNvPr id="148" name=""/>
            <p:cNvSpPr/>
            <p:nvPr/>
          </p:nvSpPr>
          <p:spPr>
            <a:xfrm>
              <a:off x="76212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288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880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7692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23623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4792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148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746280" y="2841480"/>
              <a:ext cx="8557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4937040" y="2917800"/>
              <a:ext cx="1093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2879640" y="2384280"/>
              <a:ext cx="1171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D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1812960" y="1622520"/>
              <a:ext cx="136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4784760" y="1469880"/>
              <a:ext cx="1487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3413160" y="1698480"/>
              <a:ext cx="1596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3260880" y="3222720"/>
              <a:ext cx="1527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TANCE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89856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31828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48280" y="22096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48280" y="24382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105520" y="1752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2057400"/>
              <a:ext cx="9144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752480" y="205740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572000" y="236232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 txBox="1"/>
          <p:nvPr/>
        </p:nvSpPr>
        <p:spPr>
          <a:xfrm>
            <a:off x="441360" y="7618320"/>
            <a:ext cx="57499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RECEIVER WITH 100 OHMS TERMINATING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NO ADDITIONAL CAPACITANCE/STU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35120" y="4024440"/>
            <a:ext cx="47721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514440" y="203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A ELECTRICAL LAYER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55760" y="52038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00280" y="5965920"/>
            <a:ext cx="866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61840" y="439416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00 m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625320" y="5203800"/>
            <a:ext cx="2376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L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108240" y="718488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46280" y="1469880"/>
            <a:ext cx="5526000" cy="2482920"/>
            <a:chOff x="746280" y="1469880"/>
            <a:chExt cx="5526000" cy="2482920"/>
          </a:xfrm>
        </p:grpSpPr>
        <p:sp>
          <p:nvSpPr>
            <p:cNvPr id="179" name=""/>
            <p:cNvSpPr/>
            <p:nvPr/>
          </p:nvSpPr>
          <p:spPr>
            <a:xfrm>
              <a:off x="76212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981080"/>
              <a:ext cx="10666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2880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920" y="2209680"/>
              <a:ext cx="763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236232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792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81480" y="2286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746280" y="2841480"/>
              <a:ext cx="8557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4937040" y="2917800"/>
              <a:ext cx="1093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2879640" y="2384280"/>
              <a:ext cx="1171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D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812960" y="1622520"/>
              <a:ext cx="1360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4784760" y="1469880"/>
              <a:ext cx="1487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3413160" y="1698480"/>
              <a:ext cx="1596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3260880" y="3222720"/>
              <a:ext cx="1527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TANCE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89856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5318280" y="2079720"/>
              <a:ext cx="6094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48280" y="22096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48280" y="2438280"/>
              <a:ext cx="76320" cy="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105520" y="1752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14800" y="2057400"/>
              <a:ext cx="9144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752480" y="2057400"/>
              <a:ext cx="38124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572000" y="236232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441360" y="7618320"/>
            <a:ext cx="53658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 DRIVER WITH 50 OHMS TERMINATING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NO ADDITIONAL CAPACITANCE/STU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35120" y="3970440"/>
            <a:ext cx="477216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M</dc:creator>
  <dc:description>NOT A COMPETE SET</dc:description>
  <dc:language>en-US</dc:language>
  <cp:lastModifiedBy>William E. Ham</cp:lastModifiedBy>
  <cp:revision>0</cp:revision>
  <dc:subject/>
  <dc:title>SLIDES FOR THE 9/25/95 ELECTRICAL WORKING GROUP</dc:title>
</cp:coreProperties>
</file>