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736640" y="6469200"/>
            <a:ext cx="4559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LL HAM  DIGITAL EQUIPMENT  SSA  WORKING GROUP  DEC 13, 1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955960" y="509760"/>
            <a:ext cx="3346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S AND LINE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69960" y="1805040"/>
            <a:ext cx="1631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477120" y="152388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2160" y="1703520"/>
            <a:ext cx="193680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494080" y="2112840"/>
            <a:ext cx="228600" cy="228600"/>
            <a:chOff x="2494080" y="2112840"/>
            <a:chExt cx="228600" cy="228600"/>
          </a:xfrm>
        </p:grpSpPr>
        <p:sp>
          <p:nvSpPr>
            <p:cNvPr id="44" name=""/>
            <p:cNvSpPr/>
            <p:nvPr/>
          </p:nvSpPr>
          <p:spPr>
            <a:xfrm>
              <a:off x="2494080" y="21128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2494080" y="21128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359400" y="2077920"/>
            <a:ext cx="228600" cy="228600"/>
            <a:chOff x="6359400" y="2077920"/>
            <a:chExt cx="228600" cy="228600"/>
          </a:xfrm>
        </p:grpSpPr>
        <p:sp>
          <p:nvSpPr>
            <p:cNvPr id="47" name=""/>
            <p:cNvSpPr/>
            <p:nvPr/>
          </p:nvSpPr>
          <p:spPr>
            <a:xfrm>
              <a:off x="6359400" y="20779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6359400" y="20779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2590920" y="22096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175280" y="1271520"/>
            <a:ext cx="768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24520" y="165276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2329"/>
                </a:moveTo>
                <a:lnTo>
                  <a:pt x="0" y="2329"/>
                </a:lnTo>
                <a:cubicBezTo>
                  <a:pt x="132" y="2329"/>
                  <a:pt x="261" y="2221"/>
                  <a:pt x="376" y="2017"/>
                </a:cubicBezTo>
                <a:cubicBezTo>
                  <a:pt x="490" y="1813"/>
                  <a:pt x="584" y="1519"/>
                  <a:pt x="650" y="1164"/>
                </a:cubicBezTo>
                <a:cubicBezTo>
                  <a:pt x="716" y="810"/>
                  <a:pt x="751" y="409"/>
                  <a:pt x="75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33640" y="1279440"/>
            <a:ext cx="302040" cy="1064160"/>
          </a:xfrm>
          <a:custGeom>
            <a:avLst/>
            <a:gdLst/>
            <a:ahLst/>
            <a:rect l="0" t="0" r="r" b="b"/>
            <a:pathLst>
              <a:path fill="none" w="839" h="2956">
                <a:moveTo>
                  <a:pt x="0" y="0"/>
                </a:moveTo>
                <a:lnTo>
                  <a:pt x="0" y="0"/>
                </a:lnTo>
                <a:cubicBezTo>
                  <a:pt x="0" y="519"/>
                  <a:pt x="39" y="1029"/>
                  <a:pt x="112" y="1478"/>
                </a:cubicBezTo>
                <a:cubicBezTo>
                  <a:pt x="186" y="1927"/>
                  <a:pt x="292" y="2301"/>
                  <a:pt x="420" y="2560"/>
                </a:cubicBezTo>
                <a:cubicBezTo>
                  <a:pt x="547" y="2819"/>
                  <a:pt x="692" y="2956"/>
                  <a:pt x="839" y="29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6320" y="1243080"/>
            <a:ext cx="282240" cy="1121040"/>
          </a:xfrm>
          <a:custGeom>
            <a:avLst/>
            <a:gdLst/>
            <a:ahLst/>
            <a:rect l="0" t="0" r="r" b="b"/>
            <a:pathLst>
              <a:path fill="none" w="784" h="3114">
                <a:moveTo>
                  <a:pt x="0" y="3114"/>
                </a:moveTo>
                <a:lnTo>
                  <a:pt x="0" y="3114"/>
                </a:lnTo>
                <a:cubicBezTo>
                  <a:pt x="138" y="3114"/>
                  <a:pt x="273" y="2970"/>
                  <a:pt x="392" y="2697"/>
                </a:cubicBezTo>
                <a:cubicBezTo>
                  <a:pt x="511" y="2423"/>
                  <a:pt x="610" y="2030"/>
                  <a:pt x="679" y="1557"/>
                </a:cubicBezTo>
                <a:cubicBezTo>
                  <a:pt x="748" y="1084"/>
                  <a:pt x="784" y="547"/>
                  <a:pt x="78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00520" y="167148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0"/>
                </a:moveTo>
                <a:lnTo>
                  <a:pt x="0" y="0"/>
                </a:lnTo>
                <a:cubicBezTo>
                  <a:pt x="0" y="409"/>
                  <a:pt x="35" y="810"/>
                  <a:pt x="101" y="1165"/>
                </a:cubicBezTo>
                <a:cubicBezTo>
                  <a:pt x="167" y="1519"/>
                  <a:pt x="261" y="1813"/>
                  <a:pt x="376" y="2017"/>
                </a:cubicBezTo>
                <a:cubicBezTo>
                  <a:pt x="490" y="2221"/>
                  <a:pt x="619" y="2329"/>
                  <a:pt x="751" y="232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52388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0880" y="3710160"/>
            <a:ext cx="2143440" cy="366840"/>
            <a:chOff x="380880" y="3710160"/>
            <a:chExt cx="2143440" cy="366840"/>
          </a:xfrm>
        </p:grpSpPr>
        <p:grpSp>
          <p:nvGrpSpPr>
            <p:cNvPr id="57" name=""/>
            <p:cNvGrpSpPr/>
            <p:nvPr/>
          </p:nvGrpSpPr>
          <p:grpSpPr>
            <a:xfrm>
              <a:off x="380880" y="3733920"/>
              <a:ext cx="228600" cy="228600"/>
              <a:chOff x="380880" y="3733920"/>
              <a:chExt cx="228600" cy="228600"/>
            </a:xfrm>
          </p:grpSpPr>
          <p:sp>
            <p:nvSpPr>
              <p:cNvPr id="58" name=""/>
              <p:cNvSpPr/>
              <p:nvPr/>
            </p:nvSpPr>
            <p:spPr>
              <a:xfrm>
                <a:off x="380880" y="373392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380880" y="373392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 txBox="1"/>
            <p:nvPr/>
          </p:nvSpPr>
          <p:spPr>
            <a:xfrm>
              <a:off x="669960" y="3710160"/>
              <a:ext cx="1854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CONN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 txBox="1"/>
          <p:nvPr/>
        </p:nvSpPr>
        <p:spPr>
          <a:xfrm>
            <a:off x="669960" y="4395960"/>
            <a:ext cx="1631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411480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2160" y="4294080"/>
            <a:ext cx="196200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DOES NOT R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RE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SA 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494080" y="4703760"/>
            <a:ext cx="228600" cy="228600"/>
            <a:chOff x="2494080" y="4703760"/>
            <a:chExt cx="228600" cy="228600"/>
          </a:xfrm>
        </p:grpSpPr>
        <p:sp>
          <p:nvSpPr>
            <p:cNvPr id="65" name=""/>
            <p:cNvSpPr/>
            <p:nvPr/>
          </p:nvSpPr>
          <p:spPr>
            <a:xfrm>
              <a:off x="2494080" y="47037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494080" y="47037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359400" y="4668840"/>
            <a:ext cx="228600" cy="228600"/>
            <a:chOff x="6359400" y="4668840"/>
            <a:chExt cx="228600" cy="228600"/>
          </a:xfrm>
        </p:grpSpPr>
        <p:sp>
          <p:nvSpPr>
            <p:cNvPr id="68" name=""/>
            <p:cNvSpPr/>
            <p:nvPr/>
          </p:nvSpPr>
          <p:spPr>
            <a:xfrm>
              <a:off x="6359400" y="46688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359400" y="46688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590920" y="48006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18080" y="3862440"/>
            <a:ext cx="1962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24520" y="424332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2329"/>
                </a:moveTo>
                <a:lnTo>
                  <a:pt x="0" y="2329"/>
                </a:lnTo>
                <a:cubicBezTo>
                  <a:pt x="132" y="2329"/>
                  <a:pt x="261" y="2221"/>
                  <a:pt x="376" y="2017"/>
                </a:cubicBezTo>
                <a:cubicBezTo>
                  <a:pt x="490" y="1813"/>
                  <a:pt x="584" y="1519"/>
                  <a:pt x="650" y="1164"/>
                </a:cubicBezTo>
                <a:cubicBezTo>
                  <a:pt x="716" y="810"/>
                  <a:pt x="751" y="409"/>
                  <a:pt x="75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33640" y="3870360"/>
            <a:ext cx="302040" cy="1064160"/>
          </a:xfrm>
          <a:custGeom>
            <a:avLst/>
            <a:gdLst/>
            <a:ahLst/>
            <a:rect l="0" t="0" r="r" b="b"/>
            <a:pathLst>
              <a:path fill="none" w="839" h="2956">
                <a:moveTo>
                  <a:pt x="0" y="0"/>
                </a:moveTo>
                <a:lnTo>
                  <a:pt x="0" y="0"/>
                </a:lnTo>
                <a:cubicBezTo>
                  <a:pt x="0" y="519"/>
                  <a:pt x="39" y="1029"/>
                  <a:pt x="112" y="1478"/>
                </a:cubicBezTo>
                <a:cubicBezTo>
                  <a:pt x="186" y="1927"/>
                  <a:pt x="292" y="2301"/>
                  <a:pt x="420" y="2560"/>
                </a:cubicBezTo>
                <a:cubicBezTo>
                  <a:pt x="547" y="2819"/>
                  <a:pt x="692" y="2956"/>
                  <a:pt x="839" y="29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6320" y="3833640"/>
            <a:ext cx="282240" cy="1121040"/>
          </a:xfrm>
          <a:custGeom>
            <a:avLst/>
            <a:gdLst/>
            <a:ahLst/>
            <a:rect l="0" t="0" r="r" b="b"/>
            <a:pathLst>
              <a:path fill="none" w="784" h="3114">
                <a:moveTo>
                  <a:pt x="0" y="3114"/>
                </a:moveTo>
                <a:lnTo>
                  <a:pt x="0" y="3114"/>
                </a:lnTo>
                <a:cubicBezTo>
                  <a:pt x="138" y="3114"/>
                  <a:pt x="273" y="2970"/>
                  <a:pt x="392" y="2697"/>
                </a:cubicBezTo>
                <a:cubicBezTo>
                  <a:pt x="511" y="2423"/>
                  <a:pt x="610" y="2030"/>
                  <a:pt x="679" y="1557"/>
                </a:cubicBezTo>
                <a:cubicBezTo>
                  <a:pt x="748" y="1084"/>
                  <a:pt x="784" y="547"/>
                  <a:pt x="78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00520" y="426240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0"/>
                </a:moveTo>
                <a:lnTo>
                  <a:pt x="0" y="0"/>
                </a:lnTo>
                <a:cubicBezTo>
                  <a:pt x="0" y="409"/>
                  <a:pt x="35" y="810"/>
                  <a:pt x="101" y="1165"/>
                </a:cubicBezTo>
                <a:cubicBezTo>
                  <a:pt x="167" y="1519"/>
                  <a:pt x="261" y="1813"/>
                  <a:pt x="376" y="2017"/>
                </a:cubicBezTo>
                <a:cubicBezTo>
                  <a:pt x="490" y="2221"/>
                  <a:pt x="619" y="2329"/>
                  <a:pt x="751" y="232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411480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651040" y="2313000"/>
            <a:ext cx="379080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CONTAINS ONE LIN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ONLY CABLE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USED TO IMPLEMEN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727360" y="4903920"/>
            <a:ext cx="3511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Y CONTAIN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BLE ASSEMBLIES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WITHOUT EQUAL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41360" y="4599000"/>
            <a:ext cx="208908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34340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494080" y="4932360"/>
            <a:ext cx="228600" cy="228600"/>
            <a:chOff x="2494080" y="493236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2494080" y="4932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494080" y="4932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359400" y="4897440"/>
            <a:ext cx="228600" cy="228600"/>
            <a:chOff x="6359400" y="4897440"/>
            <a:chExt cx="228600" cy="228600"/>
          </a:xfrm>
        </p:grpSpPr>
        <p:sp>
          <p:nvSpPr>
            <p:cNvPr id="85" name=""/>
            <p:cNvSpPr/>
            <p:nvPr/>
          </p:nvSpPr>
          <p:spPr>
            <a:xfrm>
              <a:off x="6359400" y="48974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59400" y="48974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90920" y="50292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727360" y="4278240"/>
            <a:ext cx="367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 CONNECTION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24520" y="447192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2329"/>
                </a:moveTo>
                <a:lnTo>
                  <a:pt x="0" y="2329"/>
                </a:lnTo>
                <a:cubicBezTo>
                  <a:pt x="132" y="2329"/>
                  <a:pt x="261" y="2221"/>
                  <a:pt x="376" y="2017"/>
                </a:cubicBezTo>
                <a:cubicBezTo>
                  <a:pt x="490" y="1813"/>
                  <a:pt x="584" y="1519"/>
                  <a:pt x="650" y="1164"/>
                </a:cubicBezTo>
                <a:cubicBezTo>
                  <a:pt x="716" y="810"/>
                  <a:pt x="751" y="409"/>
                  <a:pt x="75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33640" y="4098960"/>
            <a:ext cx="302040" cy="1064160"/>
          </a:xfrm>
          <a:custGeom>
            <a:avLst/>
            <a:gdLst/>
            <a:ahLst/>
            <a:rect l="0" t="0" r="r" b="b"/>
            <a:pathLst>
              <a:path fill="none" w="839" h="2956">
                <a:moveTo>
                  <a:pt x="0" y="0"/>
                </a:moveTo>
                <a:lnTo>
                  <a:pt x="0" y="0"/>
                </a:lnTo>
                <a:cubicBezTo>
                  <a:pt x="0" y="519"/>
                  <a:pt x="39" y="1029"/>
                  <a:pt x="112" y="1478"/>
                </a:cubicBezTo>
                <a:cubicBezTo>
                  <a:pt x="186" y="1927"/>
                  <a:pt x="292" y="2301"/>
                  <a:pt x="420" y="2560"/>
                </a:cubicBezTo>
                <a:cubicBezTo>
                  <a:pt x="547" y="2819"/>
                  <a:pt x="692" y="2956"/>
                  <a:pt x="839" y="29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6320" y="4062240"/>
            <a:ext cx="282240" cy="1121040"/>
          </a:xfrm>
          <a:custGeom>
            <a:avLst/>
            <a:gdLst/>
            <a:ahLst/>
            <a:rect l="0" t="0" r="r" b="b"/>
            <a:pathLst>
              <a:path fill="none" w="784" h="3114">
                <a:moveTo>
                  <a:pt x="0" y="3114"/>
                </a:moveTo>
                <a:lnTo>
                  <a:pt x="0" y="3114"/>
                </a:lnTo>
                <a:cubicBezTo>
                  <a:pt x="138" y="3114"/>
                  <a:pt x="273" y="2970"/>
                  <a:pt x="392" y="2697"/>
                </a:cubicBezTo>
                <a:cubicBezTo>
                  <a:pt x="511" y="2423"/>
                  <a:pt x="610" y="2030"/>
                  <a:pt x="679" y="1557"/>
                </a:cubicBezTo>
                <a:cubicBezTo>
                  <a:pt x="748" y="1084"/>
                  <a:pt x="784" y="547"/>
                  <a:pt x="78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00520" y="449100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0"/>
                </a:moveTo>
                <a:lnTo>
                  <a:pt x="0" y="0"/>
                </a:lnTo>
                <a:cubicBezTo>
                  <a:pt x="0" y="409"/>
                  <a:pt x="35" y="810"/>
                  <a:pt x="101" y="1165"/>
                </a:cubicBezTo>
                <a:cubicBezTo>
                  <a:pt x="167" y="1519"/>
                  <a:pt x="261" y="1813"/>
                  <a:pt x="376" y="2017"/>
                </a:cubicBezTo>
                <a:cubicBezTo>
                  <a:pt x="490" y="2221"/>
                  <a:pt x="619" y="2329"/>
                  <a:pt x="751" y="232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34340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13560" y="4522680"/>
            <a:ext cx="208908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04920" y="2948040"/>
            <a:ext cx="2143080" cy="366840"/>
            <a:chOff x="304920" y="2948040"/>
            <a:chExt cx="2143080" cy="366840"/>
          </a:xfrm>
        </p:grpSpPr>
        <p:grpSp>
          <p:nvGrpSpPr>
            <p:cNvPr id="96" name=""/>
            <p:cNvGrpSpPr/>
            <p:nvPr/>
          </p:nvGrpSpPr>
          <p:grpSpPr>
            <a:xfrm>
              <a:off x="304920" y="2971800"/>
              <a:ext cx="228600" cy="228600"/>
              <a:chOff x="304920" y="2971800"/>
              <a:chExt cx="228600" cy="228600"/>
            </a:xfrm>
          </p:grpSpPr>
          <p:sp>
            <p:nvSpPr>
              <p:cNvPr id="97" name=""/>
              <p:cNvSpPr/>
              <p:nvPr/>
            </p:nvSpPr>
            <p:spPr>
              <a:xfrm>
                <a:off x="304920" y="297180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304920" y="297180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 txBox="1"/>
            <p:nvPr/>
          </p:nvSpPr>
          <p:spPr>
            <a:xfrm>
              <a:off x="593640" y="2948040"/>
              <a:ext cx="1854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CONN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1355760" y="128520"/>
            <a:ext cx="6775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 CONNECTIONS AND PORT CONNECTION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76212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494080" y="1351080"/>
            <a:ext cx="228600" cy="228600"/>
            <a:chOff x="2494080" y="1351080"/>
            <a:chExt cx="228600" cy="228600"/>
          </a:xfrm>
        </p:grpSpPr>
        <p:sp>
          <p:nvSpPr>
            <p:cNvPr id="103" name=""/>
            <p:cNvSpPr/>
            <p:nvPr/>
          </p:nvSpPr>
          <p:spPr>
            <a:xfrm>
              <a:off x="2494080" y="13510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494080" y="13510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359400" y="1316160"/>
            <a:ext cx="228600" cy="228600"/>
            <a:chOff x="6359400" y="1316160"/>
            <a:chExt cx="228600" cy="228600"/>
          </a:xfrm>
        </p:grpSpPr>
        <p:sp>
          <p:nvSpPr>
            <p:cNvPr id="106" name=""/>
            <p:cNvSpPr/>
            <p:nvPr/>
          </p:nvSpPr>
          <p:spPr>
            <a:xfrm>
              <a:off x="6359400" y="13161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359400" y="13161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90920" y="14479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24520" y="89064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2329"/>
                </a:moveTo>
                <a:lnTo>
                  <a:pt x="0" y="2329"/>
                </a:lnTo>
                <a:cubicBezTo>
                  <a:pt x="132" y="2329"/>
                  <a:pt x="261" y="2221"/>
                  <a:pt x="376" y="2017"/>
                </a:cubicBezTo>
                <a:cubicBezTo>
                  <a:pt x="490" y="1813"/>
                  <a:pt x="584" y="1519"/>
                  <a:pt x="650" y="1164"/>
                </a:cubicBezTo>
                <a:cubicBezTo>
                  <a:pt x="716" y="810"/>
                  <a:pt x="751" y="409"/>
                  <a:pt x="75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3640" y="517680"/>
            <a:ext cx="302040" cy="1064160"/>
          </a:xfrm>
          <a:custGeom>
            <a:avLst/>
            <a:gdLst/>
            <a:ahLst/>
            <a:rect l="0" t="0" r="r" b="b"/>
            <a:pathLst>
              <a:path fill="none" w="839" h="2956">
                <a:moveTo>
                  <a:pt x="0" y="0"/>
                </a:moveTo>
                <a:lnTo>
                  <a:pt x="0" y="0"/>
                </a:lnTo>
                <a:cubicBezTo>
                  <a:pt x="0" y="519"/>
                  <a:pt x="39" y="1029"/>
                  <a:pt x="112" y="1478"/>
                </a:cubicBezTo>
                <a:cubicBezTo>
                  <a:pt x="186" y="1927"/>
                  <a:pt x="292" y="2301"/>
                  <a:pt x="420" y="2560"/>
                </a:cubicBezTo>
                <a:cubicBezTo>
                  <a:pt x="547" y="2819"/>
                  <a:pt x="692" y="2956"/>
                  <a:pt x="839" y="29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6320" y="480960"/>
            <a:ext cx="282240" cy="1121040"/>
          </a:xfrm>
          <a:custGeom>
            <a:avLst/>
            <a:gdLst/>
            <a:ahLst/>
            <a:rect l="0" t="0" r="r" b="b"/>
            <a:pathLst>
              <a:path fill="none" w="784" h="3114">
                <a:moveTo>
                  <a:pt x="0" y="3114"/>
                </a:moveTo>
                <a:lnTo>
                  <a:pt x="0" y="3114"/>
                </a:lnTo>
                <a:cubicBezTo>
                  <a:pt x="138" y="3114"/>
                  <a:pt x="273" y="2970"/>
                  <a:pt x="392" y="2697"/>
                </a:cubicBezTo>
                <a:cubicBezTo>
                  <a:pt x="511" y="2423"/>
                  <a:pt x="610" y="2030"/>
                  <a:pt x="679" y="1557"/>
                </a:cubicBezTo>
                <a:cubicBezTo>
                  <a:pt x="748" y="1084"/>
                  <a:pt x="784" y="547"/>
                  <a:pt x="78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00520" y="90972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0"/>
                </a:moveTo>
                <a:lnTo>
                  <a:pt x="0" y="0"/>
                </a:lnTo>
                <a:cubicBezTo>
                  <a:pt x="0" y="409"/>
                  <a:pt x="35" y="810"/>
                  <a:pt x="101" y="1165"/>
                </a:cubicBezTo>
                <a:cubicBezTo>
                  <a:pt x="167" y="1519"/>
                  <a:pt x="261" y="1813"/>
                  <a:pt x="376" y="2017"/>
                </a:cubicBezTo>
                <a:cubicBezTo>
                  <a:pt x="490" y="2221"/>
                  <a:pt x="619" y="2329"/>
                  <a:pt x="751" y="232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108240" y="1474920"/>
            <a:ext cx="300348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LL HAVE TWO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PROVIDE A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RANSMI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ICAL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WEEN LIN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LINE RECE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613560" y="941400"/>
            <a:ext cx="212724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65040" y="1017720"/>
            <a:ext cx="219060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DRIVER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438360" y="636480"/>
            <a:ext cx="2419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727360" y="5132520"/>
            <a:ext cx="3511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Y CONTAIN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BLE ASSEMBLIES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WITHOUT EQUAL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422440" y="3081240"/>
            <a:ext cx="577224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CONTAINS ONE PORT CONNECTION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ONLY CABLE ASSEMBLIES, INCLUDING T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EQUALIZATION,  ARE USED TO IMP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ORT CONN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4648320" y="1925640"/>
            <a:ext cx="228600" cy="228600"/>
            <a:chOff x="4648320" y="1925640"/>
            <a:chExt cx="228600" cy="228600"/>
          </a:xfrm>
        </p:grpSpPr>
        <p:sp>
          <p:nvSpPr>
            <p:cNvPr id="121" name=""/>
            <p:cNvSpPr/>
            <p:nvPr/>
          </p:nvSpPr>
          <p:spPr>
            <a:xfrm>
              <a:off x="4648320" y="19256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648320" y="19256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553080" y="137160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570040" y="1960560"/>
            <a:ext cx="228600" cy="228600"/>
            <a:chOff x="2570040" y="1960560"/>
            <a:chExt cx="228600" cy="228600"/>
          </a:xfrm>
        </p:grpSpPr>
        <p:sp>
          <p:nvSpPr>
            <p:cNvPr id="125" name=""/>
            <p:cNvSpPr/>
            <p:nvPr/>
          </p:nvSpPr>
          <p:spPr>
            <a:xfrm>
              <a:off x="2570040" y="1960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570040" y="1960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435720" y="1925640"/>
            <a:ext cx="228600" cy="228600"/>
            <a:chOff x="6435720" y="1925640"/>
            <a:chExt cx="228600" cy="228600"/>
          </a:xfrm>
        </p:grpSpPr>
        <p:sp>
          <p:nvSpPr>
            <p:cNvPr id="128" name=""/>
            <p:cNvSpPr/>
            <p:nvPr/>
          </p:nvSpPr>
          <p:spPr>
            <a:xfrm>
              <a:off x="6435720" y="19256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435720" y="19256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666880" y="20574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164040" y="976320"/>
            <a:ext cx="29908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FORM OF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 CONN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00840" y="150012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2329"/>
                </a:moveTo>
                <a:lnTo>
                  <a:pt x="0" y="2329"/>
                </a:lnTo>
                <a:cubicBezTo>
                  <a:pt x="132" y="2329"/>
                  <a:pt x="261" y="2221"/>
                  <a:pt x="376" y="2017"/>
                </a:cubicBezTo>
                <a:cubicBezTo>
                  <a:pt x="490" y="1813"/>
                  <a:pt x="584" y="1519"/>
                  <a:pt x="650" y="1164"/>
                </a:cubicBezTo>
                <a:cubicBezTo>
                  <a:pt x="716" y="810"/>
                  <a:pt x="751" y="409"/>
                  <a:pt x="75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09960" y="1127160"/>
            <a:ext cx="302040" cy="1064160"/>
          </a:xfrm>
          <a:custGeom>
            <a:avLst/>
            <a:gdLst/>
            <a:ahLst/>
            <a:rect l="0" t="0" r="r" b="b"/>
            <a:pathLst>
              <a:path fill="none" w="839" h="2956">
                <a:moveTo>
                  <a:pt x="0" y="0"/>
                </a:moveTo>
                <a:lnTo>
                  <a:pt x="0" y="0"/>
                </a:lnTo>
                <a:cubicBezTo>
                  <a:pt x="0" y="519"/>
                  <a:pt x="39" y="1029"/>
                  <a:pt x="112" y="1478"/>
                </a:cubicBezTo>
                <a:cubicBezTo>
                  <a:pt x="186" y="1927"/>
                  <a:pt x="292" y="2301"/>
                  <a:pt x="420" y="2560"/>
                </a:cubicBezTo>
                <a:cubicBezTo>
                  <a:pt x="547" y="2819"/>
                  <a:pt x="692" y="2956"/>
                  <a:pt x="839" y="29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12640" y="1090440"/>
            <a:ext cx="282240" cy="1121040"/>
          </a:xfrm>
          <a:custGeom>
            <a:avLst/>
            <a:gdLst/>
            <a:ahLst/>
            <a:rect l="0" t="0" r="r" b="b"/>
            <a:pathLst>
              <a:path fill="none" w="784" h="3114">
                <a:moveTo>
                  <a:pt x="0" y="3114"/>
                </a:moveTo>
                <a:lnTo>
                  <a:pt x="0" y="3114"/>
                </a:lnTo>
                <a:cubicBezTo>
                  <a:pt x="138" y="3114"/>
                  <a:pt x="273" y="2970"/>
                  <a:pt x="392" y="2697"/>
                </a:cubicBezTo>
                <a:cubicBezTo>
                  <a:pt x="511" y="2423"/>
                  <a:pt x="610" y="2030"/>
                  <a:pt x="679" y="1557"/>
                </a:cubicBezTo>
                <a:cubicBezTo>
                  <a:pt x="748" y="1084"/>
                  <a:pt x="784" y="547"/>
                  <a:pt x="78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76480" y="151920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0"/>
                </a:moveTo>
                <a:lnTo>
                  <a:pt x="0" y="0"/>
                </a:lnTo>
                <a:cubicBezTo>
                  <a:pt x="0" y="409"/>
                  <a:pt x="35" y="810"/>
                  <a:pt x="101" y="1165"/>
                </a:cubicBezTo>
                <a:cubicBezTo>
                  <a:pt x="167" y="1519"/>
                  <a:pt x="261" y="1813"/>
                  <a:pt x="376" y="2017"/>
                </a:cubicBezTo>
                <a:cubicBezTo>
                  <a:pt x="490" y="2221"/>
                  <a:pt x="619" y="2329"/>
                  <a:pt x="751" y="232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727360" y="2236680"/>
            <a:ext cx="377820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CABLE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INGLE PORT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GMENT  - THE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IES HAVE TWO 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689880" y="1550880"/>
            <a:ext cx="212724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41360" y="1627200"/>
            <a:ext cx="219060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DRIVER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50840" y="3684600"/>
            <a:ext cx="675000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 CONNECTIONS IMPLEMENTED WITH SINGLE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IES USING PASSIVE EQUALIZERS AR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COMPLEX PORT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PORT CONNECTIONS MAY ALS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USING PORT CONNECTION COUPLERS (PCC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C’S MAY CONTAIN OPTICAL OR OTHER MEAN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TING SIGNALS WITHIN THE PCC BETWEE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GMENT TERMINATION SIDE AND THE LINE DRIVER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651040" y="331920"/>
            <a:ext cx="37656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PORT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57200" y="1042920"/>
            <a:ext cx="2143440" cy="366840"/>
            <a:chOff x="457200" y="1042920"/>
            <a:chExt cx="2143440" cy="366840"/>
          </a:xfrm>
        </p:grpSpPr>
        <p:grpSp>
          <p:nvGrpSpPr>
            <p:cNvPr id="143" name=""/>
            <p:cNvGrpSpPr/>
            <p:nvPr/>
          </p:nvGrpSpPr>
          <p:grpSpPr>
            <a:xfrm>
              <a:off x="457200" y="1066680"/>
              <a:ext cx="228600" cy="228600"/>
              <a:chOff x="457200" y="1066680"/>
              <a:chExt cx="228600" cy="228600"/>
            </a:xfrm>
          </p:grpSpPr>
          <p:sp>
            <p:nvSpPr>
              <p:cNvPr id="144" name=""/>
              <p:cNvSpPr/>
              <p:nvPr/>
            </p:nvSpPr>
            <p:spPr>
              <a:xfrm>
                <a:off x="457200" y="106668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57200" y="106668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 txBox="1"/>
            <p:nvPr/>
          </p:nvSpPr>
          <p:spPr>
            <a:xfrm>
              <a:off x="746280" y="1042920"/>
              <a:ext cx="1854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CONN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52480" y="533520"/>
            <a:ext cx="510552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346480" y="204840"/>
            <a:ext cx="4299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 CONNECTION COUPLER (P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6440" y="1017720"/>
            <a:ext cx="172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65240" y="865080"/>
            <a:ext cx="208908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708440" y="865080"/>
            <a:ext cx="208908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858000" y="914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33520" y="9144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1981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9051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12960" y="2770200"/>
            <a:ext cx="6305400" cy="10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C’S SHALL HAVE LINE DRIVERS THAT MEET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REQUIREMENTS FOR SSA PORT 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ERS  WITH ANY COMPLIANT SSA LIN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ALS AT THE LINE SEGMENT TERMINATION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74880" y="3913200"/>
            <a:ext cx="7346880" cy="23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C-LIKE ELEMENTS WITHIN A COMPLEX PORT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NOT BE INTERCHANGEABLE AND PORT CONN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GMENT LENGTHS MAY NEED TO BE REDUCED UNLES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MENTS OF PCC’S AS DEFINED ARE MET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THE REQUIREMENTS AT THE PORT CONNECTORS 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COMPLEX PORT CONNECTIONS THAT DO NOT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ABILITY FOR PCC-LIKE ELEMENTS OR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 CONNECTION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994440" y="1017720"/>
            <a:ext cx="172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038480"/>
            <a:ext cx="7543800" cy="2286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2154240"/>
            <a:ext cx="530280" cy="304920"/>
            <a:chOff x="304920" y="2154240"/>
            <a:chExt cx="530280" cy="304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2154240"/>
              <a:ext cx="228600" cy="228600"/>
              <a:chOff x="304920" y="2154240"/>
              <a:chExt cx="228600" cy="22860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215424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304920" y="215424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 txBox="1"/>
            <p:nvPr/>
          </p:nvSpPr>
          <p:spPr>
            <a:xfrm>
              <a:off x="517680" y="2160720"/>
              <a:ext cx="3175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75000"/>
                </a:lnSpc>
                <a:spcBef>
                  <a:spcPts val="47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136440" y="2465280"/>
            <a:ext cx="16574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CHIP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655640" y="1773360"/>
            <a:ext cx="228600" cy="228600"/>
            <a:chOff x="1655640" y="1773360"/>
            <a:chExt cx="228600" cy="228600"/>
          </a:xfrm>
        </p:grpSpPr>
        <p:sp>
          <p:nvSpPr>
            <p:cNvPr id="167" name=""/>
            <p:cNvSpPr/>
            <p:nvPr/>
          </p:nvSpPr>
          <p:spPr>
            <a:xfrm>
              <a:off x="1655640" y="1773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655640" y="1773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55640" y="803160"/>
            <a:ext cx="228600" cy="228600"/>
            <a:chOff x="1655640" y="803160"/>
            <a:chExt cx="228600" cy="228600"/>
          </a:xfrm>
        </p:grpSpPr>
        <p:sp>
          <p:nvSpPr>
            <p:cNvPr id="170" name=""/>
            <p:cNvSpPr/>
            <p:nvPr/>
          </p:nvSpPr>
          <p:spPr>
            <a:xfrm>
              <a:off x="1655640" y="8031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655640" y="8031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746760" y="1870200"/>
            <a:ext cx="228600" cy="228600"/>
            <a:chOff x="6746760" y="1870200"/>
            <a:chExt cx="228600" cy="228600"/>
          </a:xfrm>
        </p:grpSpPr>
        <p:sp>
          <p:nvSpPr>
            <p:cNvPr id="173" name=""/>
            <p:cNvSpPr/>
            <p:nvPr/>
          </p:nvSpPr>
          <p:spPr>
            <a:xfrm>
              <a:off x="6746760" y="18702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746760" y="18702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740640" y="782640"/>
            <a:ext cx="228600" cy="228600"/>
            <a:chOff x="6740640" y="782640"/>
            <a:chExt cx="228600" cy="228600"/>
          </a:xfrm>
        </p:grpSpPr>
        <p:sp>
          <p:nvSpPr>
            <p:cNvPr id="176" name=""/>
            <p:cNvSpPr/>
            <p:nvPr/>
          </p:nvSpPr>
          <p:spPr>
            <a:xfrm>
              <a:off x="6740640" y="7826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740640" y="7826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H="1">
            <a:off x="3886200" y="990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1752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477120" y="121932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494080" y="1808280"/>
            <a:ext cx="228600" cy="228600"/>
            <a:chOff x="2494080" y="1808280"/>
            <a:chExt cx="228600" cy="228600"/>
          </a:xfrm>
        </p:grpSpPr>
        <p:sp>
          <p:nvSpPr>
            <p:cNvPr id="182" name=""/>
            <p:cNvSpPr/>
            <p:nvPr/>
          </p:nvSpPr>
          <p:spPr>
            <a:xfrm>
              <a:off x="2494080" y="18082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494080" y="18082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359400" y="1773360"/>
            <a:ext cx="228600" cy="228600"/>
            <a:chOff x="6359400" y="1773360"/>
            <a:chExt cx="228600" cy="228600"/>
          </a:xfrm>
        </p:grpSpPr>
        <p:sp>
          <p:nvSpPr>
            <p:cNvPr id="185" name=""/>
            <p:cNvSpPr/>
            <p:nvPr/>
          </p:nvSpPr>
          <p:spPr>
            <a:xfrm>
              <a:off x="6359400" y="1773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359400" y="1773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590920" y="19051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63840" y="442800"/>
            <a:ext cx="64832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PORT CONNECTION EXAMPLES USING PCC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24520" y="134784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2329"/>
                </a:moveTo>
                <a:lnTo>
                  <a:pt x="0" y="2329"/>
                </a:lnTo>
                <a:cubicBezTo>
                  <a:pt x="132" y="2329"/>
                  <a:pt x="261" y="2221"/>
                  <a:pt x="376" y="2017"/>
                </a:cubicBezTo>
                <a:cubicBezTo>
                  <a:pt x="490" y="1813"/>
                  <a:pt x="584" y="1519"/>
                  <a:pt x="650" y="1164"/>
                </a:cubicBezTo>
                <a:cubicBezTo>
                  <a:pt x="716" y="810"/>
                  <a:pt x="751" y="409"/>
                  <a:pt x="75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33640" y="974880"/>
            <a:ext cx="302040" cy="1064160"/>
          </a:xfrm>
          <a:custGeom>
            <a:avLst/>
            <a:gdLst/>
            <a:ahLst/>
            <a:rect l="0" t="0" r="r" b="b"/>
            <a:pathLst>
              <a:path fill="none" w="839" h="2956">
                <a:moveTo>
                  <a:pt x="0" y="0"/>
                </a:moveTo>
                <a:lnTo>
                  <a:pt x="0" y="0"/>
                </a:lnTo>
                <a:cubicBezTo>
                  <a:pt x="0" y="519"/>
                  <a:pt x="39" y="1029"/>
                  <a:pt x="112" y="1478"/>
                </a:cubicBezTo>
                <a:cubicBezTo>
                  <a:pt x="186" y="1927"/>
                  <a:pt x="292" y="2301"/>
                  <a:pt x="420" y="2560"/>
                </a:cubicBezTo>
                <a:cubicBezTo>
                  <a:pt x="547" y="2819"/>
                  <a:pt x="692" y="2956"/>
                  <a:pt x="839" y="29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36320" y="938160"/>
            <a:ext cx="282240" cy="1121040"/>
          </a:xfrm>
          <a:custGeom>
            <a:avLst/>
            <a:gdLst/>
            <a:ahLst/>
            <a:rect l="0" t="0" r="r" b="b"/>
            <a:pathLst>
              <a:path fill="none" w="784" h="3114">
                <a:moveTo>
                  <a:pt x="0" y="3114"/>
                </a:moveTo>
                <a:lnTo>
                  <a:pt x="0" y="3114"/>
                </a:lnTo>
                <a:cubicBezTo>
                  <a:pt x="138" y="3114"/>
                  <a:pt x="273" y="2970"/>
                  <a:pt x="392" y="2697"/>
                </a:cubicBezTo>
                <a:cubicBezTo>
                  <a:pt x="511" y="2423"/>
                  <a:pt x="610" y="2030"/>
                  <a:pt x="679" y="1557"/>
                </a:cubicBezTo>
                <a:cubicBezTo>
                  <a:pt x="748" y="1084"/>
                  <a:pt x="784" y="547"/>
                  <a:pt x="78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00520" y="136692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0"/>
                </a:moveTo>
                <a:lnTo>
                  <a:pt x="0" y="0"/>
                </a:lnTo>
                <a:cubicBezTo>
                  <a:pt x="0" y="409"/>
                  <a:pt x="35" y="810"/>
                  <a:pt x="101" y="1165"/>
                </a:cubicBezTo>
                <a:cubicBezTo>
                  <a:pt x="167" y="1519"/>
                  <a:pt x="261" y="1813"/>
                  <a:pt x="376" y="2017"/>
                </a:cubicBezTo>
                <a:cubicBezTo>
                  <a:pt x="490" y="2221"/>
                  <a:pt x="619" y="2329"/>
                  <a:pt x="751" y="232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21932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651040" y="2389320"/>
            <a:ext cx="37782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CABLE ASSEMBLIES,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 CONNECTION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65040" y="1474920"/>
            <a:ext cx="219060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DRIVER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537240" y="1322280"/>
            <a:ext cx="212724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1676520"/>
            <a:ext cx="9144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856040" y="1793880"/>
            <a:ext cx="228600" cy="228600"/>
            <a:chOff x="4856040" y="1793880"/>
            <a:chExt cx="228600" cy="228600"/>
          </a:xfrm>
        </p:grpSpPr>
        <p:sp>
          <p:nvSpPr>
            <p:cNvPr id="199" name=""/>
            <p:cNvSpPr/>
            <p:nvPr/>
          </p:nvSpPr>
          <p:spPr>
            <a:xfrm>
              <a:off x="4856040" y="17938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856040" y="17938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941640" y="1773360"/>
            <a:ext cx="228600" cy="228600"/>
            <a:chOff x="3941640" y="1773360"/>
            <a:chExt cx="228600" cy="228600"/>
          </a:xfrm>
        </p:grpSpPr>
        <p:sp>
          <p:nvSpPr>
            <p:cNvPr id="202" name=""/>
            <p:cNvSpPr/>
            <p:nvPr/>
          </p:nvSpPr>
          <p:spPr>
            <a:xfrm>
              <a:off x="3941640" y="1773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941640" y="17733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4175280" y="172872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" y="3352680"/>
            <a:ext cx="228600" cy="228600"/>
            <a:chOff x="457200" y="3352680"/>
            <a:chExt cx="228600" cy="228600"/>
          </a:xfrm>
        </p:grpSpPr>
        <p:sp>
          <p:nvSpPr>
            <p:cNvPr id="206" name=""/>
            <p:cNvSpPr/>
            <p:nvPr/>
          </p:nvSpPr>
          <p:spPr>
            <a:xfrm>
              <a:off x="457200" y="33526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57200" y="33526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746280" y="3379680"/>
            <a:ext cx="185436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PCC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403848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494080" y="4627440"/>
            <a:ext cx="228600" cy="228600"/>
            <a:chOff x="2494080" y="4627440"/>
            <a:chExt cx="228600" cy="228600"/>
          </a:xfrm>
        </p:grpSpPr>
        <p:sp>
          <p:nvSpPr>
            <p:cNvPr id="211" name=""/>
            <p:cNvSpPr/>
            <p:nvPr/>
          </p:nvSpPr>
          <p:spPr>
            <a:xfrm>
              <a:off x="2494080" y="46274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494080" y="462744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359400" y="4592520"/>
            <a:ext cx="228600" cy="228600"/>
            <a:chOff x="6359400" y="4592520"/>
            <a:chExt cx="228600" cy="228600"/>
          </a:xfrm>
        </p:grpSpPr>
        <p:sp>
          <p:nvSpPr>
            <p:cNvPr id="214" name=""/>
            <p:cNvSpPr/>
            <p:nvPr/>
          </p:nvSpPr>
          <p:spPr>
            <a:xfrm>
              <a:off x="635940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35940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590920" y="47242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68600" y="3948120"/>
            <a:ext cx="21528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PCC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24520" y="416736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2329"/>
                </a:moveTo>
                <a:lnTo>
                  <a:pt x="0" y="2329"/>
                </a:lnTo>
                <a:cubicBezTo>
                  <a:pt x="132" y="2329"/>
                  <a:pt x="261" y="2221"/>
                  <a:pt x="376" y="2017"/>
                </a:cubicBezTo>
                <a:cubicBezTo>
                  <a:pt x="490" y="1813"/>
                  <a:pt x="584" y="1519"/>
                  <a:pt x="650" y="1164"/>
                </a:cubicBezTo>
                <a:cubicBezTo>
                  <a:pt x="716" y="810"/>
                  <a:pt x="751" y="409"/>
                  <a:pt x="751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33640" y="3794040"/>
            <a:ext cx="302040" cy="1064160"/>
          </a:xfrm>
          <a:custGeom>
            <a:avLst/>
            <a:gdLst/>
            <a:ahLst/>
            <a:rect l="0" t="0" r="r" b="b"/>
            <a:pathLst>
              <a:path fill="none" w="839" h="2956">
                <a:moveTo>
                  <a:pt x="0" y="0"/>
                </a:moveTo>
                <a:lnTo>
                  <a:pt x="0" y="0"/>
                </a:lnTo>
                <a:cubicBezTo>
                  <a:pt x="0" y="519"/>
                  <a:pt x="39" y="1029"/>
                  <a:pt x="112" y="1478"/>
                </a:cubicBezTo>
                <a:cubicBezTo>
                  <a:pt x="186" y="1927"/>
                  <a:pt x="292" y="2301"/>
                  <a:pt x="420" y="2560"/>
                </a:cubicBezTo>
                <a:cubicBezTo>
                  <a:pt x="547" y="2819"/>
                  <a:pt x="692" y="2956"/>
                  <a:pt x="839" y="2956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36320" y="3757680"/>
            <a:ext cx="282240" cy="1121040"/>
          </a:xfrm>
          <a:custGeom>
            <a:avLst/>
            <a:gdLst/>
            <a:ahLst/>
            <a:rect l="0" t="0" r="r" b="b"/>
            <a:pathLst>
              <a:path fill="none" w="784" h="3114">
                <a:moveTo>
                  <a:pt x="0" y="3114"/>
                </a:moveTo>
                <a:lnTo>
                  <a:pt x="0" y="3114"/>
                </a:lnTo>
                <a:cubicBezTo>
                  <a:pt x="138" y="3114"/>
                  <a:pt x="273" y="2970"/>
                  <a:pt x="392" y="2697"/>
                </a:cubicBezTo>
                <a:cubicBezTo>
                  <a:pt x="511" y="2423"/>
                  <a:pt x="610" y="2030"/>
                  <a:pt x="679" y="1557"/>
                </a:cubicBezTo>
                <a:cubicBezTo>
                  <a:pt x="748" y="1084"/>
                  <a:pt x="784" y="547"/>
                  <a:pt x="784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00520" y="4186080"/>
            <a:ext cx="270360" cy="838440"/>
          </a:xfrm>
          <a:custGeom>
            <a:avLst/>
            <a:gdLst/>
            <a:ahLst/>
            <a:rect l="0" t="0" r="r" b="b"/>
            <a:pathLst>
              <a:path fill="none" w="751" h="2329">
                <a:moveTo>
                  <a:pt x="0" y="0"/>
                </a:moveTo>
                <a:lnTo>
                  <a:pt x="0" y="0"/>
                </a:lnTo>
                <a:cubicBezTo>
                  <a:pt x="0" y="409"/>
                  <a:pt x="35" y="810"/>
                  <a:pt x="101" y="1165"/>
                </a:cubicBezTo>
                <a:cubicBezTo>
                  <a:pt x="167" y="1519"/>
                  <a:pt x="261" y="1813"/>
                  <a:pt x="376" y="2017"/>
                </a:cubicBezTo>
                <a:cubicBezTo>
                  <a:pt x="490" y="2221"/>
                  <a:pt x="619" y="2329"/>
                  <a:pt x="751" y="232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4038480"/>
            <a:ext cx="22860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955960" y="5208480"/>
            <a:ext cx="3295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CABLE ASSEMBL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PCC’S, FOUR 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65040" y="4294080"/>
            <a:ext cx="219060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DRIVER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4495680"/>
            <a:ext cx="9144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856040" y="4613400"/>
            <a:ext cx="228600" cy="228600"/>
            <a:chOff x="4856040" y="4613400"/>
            <a:chExt cx="228600" cy="228600"/>
          </a:xfrm>
        </p:grpSpPr>
        <p:sp>
          <p:nvSpPr>
            <p:cNvPr id="227" name=""/>
            <p:cNvSpPr/>
            <p:nvPr/>
          </p:nvSpPr>
          <p:spPr>
            <a:xfrm>
              <a:off x="4856040" y="46134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856040" y="46134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941640" y="4592520"/>
            <a:ext cx="228600" cy="228600"/>
            <a:chOff x="3941640" y="4592520"/>
            <a:chExt cx="228600" cy="228600"/>
          </a:xfrm>
        </p:grpSpPr>
        <p:sp>
          <p:nvSpPr>
            <p:cNvPr id="230" name=""/>
            <p:cNvSpPr/>
            <p:nvPr/>
          </p:nvSpPr>
          <p:spPr>
            <a:xfrm>
              <a:off x="394164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94164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4175280" y="454824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4495680"/>
            <a:ext cx="9144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713040" y="4613400"/>
            <a:ext cx="228600" cy="228600"/>
            <a:chOff x="3713040" y="4613400"/>
            <a:chExt cx="228600" cy="228600"/>
          </a:xfrm>
        </p:grpSpPr>
        <p:sp>
          <p:nvSpPr>
            <p:cNvPr id="235" name=""/>
            <p:cNvSpPr/>
            <p:nvPr/>
          </p:nvSpPr>
          <p:spPr>
            <a:xfrm>
              <a:off x="3713040" y="46134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713040" y="46134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798640" y="4592520"/>
            <a:ext cx="228600" cy="228600"/>
            <a:chOff x="2798640" y="4592520"/>
            <a:chExt cx="228600" cy="228600"/>
          </a:xfrm>
        </p:grpSpPr>
        <p:sp>
          <p:nvSpPr>
            <p:cNvPr id="238" name=""/>
            <p:cNvSpPr/>
            <p:nvPr/>
          </p:nvSpPr>
          <p:spPr>
            <a:xfrm>
              <a:off x="279864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79864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3032280" y="454824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4495680"/>
            <a:ext cx="9144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075360" y="4613400"/>
            <a:ext cx="228600" cy="228600"/>
            <a:chOff x="6075360" y="4613400"/>
            <a:chExt cx="228600" cy="228600"/>
          </a:xfrm>
        </p:grpSpPr>
        <p:sp>
          <p:nvSpPr>
            <p:cNvPr id="243" name=""/>
            <p:cNvSpPr/>
            <p:nvPr/>
          </p:nvSpPr>
          <p:spPr>
            <a:xfrm>
              <a:off x="6075360" y="46134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075360" y="46134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160960" y="4592520"/>
            <a:ext cx="228600" cy="228600"/>
            <a:chOff x="5160960" y="4592520"/>
            <a:chExt cx="228600" cy="228600"/>
          </a:xfrm>
        </p:grpSpPr>
        <p:sp>
          <p:nvSpPr>
            <p:cNvPr id="246" name=""/>
            <p:cNvSpPr/>
            <p:nvPr/>
          </p:nvSpPr>
          <p:spPr>
            <a:xfrm>
              <a:off x="516096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160960" y="459252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 txBox="1"/>
          <p:nvPr/>
        </p:nvSpPr>
        <p:spPr>
          <a:xfrm>
            <a:off x="5394240" y="454824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613560" y="4141800"/>
            <a:ext cx="212724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1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CLUDING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2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565440" y="1093680"/>
            <a:ext cx="1581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TION TO CREATE SSA-PH1 REV 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ON: THAT SSA-PH1 REVISION 08 BE CREATED INCORPORATING THE TECHNICAL CHANGES TO REVISION 07c LISTED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88840" y="37530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VE CONNECTOR PERFORMANCE REQUIREMENTS TO NORMATIVE ANNEX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FIGURES DESCRIBING LINE SEGMENTS, PORT CONNECTIONS, PORT CONNECTION SEGMENTS, PORT CONNECTION COUPLERS, AND COMPLEX PORT CONNECT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NGE LINE SEGMENT TERMINATION REQUIREMENTS TO USE 750 PS RISE TIME INSTEAD OF SLEW RAT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VE EQUALIZER REQUIREMENTS TO CABLE ASSEMBLY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AGENDA FOR THE JANUARY 17, 18 1996 SSA2 WORKING GROUP MEETING IN HAVANT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238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SEGMENT TERMINATION VALUES, MEASUREMENT SCHEME AND STRATEGY FOR PH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SA-PH2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RESULTS SSA/40 SSA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INATION/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ITTER TRANSFER/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CAL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ON BLOCK FUNCTIONS (ID ASSIGNMENTS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 CONNECTOR?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genda, c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ED NEGO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ICATIONS OF AC/OPTICAL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ED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 FOR DC VOLTAGE DROP IN LONG CABLES AND EQUALIZ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m</dc:creator>
  <dc:description>December 11, 1995</dc:description>
  <dc:language>en-US</dc:language>
  <cp:lastModifiedBy>Lawrence J. Lamers</cp:lastModifiedBy>
  <cp:revision>0</cp:revision>
  <dc:subject/>
  <dc:title>Definitions of Port Connection terms</dc:title>
</cp:coreProperties>
</file>