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31400" cy="954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50000">
                <a:srgbClr val="ffffff"/>
              </a:gs>
              <a:gs pos="100000">
                <a:srgbClr val="00279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695600"/>
            <a:ext cx="9131400" cy="95400"/>
          </a:xfrm>
          <a:prstGeom prst="rect">
            <a:avLst/>
          </a:prstGeom>
          <a:gradFill rotWithShape="0">
            <a:gsLst>
              <a:gs pos="0">
                <a:srgbClr val="bfcbe2"/>
              </a:gs>
              <a:gs pos="50000">
                <a:srgbClr val="ffffff"/>
              </a:gs>
              <a:gs pos="100000">
                <a:srgbClr val="bfcbe2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819800" cy="1570320"/>
            <a:chOff x="0" y="0"/>
            <a:chExt cx="1819800" cy="15703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819800" cy="1570320"/>
            </a:xfrm>
            <a:custGeom>
              <a:avLst/>
              <a:gdLst/>
              <a:ahLst/>
              <a:rect l="0" t="0" r="r" b="b"/>
              <a:pathLst>
                <a:path w="5055" h="4362">
                  <a:moveTo>
                    <a:pt x="2265" y="2034"/>
                  </a:moveTo>
                  <a:lnTo>
                    <a:pt x="1266" y="0"/>
                  </a:lnTo>
                  <a:lnTo>
                    <a:pt x="2527" y="1867"/>
                  </a:lnTo>
                  <a:lnTo>
                    <a:pt x="3788" y="0"/>
                  </a:lnTo>
                  <a:lnTo>
                    <a:pt x="2786" y="2034"/>
                  </a:lnTo>
                  <a:lnTo>
                    <a:pt x="5055" y="2178"/>
                  </a:lnTo>
                  <a:lnTo>
                    <a:pt x="2781" y="2328"/>
                  </a:lnTo>
                  <a:lnTo>
                    <a:pt x="3788" y="4362"/>
                  </a:lnTo>
                  <a:lnTo>
                    <a:pt x="2527" y="2494"/>
                  </a:lnTo>
                  <a:lnTo>
                    <a:pt x="1266" y="4362"/>
                  </a:lnTo>
                  <a:lnTo>
                    <a:pt x="2260" y="2336"/>
                  </a:lnTo>
                  <a:lnTo>
                    <a:pt x="0" y="2178"/>
                  </a:lnTo>
                  <a:lnTo>
                    <a:pt x="2265" y="2034"/>
                  </a:lnTo>
                  <a:close/>
                </a:path>
              </a:pathLst>
            </a:custGeom>
            <a:solidFill>
              <a:srgbClr val="103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76280" y="287280"/>
              <a:ext cx="865440" cy="995760"/>
            </a:xfrm>
            <a:custGeom>
              <a:avLst/>
              <a:gdLst/>
              <a:ahLst/>
              <a:rect l="0" t="0" r="r" b="b"/>
              <a:pathLst>
                <a:path w="2404" h="2766">
                  <a:moveTo>
                    <a:pt x="0" y="687"/>
                  </a:moveTo>
                  <a:lnTo>
                    <a:pt x="1116" y="1233"/>
                  </a:lnTo>
                  <a:lnTo>
                    <a:pt x="1204" y="0"/>
                  </a:lnTo>
                  <a:lnTo>
                    <a:pt x="1291" y="1233"/>
                  </a:lnTo>
                  <a:lnTo>
                    <a:pt x="2404" y="687"/>
                  </a:lnTo>
                  <a:lnTo>
                    <a:pt x="1387" y="1381"/>
                  </a:lnTo>
                  <a:lnTo>
                    <a:pt x="2404" y="2078"/>
                  </a:lnTo>
                  <a:lnTo>
                    <a:pt x="1291" y="1538"/>
                  </a:lnTo>
                  <a:lnTo>
                    <a:pt x="1204" y="2766"/>
                  </a:lnTo>
                  <a:lnTo>
                    <a:pt x="1116" y="1538"/>
                  </a:lnTo>
                  <a:lnTo>
                    <a:pt x="0" y="2078"/>
                  </a:lnTo>
                  <a:lnTo>
                    <a:pt x="1025" y="1381"/>
                  </a:lnTo>
                  <a:lnTo>
                    <a:pt x="0" y="687"/>
                  </a:lnTo>
                  <a:close/>
                </a:path>
              </a:pathLst>
            </a:custGeom>
            <a:solidFill>
              <a:srgbClr val="103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77840" y="154080"/>
              <a:ext cx="1464120" cy="1262520"/>
            </a:xfrm>
            <a:custGeom>
              <a:avLst/>
              <a:gdLst/>
              <a:ahLst/>
              <a:rect l="0" t="0" r="r" b="b"/>
              <a:pathLst>
                <a:path w="4067" h="3507">
                  <a:moveTo>
                    <a:pt x="1767" y="1603"/>
                  </a:moveTo>
                  <a:lnTo>
                    <a:pt x="1019" y="0"/>
                  </a:lnTo>
                  <a:lnTo>
                    <a:pt x="2033" y="1441"/>
                  </a:lnTo>
                  <a:lnTo>
                    <a:pt x="3048" y="0"/>
                  </a:lnTo>
                  <a:lnTo>
                    <a:pt x="2296" y="1603"/>
                  </a:lnTo>
                  <a:lnTo>
                    <a:pt x="4067" y="1751"/>
                  </a:lnTo>
                  <a:lnTo>
                    <a:pt x="2291" y="1900"/>
                  </a:lnTo>
                  <a:lnTo>
                    <a:pt x="3048" y="3503"/>
                  </a:lnTo>
                  <a:lnTo>
                    <a:pt x="2033" y="2066"/>
                  </a:lnTo>
                  <a:lnTo>
                    <a:pt x="1019" y="3507"/>
                  </a:lnTo>
                  <a:lnTo>
                    <a:pt x="1762" y="1904"/>
                  </a:lnTo>
                  <a:lnTo>
                    <a:pt x="0" y="1751"/>
                  </a:lnTo>
                  <a:lnTo>
                    <a:pt x="1767" y="1603"/>
                  </a:lnTo>
                  <a:close/>
                </a:path>
              </a:pathLst>
            </a:custGeom>
            <a:solidFill>
              <a:srgbClr val="2040b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3640" y="422280"/>
              <a:ext cx="630720" cy="725760"/>
            </a:xfrm>
            <a:custGeom>
              <a:avLst/>
              <a:gdLst/>
              <a:ahLst/>
              <a:rect l="0" t="0" r="r" b="b"/>
              <a:pathLst>
                <a:path w="1752" h="2016">
                  <a:moveTo>
                    <a:pt x="0" y="507"/>
                  </a:moveTo>
                  <a:lnTo>
                    <a:pt x="792" y="849"/>
                  </a:lnTo>
                  <a:lnTo>
                    <a:pt x="878" y="0"/>
                  </a:lnTo>
                  <a:lnTo>
                    <a:pt x="964" y="849"/>
                  </a:lnTo>
                  <a:lnTo>
                    <a:pt x="1752" y="507"/>
                  </a:lnTo>
                  <a:lnTo>
                    <a:pt x="1055" y="1005"/>
                  </a:lnTo>
                  <a:lnTo>
                    <a:pt x="1752" y="1509"/>
                  </a:lnTo>
                  <a:lnTo>
                    <a:pt x="964" y="1162"/>
                  </a:lnTo>
                  <a:lnTo>
                    <a:pt x="878" y="2016"/>
                  </a:lnTo>
                  <a:lnTo>
                    <a:pt x="792" y="1162"/>
                  </a:lnTo>
                  <a:lnTo>
                    <a:pt x="0" y="1509"/>
                  </a:lnTo>
                  <a:lnTo>
                    <a:pt x="701" y="1005"/>
                  </a:lnTo>
                  <a:lnTo>
                    <a:pt x="0" y="507"/>
                  </a:lnTo>
                  <a:close/>
                </a:path>
              </a:pathLst>
            </a:custGeom>
            <a:solidFill>
              <a:srgbClr val="406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22200" y="277920"/>
              <a:ext cx="1175040" cy="1013040"/>
            </a:xfrm>
            <a:custGeom>
              <a:avLst/>
              <a:gdLst/>
              <a:ahLst/>
              <a:rect l="0" t="0" r="r" b="b"/>
              <a:pathLst>
                <a:path w="3264" h="2814">
                  <a:moveTo>
                    <a:pt x="1365" y="1258"/>
                  </a:moveTo>
                  <a:lnTo>
                    <a:pt x="815" y="0"/>
                  </a:lnTo>
                  <a:lnTo>
                    <a:pt x="1631" y="1097"/>
                  </a:lnTo>
                  <a:lnTo>
                    <a:pt x="2448" y="0"/>
                  </a:lnTo>
                  <a:lnTo>
                    <a:pt x="1894" y="1258"/>
                  </a:lnTo>
                  <a:lnTo>
                    <a:pt x="3264" y="1406"/>
                  </a:lnTo>
                  <a:lnTo>
                    <a:pt x="1889" y="1555"/>
                  </a:lnTo>
                  <a:lnTo>
                    <a:pt x="2448" y="2814"/>
                  </a:lnTo>
                  <a:lnTo>
                    <a:pt x="1631" y="1721"/>
                  </a:lnTo>
                  <a:lnTo>
                    <a:pt x="815" y="2814"/>
                  </a:lnTo>
                  <a:lnTo>
                    <a:pt x="1361" y="1560"/>
                  </a:lnTo>
                  <a:lnTo>
                    <a:pt x="0" y="1406"/>
                  </a:lnTo>
                  <a:lnTo>
                    <a:pt x="1365" y="1258"/>
                  </a:lnTo>
                  <a:close/>
                </a:path>
              </a:pathLst>
            </a:custGeom>
            <a:solidFill>
              <a:srgbClr val="406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09480" y="439560"/>
              <a:ext cx="600480" cy="690840"/>
            </a:xfrm>
            <a:custGeom>
              <a:avLst/>
              <a:gdLst/>
              <a:ahLst/>
              <a:rect l="0" t="0" r="r" b="b"/>
              <a:pathLst>
                <a:path w="1668" h="1919">
                  <a:moveTo>
                    <a:pt x="0" y="480"/>
                  </a:moveTo>
                  <a:lnTo>
                    <a:pt x="748" y="805"/>
                  </a:lnTo>
                  <a:lnTo>
                    <a:pt x="834" y="0"/>
                  </a:lnTo>
                  <a:lnTo>
                    <a:pt x="920" y="805"/>
                  </a:lnTo>
                  <a:lnTo>
                    <a:pt x="1668" y="480"/>
                  </a:lnTo>
                  <a:lnTo>
                    <a:pt x="1011" y="956"/>
                  </a:lnTo>
                  <a:lnTo>
                    <a:pt x="1668" y="1438"/>
                  </a:lnTo>
                  <a:lnTo>
                    <a:pt x="920" y="1118"/>
                  </a:lnTo>
                  <a:lnTo>
                    <a:pt x="834" y="1919"/>
                  </a:lnTo>
                  <a:lnTo>
                    <a:pt x="748" y="1118"/>
                  </a:lnTo>
                  <a:lnTo>
                    <a:pt x="0" y="1438"/>
                  </a:lnTo>
                  <a:lnTo>
                    <a:pt x="657" y="956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508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7120" y="309600"/>
              <a:ext cx="1103760" cy="951120"/>
            </a:xfrm>
            <a:custGeom>
              <a:avLst/>
              <a:gdLst/>
              <a:ahLst/>
              <a:rect l="0" t="0" r="r" b="b"/>
              <a:pathLst>
                <a:path w="3066" h="2642">
                  <a:moveTo>
                    <a:pt x="1269" y="1174"/>
                  </a:moveTo>
                  <a:lnTo>
                    <a:pt x="768" y="0"/>
                  </a:lnTo>
                  <a:lnTo>
                    <a:pt x="1535" y="1009"/>
                  </a:lnTo>
                  <a:lnTo>
                    <a:pt x="2303" y="0"/>
                  </a:lnTo>
                  <a:lnTo>
                    <a:pt x="1797" y="1174"/>
                  </a:lnTo>
                  <a:lnTo>
                    <a:pt x="3066" y="1318"/>
                  </a:lnTo>
                  <a:lnTo>
                    <a:pt x="1792" y="1467"/>
                  </a:lnTo>
                  <a:lnTo>
                    <a:pt x="2303" y="2642"/>
                  </a:lnTo>
                  <a:lnTo>
                    <a:pt x="1535" y="1632"/>
                  </a:lnTo>
                  <a:lnTo>
                    <a:pt x="768" y="2642"/>
                  </a:lnTo>
                  <a:lnTo>
                    <a:pt x="1269" y="1471"/>
                  </a:lnTo>
                  <a:lnTo>
                    <a:pt x="0" y="1318"/>
                  </a:lnTo>
                  <a:lnTo>
                    <a:pt x="1269" y="1174"/>
                  </a:lnTo>
                  <a:close/>
                </a:path>
              </a:pathLst>
            </a:custGeom>
            <a:gradFill rotWithShape="0">
              <a:gsLst>
                <a:gs pos="0">
                  <a:srgbClr val="114ffb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3880" y="455760"/>
              <a:ext cx="572040" cy="657720"/>
            </a:xfrm>
            <a:custGeom>
              <a:avLst/>
              <a:gdLst/>
              <a:ahLst/>
              <a:rect l="0" t="0" r="r" b="b"/>
              <a:pathLst>
                <a:path w="1589" h="1827">
                  <a:moveTo>
                    <a:pt x="0" y="463"/>
                  </a:moveTo>
                  <a:lnTo>
                    <a:pt x="708" y="758"/>
                  </a:lnTo>
                  <a:lnTo>
                    <a:pt x="794" y="0"/>
                  </a:lnTo>
                  <a:lnTo>
                    <a:pt x="881" y="758"/>
                  </a:lnTo>
                  <a:lnTo>
                    <a:pt x="1589" y="463"/>
                  </a:lnTo>
                  <a:lnTo>
                    <a:pt x="975" y="913"/>
                  </a:lnTo>
                  <a:lnTo>
                    <a:pt x="1589" y="1373"/>
                  </a:lnTo>
                  <a:lnTo>
                    <a:pt x="881" y="1069"/>
                  </a:lnTo>
                  <a:lnTo>
                    <a:pt x="794" y="1827"/>
                  </a:lnTo>
                  <a:lnTo>
                    <a:pt x="708" y="1069"/>
                  </a:lnTo>
                  <a:lnTo>
                    <a:pt x="0" y="1373"/>
                  </a:lnTo>
                  <a:lnTo>
                    <a:pt x="617" y="913"/>
                  </a:lnTo>
                  <a:lnTo>
                    <a:pt x="0" y="463"/>
                  </a:lnTo>
                  <a:close/>
                </a:path>
              </a:pathLst>
            </a:custGeom>
            <a:solidFill>
              <a:srgbClr val="608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54120" y="490680"/>
              <a:ext cx="511560" cy="589320"/>
            </a:xfrm>
            <a:custGeom>
              <a:avLst/>
              <a:gdLst/>
              <a:ahLst/>
              <a:rect l="0" t="0" r="r" b="b"/>
              <a:pathLst>
                <a:path w="1421" h="1637">
                  <a:moveTo>
                    <a:pt x="0" y="410"/>
                  </a:moveTo>
                  <a:lnTo>
                    <a:pt x="624" y="660"/>
                  </a:lnTo>
                  <a:lnTo>
                    <a:pt x="710" y="0"/>
                  </a:lnTo>
                  <a:lnTo>
                    <a:pt x="801" y="660"/>
                  </a:lnTo>
                  <a:lnTo>
                    <a:pt x="1421" y="410"/>
                  </a:lnTo>
                  <a:lnTo>
                    <a:pt x="887" y="815"/>
                  </a:lnTo>
                  <a:lnTo>
                    <a:pt x="1421" y="1222"/>
                  </a:lnTo>
                  <a:lnTo>
                    <a:pt x="801" y="972"/>
                  </a:lnTo>
                  <a:lnTo>
                    <a:pt x="710" y="1637"/>
                  </a:lnTo>
                  <a:lnTo>
                    <a:pt x="624" y="972"/>
                  </a:lnTo>
                  <a:lnTo>
                    <a:pt x="0" y="1222"/>
                  </a:lnTo>
                  <a:lnTo>
                    <a:pt x="534" y="815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808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5120" y="401760"/>
              <a:ext cx="889200" cy="767160"/>
            </a:xfrm>
            <a:custGeom>
              <a:avLst/>
              <a:gdLst/>
              <a:ahLst/>
              <a:rect l="0" t="0" r="r" b="b"/>
              <a:pathLst>
                <a:path w="2470" h="2131">
                  <a:moveTo>
                    <a:pt x="969" y="916"/>
                  </a:moveTo>
                  <a:lnTo>
                    <a:pt x="621" y="0"/>
                  </a:lnTo>
                  <a:lnTo>
                    <a:pt x="1234" y="755"/>
                  </a:lnTo>
                  <a:lnTo>
                    <a:pt x="1857" y="0"/>
                  </a:lnTo>
                  <a:lnTo>
                    <a:pt x="1496" y="916"/>
                  </a:lnTo>
                  <a:lnTo>
                    <a:pt x="2470" y="1063"/>
                  </a:lnTo>
                  <a:lnTo>
                    <a:pt x="1492" y="1215"/>
                  </a:lnTo>
                  <a:lnTo>
                    <a:pt x="1857" y="2127"/>
                  </a:lnTo>
                  <a:lnTo>
                    <a:pt x="1234" y="1376"/>
                  </a:lnTo>
                  <a:lnTo>
                    <a:pt x="621" y="2131"/>
                  </a:lnTo>
                  <a:lnTo>
                    <a:pt x="969" y="1219"/>
                  </a:lnTo>
                  <a:lnTo>
                    <a:pt x="0" y="1063"/>
                  </a:lnTo>
                  <a:lnTo>
                    <a:pt x="969" y="916"/>
                  </a:lnTo>
                  <a:close/>
                </a:path>
              </a:pathLst>
            </a:custGeom>
            <a:solidFill>
              <a:srgbClr val="808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36400" y="461880"/>
              <a:ext cx="746640" cy="644760"/>
            </a:xfrm>
            <a:custGeom>
              <a:avLst/>
              <a:gdLst/>
              <a:ahLst/>
              <a:rect l="0" t="0" r="r" b="b"/>
              <a:pathLst>
                <a:path w="2074" h="1791">
                  <a:moveTo>
                    <a:pt x="772" y="748"/>
                  </a:moveTo>
                  <a:lnTo>
                    <a:pt x="521" y="0"/>
                  </a:lnTo>
                  <a:lnTo>
                    <a:pt x="1037" y="588"/>
                  </a:lnTo>
                  <a:lnTo>
                    <a:pt x="1553" y="0"/>
                  </a:lnTo>
                  <a:lnTo>
                    <a:pt x="1297" y="748"/>
                  </a:lnTo>
                  <a:lnTo>
                    <a:pt x="2074" y="895"/>
                  </a:lnTo>
                  <a:lnTo>
                    <a:pt x="1293" y="1047"/>
                  </a:lnTo>
                  <a:lnTo>
                    <a:pt x="1553" y="1791"/>
                  </a:lnTo>
                  <a:lnTo>
                    <a:pt x="1037" y="1207"/>
                  </a:lnTo>
                  <a:lnTo>
                    <a:pt x="521" y="1791"/>
                  </a:lnTo>
                  <a:lnTo>
                    <a:pt x="768" y="1056"/>
                  </a:lnTo>
                  <a:lnTo>
                    <a:pt x="0" y="895"/>
                  </a:lnTo>
                  <a:lnTo>
                    <a:pt x="772" y="748"/>
                  </a:lnTo>
                  <a:close/>
                </a:path>
              </a:pathLst>
            </a:custGeom>
            <a:gradFill rotWithShape="0">
              <a:gsLst>
                <a:gs pos="0">
                  <a:srgbClr val="618ff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14240" y="557280"/>
              <a:ext cx="390960" cy="456120"/>
            </a:xfrm>
            <a:custGeom>
              <a:avLst/>
              <a:gdLst/>
              <a:ahLst/>
              <a:rect l="0" t="0" r="r" b="b"/>
              <a:pathLst>
                <a:path w="1086" h="1267">
                  <a:moveTo>
                    <a:pt x="0" y="322"/>
                  </a:moveTo>
                  <a:lnTo>
                    <a:pt x="453" y="477"/>
                  </a:lnTo>
                  <a:lnTo>
                    <a:pt x="543" y="0"/>
                  </a:lnTo>
                  <a:lnTo>
                    <a:pt x="633" y="477"/>
                  </a:lnTo>
                  <a:lnTo>
                    <a:pt x="1086" y="318"/>
                  </a:lnTo>
                  <a:lnTo>
                    <a:pt x="722" y="631"/>
                  </a:lnTo>
                  <a:lnTo>
                    <a:pt x="1086" y="944"/>
                  </a:lnTo>
                  <a:lnTo>
                    <a:pt x="633" y="786"/>
                  </a:lnTo>
                  <a:lnTo>
                    <a:pt x="543" y="1267"/>
                  </a:lnTo>
                  <a:lnTo>
                    <a:pt x="453" y="786"/>
                  </a:lnTo>
                  <a:lnTo>
                    <a:pt x="0" y="944"/>
                  </a:lnTo>
                  <a:lnTo>
                    <a:pt x="368" y="631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28640" y="574560"/>
              <a:ext cx="362160" cy="421200"/>
            </a:xfrm>
            <a:custGeom>
              <a:avLst/>
              <a:gdLst/>
              <a:ahLst/>
              <a:rect l="0" t="0" r="r" b="b"/>
              <a:pathLst>
                <a:path w="1006" h="1170">
                  <a:moveTo>
                    <a:pt x="0" y="296"/>
                  </a:moveTo>
                  <a:lnTo>
                    <a:pt x="413" y="429"/>
                  </a:lnTo>
                  <a:lnTo>
                    <a:pt x="502" y="0"/>
                  </a:lnTo>
                  <a:lnTo>
                    <a:pt x="593" y="429"/>
                  </a:lnTo>
                  <a:lnTo>
                    <a:pt x="1006" y="296"/>
                  </a:lnTo>
                  <a:lnTo>
                    <a:pt x="682" y="583"/>
                  </a:lnTo>
                  <a:lnTo>
                    <a:pt x="1006" y="874"/>
                  </a:lnTo>
                  <a:lnTo>
                    <a:pt x="593" y="737"/>
                  </a:lnTo>
                  <a:lnTo>
                    <a:pt x="502" y="1170"/>
                  </a:lnTo>
                  <a:lnTo>
                    <a:pt x="413" y="737"/>
                  </a:lnTo>
                  <a:lnTo>
                    <a:pt x="0" y="874"/>
                  </a:lnTo>
                  <a:lnTo>
                    <a:pt x="328" y="583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7610400" y="6359400"/>
            <a:ext cx="1203480" cy="344520"/>
          </a:xfrm>
          <a:prstGeom prst="rect">
            <a:avLst/>
          </a:prstGeom>
          <a:ln w="0">
            <a:noFill/>
          </a:ln>
        </p:spPr>
      </p:pic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23840" y="347760"/>
            <a:ext cx="7772400" cy="11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MPMODU MT Interconnection System</a:t>
            </a:r>
            <a:br>
              <a:rPr sz="18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  <a:ea typeface="Arial"/>
              </a:rPr>
              <a:t>Potential Mar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85840" y="2386080"/>
            <a:ext cx="685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uter periph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lecommunications (equip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dical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ustrial contro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579680" y="2290680"/>
            <a:ext cx="542304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arton 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i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cod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erwood Ente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54000" y="384120"/>
            <a:ext cx="7772400" cy="11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MPMODU MT Interconnection System</a:t>
            </a:r>
            <a:br>
              <a:rPr sz="18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  <a:ea typeface="Arial"/>
              </a:rPr>
              <a:t>Top Five Cust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63640" y="2373480"/>
            <a:ext cx="7772400" cy="31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ss terminatio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changeable crimp, snap-in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loaded, double-row receptacle assemb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ariety of snap-on co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ielding hardware and access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54000" y="384120"/>
            <a:ext cx="7772400" cy="11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MPMODU MT Interconnection System</a:t>
            </a:r>
            <a:br>
              <a:rPr sz="18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  <a:ea typeface="Arial"/>
              </a:rPr>
              <a:t>Product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174680" y="2457360"/>
            <a:ext cx="6648480" cy="22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fc0128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T Shield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fc0128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T Unshield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54000" y="384120"/>
            <a:ext cx="7772400" cy="11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AMPMODU MT Interconnection System</a:t>
            </a:r>
            <a:br>
              <a:rPr sz="18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  <a:ea typeface="Arial"/>
              </a:rPr>
              <a:t>Propos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49640" y="3786120"/>
            <a:ext cx="4370400" cy="192888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100000">
                <a:srgbClr val="c7d9fe"/>
              </a:gs>
            </a:gsLst>
            <a:path path="rect">
              <a:fillToRect l="100000" t="100000" r="0" b="0"/>
            </a:path>
          </a:gra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5680" y="1793880"/>
            <a:ext cx="8048520" cy="287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  <a:ea typeface="Arial"/>
              </a:rPr>
              <a:t>AMP Incorporated</a:t>
            </a: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  <a:ea typeface="Arial"/>
              </a:rPr>
              <a:t>SSA Interconnection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  <a:ea typeface="Arial"/>
              </a:rPr>
              <a:t>Proposal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57400" y="38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by Brad Sta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Arial Rounded MT Bold"/>
              </a:rPr>
              <a:t>PCBPG/AMPM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one: (717) 780-4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x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717) 780-70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1640" y="6226200"/>
            <a:ext cx="1836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June 26,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359000" y="9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  <a:ea typeface="Arial"/>
              </a:rPr>
              <a:t>Proposal #1 MT Shield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19810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R Loaded Recept, P/N 102393-1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** (IDC Conta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nap-On Covers, P/N 102541-1 (Front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Non-Polarized)    P/N 102536-1 (Ba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eptacle Shielding Kit, P/N 103125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ader Shielding Kit, P/N 102989-1</a:t>
            </a: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** Mod IV Crimp Contacts can be used in place of IDC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359000" y="9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Proposal #2 MT Unshield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R Loaded Recept, P/N 102393-1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**(IDC Conta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nap-On Covers, P/N 102540-1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Polarized)            P/N 102536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 Header, P/N 103166-1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**Mod IV Crimp Contacts can be used in place of IDC Cont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359000" y="9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MPMODU MT INTERCONNECTION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f the Shelf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en Track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grated Manufactu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O 9000 Cer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pacity for High Volum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-4 Weeks 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ond Sour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80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ld Class Custom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59000" y="784080"/>
            <a:ext cx="3071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lobal Product Standards</dc:creator>
  <dc:description/>
  <dc:language>en-US</dc:language>
  <cp:lastModifiedBy>Lawrence J. Lamers</cp:lastModifiedBy>
  <cp:revision>0</cp:revision>
  <dc:subject/>
  <dc:title>Ampmodu MT Interconnection System Potential Markets</dc:title>
</cp:coreProperties>
</file>