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1279440" y="8678880"/>
            <a:ext cx="46022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LL HAM  DIGITAL EQUIPMENT  SSA WORKING GROUP APRIL 26, 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66720" y="4316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 CONNECTOR/CABLE STANDARD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ONS AD HOC WG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90400" y="2184480"/>
            <a:ext cx="5829480" cy="60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FOLLOWING CONTENT AND ORGANIZATION IS PROPOSED FOR SSA PH-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LKHEAD RECEPTACLE WITH TRI-RETENTION (JACK SCREWS, SLIDELATCH JACK POST, DE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BLE PLUG WITH EACH RETENTION METHOD SPEC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ING CYCLES, RETENTION FORCES, CRITICAL INTERFACE DIMENSIONS AND TOLERANCES NECESSARY TO ENSURE INTERVENDOR MATA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BAY DEVIC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WER BAY CABL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TION BAY CABL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RT BAY CABL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BAY BACKPLANE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UBSET OF THE P1394 DOCUMENTATION REQUIRED FOR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365040" y="144360"/>
            <a:ext cx="125748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X3T10.1 / 95A-1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90400" y="2260440"/>
            <a:ext cx="5829480" cy="56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L CONNECTIONS TO NON-DISK DEVICES (FOR EXAMPLE,CONTRO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STANDARD WILL BE SILENT ON THIS ISS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AL C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E INTERNAL CABLE MAY REQUIRE SHIELDING IN SOME IMPLEMENTATIONS TO MEET THE NORMATIVE REQUIREMENTS FOR AN SSA NODE -- THE USE OF SHIELDING IS OP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SHIELDING IS USED, THE SHIELD SHALL BE CONNECTED TO PIN 3 IN THE IN INTERNAL PORT BAY CONNECTOR WHICH IN TURN SHALL BE CONNECTED TO CHASSIS GROUND IN TH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IN 4 IN THE INTERNAL PORT BAY CONNECTOR SHALL BE LOGIC GROUND AND SHALL NOT  BE CONNECTED TO THE SHIELD  IN THE INTERNAL CABLE ASSEMB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RE IS NO CHASSIS GROUND AVAILABLE IN THE DEVICE, THE SHIELD PIN (PIN 3) SHALL BE CONNECTED TO THE LOGIC GROUND ON THE DEVICE SIDE OF THE CONN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*  “DEVICE” MEANS DISKS, CONTROLLERS, OR OTHER ENTITIES ACTING AS AN SSA 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66720" y="43164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 CONNECTOR/CABLE STANDARD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ONS AD HOC WG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14440" y="507960"/>
            <a:ext cx="582948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SA CONNECTOR/CABLE STANDARDS</a:t>
            </a: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NECTIONS AD HOC WG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46200" y="2222640"/>
            <a:ext cx="5545080" cy="472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812960" y="7215120"/>
            <a:ext cx="3321000" cy="10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BLE 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LOOKING AT DEVICE E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F UNMATED CONN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03480" y="4243320"/>
            <a:ext cx="451476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ICE PI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LOOKING AT UNMATED CONNEC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M</dc:creator>
  <dc:description>APRIL 25, 1995</dc:description>
  <dc:language>en-US</dc:language>
  <cp:lastModifiedBy>William E. Ham</cp:lastModifiedBy>
  <cp:revision>0</cp:revision>
  <dc:subject/>
  <dc:title>PROPOSAL FOR SSA INTERCONNECTIONS DOCUMENT STRUCTURE</dc:title>
</cp:coreProperties>
</file>