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752480" y="533520"/>
            <a:ext cx="510552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2346480" y="204840"/>
            <a:ext cx="4299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COUPLER (P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136440" y="1017720"/>
            <a:ext cx="172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965240" y="8650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708440" y="8650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>
            <a:off x="6858000" y="914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533520" y="9144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981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9051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994440" y="1017720"/>
            <a:ext cx="172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90920" y="2763720"/>
            <a:ext cx="530280" cy="304920"/>
            <a:chOff x="2590920" y="2763720"/>
            <a:chExt cx="530280" cy="304920"/>
          </a:xfrm>
        </p:grpSpPr>
        <p:grpSp>
          <p:nvGrpSpPr>
            <p:cNvPr id="47" name=""/>
            <p:cNvGrpSpPr/>
            <p:nvPr/>
          </p:nvGrpSpPr>
          <p:grpSpPr>
            <a:xfrm>
              <a:off x="2590920" y="2763720"/>
              <a:ext cx="228600" cy="228600"/>
              <a:chOff x="2590920" y="2763720"/>
              <a:chExt cx="228600" cy="228600"/>
            </a:xfrm>
          </p:grpSpPr>
          <p:sp>
            <p:nvSpPr>
              <p:cNvPr id="48" name=""/>
              <p:cNvSpPr/>
              <p:nvPr/>
            </p:nvSpPr>
            <p:spPr>
              <a:xfrm>
                <a:off x="2590920" y="27637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2590920" y="27637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 txBox="1"/>
            <p:nvPr/>
          </p:nvSpPr>
          <p:spPr>
            <a:xfrm>
              <a:off x="2803680" y="277020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75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3108240" y="2770200"/>
            <a:ext cx="311796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OR OR CHIP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5640" y="1773360"/>
            <a:ext cx="228600" cy="228600"/>
            <a:chOff x="1655640" y="1773360"/>
            <a:chExt cx="228600" cy="228600"/>
          </a:xfrm>
        </p:grpSpPr>
        <p:sp>
          <p:nvSpPr>
            <p:cNvPr id="53" name=""/>
            <p:cNvSpPr/>
            <p:nvPr/>
          </p:nvSpPr>
          <p:spPr>
            <a:xfrm>
              <a:off x="1655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655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655640" y="803160"/>
            <a:ext cx="228600" cy="228600"/>
            <a:chOff x="1655640" y="803160"/>
            <a:chExt cx="228600" cy="228600"/>
          </a:xfrm>
        </p:grpSpPr>
        <p:sp>
          <p:nvSpPr>
            <p:cNvPr id="56" name=""/>
            <p:cNvSpPr/>
            <p:nvPr/>
          </p:nvSpPr>
          <p:spPr>
            <a:xfrm>
              <a:off x="1655640" y="803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655640" y="803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746760" y="1870200"/>
            <a:ext cx="228600" cy="228600"/>
            <a:chOff x="6746760" y="1870200"/>
            <a:chExt cx="228600" cy="228600"/>
          </a:xfrm>
        </p:grpSpPr>
        <p:sp>
          <p:nvSpPr>
            <p:cNvPr id="59" name=""/>
            <p:cNvSpPr/>
            <p:nvPr/>
          </p:nvSpPr>
          <p:spPr>
            <a:xfrm>
              <a:off x="6746760" y="18702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746760" y="18702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740640" y="782640"/>
            <a:ext cx="228600" cy="228600"/>
            <a:chOff x="6740640" y="782640"/>
            <a:chExt cx="228600" cy="228600"/>
          </a:xfrm>
        </p:grpSpPr>
        <p:sp>
          <p:nvSpPr>
            <p:cNvPr id="62" name=""/>
            <p:cNvSpPr/>
            <p:nvPr/>
          </p:nvSpPr>
          <p:spPr>
            <a:xfrm>
              <a:off x="6740640" y="782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740640" y="782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 flipH="1">
            <a:off x="3886200" y="990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