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669960" y="1805040"/>
            <a:ext cx="1631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6477120" y="152388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6842160" y="1703520"/>
            <a:ext cx="193680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494080" y="2112840"/>
            <a:ext cx="228600" cy="228600"/>
            <a:chOff x="2494080" y="2112840"/>
            <a:chExt cx="228600" cy="228600"/>
          </a:xfrm>
        </p:grpSpPr>
        <p:sp>
          <p:nvSpPr>
            <p:cNvPr id="40" name=""/>
            <p:cNvSpPr/>
            <p:nvPr/>
          </p:nvSpPr>
          <p:spPr>
            <a:xfrm>
              <a:off x="2494080" y="21128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2494080" y="21128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"/>
          <p:cNvGrpSpPr/>
          <p:nvPr/>
        </p:nvGrpSpPr>
        <p:grpSpPr>
          <a:xfrm>
            <a:off x="6359400" y="2077920"/>
            <a:ext cx="228600" cy="228600"/>
            <a:chOff x="6359400" y="2077920"/>
            <a:chExt cx="228600" cy="228600"/>
          </a:xfrm>
        </p:grpSpPr>
        <p:sp>
          <p:nvSpPr>
            <p:cNvPr id="43" name=""/>
            <p:cNvSpPr/>
            <p:nvPr/>
          </p:nvSpPr>
          <p:spPr>
            <a:xfrm>
              <a:off x="6359400" y="20779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6359400" y="20779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2590920" y="22096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175280" y="1271520"/>
            <a:ext cx="768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24520" y="165276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2329"/>
                </a:moveTo>
                <a:lnTo>
                  <a:pt x="0" y="2329"/>
                </a:lnTo>
                <a:cubicBezTo>
                  <a:pt x="132" y="2329"/>
                  <a:pt x="261" y="2221"/>
                  <a:pt x="376" y="2017"/>
                </a:cubicBezTo>
                <a:cubicBezTo>
                  <a:pt x="490" y="1813"/>
                  <a:pt x="584" y="1519"/>
                  <a:pt x="650" y="1164"/>
                </a:cubicBezTo>
                <a:cubicBezTo>
                  <a:pt x="716" y="810"/>
                  <a:pt x="751" y="409"/>
                  <a:pt x="751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3640" y="1279440"/>
            <a:ext cx="302040" cy="1064160"/>
          </a:xfrm>
          <a:custGeom>
            <a:avLst/>
            <a:gdLst/>
            <a:ahLst/>
            <a:rect l="0" t="0" r="r" b="b"/>
            <a:pathLst>
              <a:path fill="none" w="839" h="2956">
                <a:moveTo>
                  <a:pt x="0" y="0"/>
                </a:moveTo>
                <a:lnTo>
                  <a:pt x="0" y="0"/>
                </a:lnTo>
                <a:cubicBezTo>
                  <a:pt x="0" y="519"/>
                  <a:pt x="39" y="1029"/>
                  <a:pt x="112" y="1478"/>
                </a:cubicBezTo>
                <a:cubicBezTo>
                  <a:pt x="186" y="1927"/>
                  <a:pt x="292" y="2301"/>
                  <a:pt x="420" y="2560"/>
                </a:cubicBezTo>
                <a:cubicBezTo>
                  <a:pt x="547" y="2819"/>
                  <a:pt x="692" y="2956"/>
                  <a:pt x="839" y="29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36320" y="1243080"/>
            <a:ext cx="282240" cy="1121040"/>
          </a:xfrm>
          <a:custGeom>
            <a:avLst/>
            <a:gdLst/>
            <a:ahLst/>
            <a:rect l="0" t="0" r="r" b="b"/>
            <a:pathLst>
              <a:path fill="none" w="784" h="3114">
                <a:moveTo>
                  <a:pt x="0" y="3114"/>
                </a:moveTo>
                <a:lnTo>
                  <a:pt x="0" y="3114"/>
                </a:lnTo>
                <a:cubicBezTo>
                  <a:pt x="138" y="3114"/>
                  <a:pt x="273" y="2970"/>
                  <a:pt x="392" y="2697"/>
                </a:cubicBezTo>
                <a:cubicBezTo>
                  <a:pt x="511" y="2423"/>
                  <a:pt x="610" y="2030"/>
                  <a:pt x="679" y="1557"/>
                </a:cubicBezTo>
                <a:cubicBezTo>
                  <a:pt x="748" y="1084"/>
                  <a:pt x="784" y="547"/>
                  <a:pt x="784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00520" y="167148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0"/>
                </a:moveTo>
                <a:lnTo>
                  <a:pt x="0" y="0"/>
                </a:lnTo>
                <a:cubicBezTo>
                  <a:pt x="0" y="409"/>
                  <a:pt x="35" y="810"/>
                  <a:pt x="101" y="1165"/>
                </a:cubicBezTo>
                <a:cubicBezTo>
                  <a:pt x="167" y="1519"/>
                  <a:pt x="261" y="1813"/>
                  <a:pt x="376" y="2017"/>
                </a:cubicBezTo>
                <a:cubicBezTo>
                  <a:pt x="490" y="2221"/>
                  <a:pt x="619" y="2329"/>
                  <a:pt x="751" y="2329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710160"/>
            <a:ext cx="2143440" cy="366840"/>
            <a:chOff x="380880" y="3710160"/>
            <a:chExt cx="2143440" cy="366840"/>
          </a:xfrm>
        </p:grpSpPr>
        <p:grpSp>
          <p:nvGrpSpPr>
            <p:cNvPr id="53" name=""/>
            <p:cNvGrpSpPr/>
            <p:nvPr/>
          </p:nvGrpSpPr>
          <p:grpSpPr>
            <a:xfrm>
              <a:off x="380880" y="3733920"/>
              <a:ext cx="228600" cy="228600"/>
              <a:chOff x="380880" y="3733920"/>
              <a:chExt cx="228600" cy="228600"/>
            </a:xfrm>
          </p:grpSpPr>
          <p:sp>
            <p:nvSpPr>
              <p:cNvPr id="54" name=""/>
              <p:cNvSpPr/>
              <p:nvPr/>
            </p:nvSpPr>
            <p:spPr>
              <a:xfrm>
                <a:off x="380880" y="373392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80880" y="373392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 txBox="1"/>
            <p:nvPr/>
          </p:nvSpPr>
          <p:spPr>
            <a:xfrm>
              <a:off x="669960" y="3710160"/>
              <a:ext cx="1854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CONN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669960" y="4395960"/>
            <a:ext cx="1631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411480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42160" y="4294080"/>
            <a:ext cx="196200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DOES NOT R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RE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SA 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494080" y="4703760"/>
            <a:ext cx="228600" cy="228600"/>
            <a:chOff x="2494080" y="4703760"/>
            <a:chExt cx="228600" cy="228600"/>
          </a:xfrm>
        </p:grpSpPr>
        <p:sp>
          <p:nvSpPr>
            <p:cNvPr id="61" name=""/>
            <p:cNvSpPr/>
            <p:nvPr/>
          </p:nvSpPr>
          <p:spPr>
            <a:xfrm>
              <a:off x="2494080" y="47037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494080" y="47037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359400" y="4668840"/>
            <a:ext cx="228600" cy="228600"/>
            <a:chOff x="6359400" y="4668840"/>
            <a:chExt cx="228600" cy="228600"/>
          </a:xfrm>
        </p:grpSpPr>
        <p:sp>
          <p:nvSpPr>
            <p:cNvPr id="64" name=""/>
            <p:cNvSpPr/>
            <p:nvPr/>
          </p:nvSpPr>
          <p:spPr>
            <a:xfrm>
              <a:off x="6359400" y="46688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359400" y="46688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590920" y="48006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18080" y="3862440"/>
            <a:ext cx="1962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24520" y="424332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2329"/>
                </a:moveTo>
                <a:lnTo>
                  <a:pt x="0" y="2329"/>
                </a:lnTo>
                <a:cubicBezTo>
                  <a:pt x="132" y="2329"/>
                  <a:pt x="261" y="2221"/>
                  <a:pt x="376" y="2017"/>
                </a:cubicBezTo>
                <a:cubicBezTo>
                  <a:pt x="490" y="1813"/>
                  <a:pt x="584" y="1519"/>
                  <a:pt x="650" y="1164"/>
                </a:cubicBezTo>
                <a:cubicBezTo>
                  <a:pt x="716" y="810"/>
                  <a:pt x="751" y="409"/>
                  <a:pt x="751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33640" y="3870360"/>
            <a:ext cx="302040" cy="1064160"/>
          </a:xfrm>
          <a:custGeom>
            <a:avLst/>
            <a:gdLst/>
            <a:ahLst/>
            <a:rect l="0" t="0" r="r" b="b"/>
            <a:pathLst>
              <a:path fill="none" w="839" h="2956">
                <a:moveTo>
                  <a:pt x="0" y="0"/>
                </a:moveTo>
                <a:lnTo>
                  <a:pt x="0" y="0"/>
                </a:lnTo>
                <a:cubicBezTo>
                  <a:pt x="0" y="519"/>
                  <a:pt x="39" y="1029"/>
                  <a:pt x="112" y="1478"/>
                </a:cubicBezTo>
                <a:cubicBezTo>
                  <a:pt x="186" y="1927"/>
                  <a:pt x="292" y="2301"/>
                  <a:pt x="420" y="2560"/>
                </a:cubicBezTo>
                <a:cubicBezTo>
                  <a:pt x="547" y="2819"/>
                  <a:pt x="692" y="2956"/>
                  <a:pt x="839" y="29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6320" y="3833640"/>
            <a:ext cx="282240" cy="1121040"/>
          </a:xfrm>
          <a:custGeom>
            <a:avLst/>
            <a:gdLst/>
            <a:ahLst/>
            <a:rect l="0" t="0" r="r" b="b"/>
            <a:pathLst>
              <a:path fill="none" w="784" h="3114">
                <a:moveTo>
                  <a:pt x="0" y="3114"/>
                </a:moveTo>
                <a:lnTo>
                  <a:pt x="0" y="3114"/>
                </a:lnTo>
                <a:cubicBezTo>
                  <a:pt x="138" y="3114"/>
                  <a:pt x="273" y="2970"/>
                  <a:pt x="392" y="2697"/>
                </a:cubicBezTo>
                <a:cubicBezTo>
                  <a:pt x="511" y="2423"/>
                  <a:pt x="610" y="2030"/>
                  <a:pt x="679" y="1557"/>
                </a:cubicBezTo>
                <a:cubicBezTo>
                  <a:pt x="748" y="1084"/>
                  <a:pt x="784" y="547"/>
                  <a:pt x="784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00520" y="426240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0"/>
                </a:moveTo>
                <a:lnTo>
                  <a:pt x="0" y="0"/>
                </a:lnTo>
                <a:cubicBezTo>
                  <a:pt x="0" y="409"/>
                  <a:pt x="35" y="810"/>
                  <a:pt x="101" y="1165"/>
                </a:cubicBezTo>
                <a:cubicBezTo>
                  <a:pt x="167" y="1519"/>
                  <a:pt x="261" y="1813"/>
                  <a:pt x="376" y="2017"/>
                </a:cubicBezTo>
                <a:cubicBezTo>
                  <a:pt x="490" y="2221"/>
                  <a:pt x="619" y="2329"/>
                  <a:pt x="751" y="2329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11480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c</dc:creator>
  <dc:description/>
  <dc:language>en-US</dc:language>
  <cp:lastModifiedBy>abc</cp:lastModifiedBy>
  <cp:revision>0</cp:revision>
  <dc:subject/>
  <dc:title/>
</cp:coreProperties>
</file>