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1371600" y="1523880"/>
            <a:ext cx="457200" cy="18288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/>
          <p:nvPr/>
        </p:nvSpPr>
        <p:spPr>
          <a:xfrm flipH="1">
            <a:off x="1828800" y="106668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1828800" y="1066680"/>
            <a:ext cx="0" cy="40388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4648320" y="2666880"/>
            <a:ext cx="251460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828800" y="205740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5562720" y="20574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 flipV="1">
            <a:off x="1981080" y="2133720"/>
            <a:ext cx="10670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228600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-396720" y="2270160"/>
            <a:ext cx="3079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RT CONN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184560" y="2117880"/>
            <a:ext cx="10144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784760" y="2879640"/>
            <a:ext cx="23004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IRCUI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032280" y="593640"/>
            <a:ext cx="4044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NTED CIRCUIT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bc</dc:creator>
  <dc:description/>
  <dc:language>en-US</dc:language>
  <cp:lastModifiedBy>abc</cp:lastModifiedBy>
  <cp:revision>0</cp:revision>
  <dc:subject/>
  <dc:title/>
</cp:coreProperties>
</file>