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1768320" y="1866960"/>
            <a:ext cx="457200" cy="18273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 flipH="1">
            <a:off x="2225520" y="1409760"/>
            <a:ext cx="5726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2225520" y="1409760"/>
            <a:ext cx="0" cy="404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043600" y="3009960"/>
            <a:ext cx="2514600" cy="121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225520" y="2400480"/>
            <a:ext cx="3745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958000" y="2400480"/>
            <a:ext cx="0" cy="622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598920" y="3695760"/>
            <a:ext cx="1077840" cy="461880"/>
            <a:chOff x="3598920" y="3695760"/>
            <a:chExt cx="1077840" cy="461880"/>
          </a:xfrm>
        </p:grpSpPr>
        <p:sp>
          <p:nvSpPr>
            <p:cNvPr id="43" name=""/>
            <p:cNvSpPr/>
            <p:nvPr/>
          </p:nvSpPr>
          <p:spPr>
            <a:xfrm flipH="1" flipV="1">
              <a:off x="3692520" y="3736800"/>
              <a:ext cx="984240" cy="42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98920" y="3695760"/>
              <a:ext cx="184680" cy="113040"/>
            </a:xfrm>
            <a:custGeom>
              <a:avLst/>
              <a:gdLst/>
              <a:ahLst/>
              <a:rect l="0" t="0" r="r" b="b"/>
              <a:pathLst>
                <a:path w="513" h="314">
                  <a:moveTo>
                    <a:pt x="0" y="0"/>
                  </a:moveTo>
                  <a:lnTo>
                    <a:pt x="398" y="314"/>
                  </a:lnTo>
                  <a:lnTo>
                    <a:pt x="513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881680" y="2017800"/>
            <a:ext cx="1130760" cy="298800"/>
            <a:chOff x="5881680" y="2017800"/>
            <a:chExt cx="1130760" cy="298800"/>
          </a:xfrm>
        </p:grpSpPr>
        <p:sp>
          <p:nvSpPr>
            <p:cNvPr id="46" name=""/>
            <p:cNvSpPr/>
            <p:nvPr/>
          </p:nvSpPr>
          <p:spPr>
            <a:xfrm>
              <a:off x="5881680" y="2017800"/>
              <a:ext cx="1047600" cy="27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27760" y="222084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513" y="254"/>
                  </a:moveTo>
                  <a:lnTo>
                    <a:pt x="74" y="0"/>
                  </a:lnTo>
                  <a:lnTo>
                    <a:pt x="0" y="266"/>
                  </a:lnTo>
                  <a:lnTo>
                    <a:pt x="513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0" y="261144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80040" y="3220920"/>
            <a:ext cx="2300400" cy="822600"/>
            <a:chOff x="5180040" y="3220920"/>
            <a:chExt cx="2300400" cy="822600"/>
          </a:xfrm>
        </p:grpSpPr>
        <p:sp>
          <p:nvSpPr>
            <p:cNvPr id="50" name=""/>
            <p:cNvSpPr txBox="1"/>
            <p:nvPr/>
          </p:nvSpPr>
          <p:spPr>
            <a:xfrm>
              <a:off x="5180040" y="3220920"/>
              <a:ext cx="230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5180040" y="3586320"/>
              <a:ext cx="184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RCUI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3429000" y="936720"/>
            <a:ext cx="4044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D CIRCUIT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975280" y="22417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438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022640" y="425124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37040" y="173664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1676520"/>
            <a:ext cx="838080" cy="990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375680" y="173664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962520"/>
            <a:ext cx="1219320" cy="685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03680" y="3946680"/>
            <a:ext cx="114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03680" y="196524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c</dc:creator>
  <dc:description/>
  <dc:language>en-US</dc:language>
  <cp:lastModifiedBy>abc</cp:lastModifiedBy>
  <cp:revision>0</cp:revision>
  <dc:subject/>
  <dc:title/>
</cp:coreProperties>
</file>