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6477120" y="121932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" name=""/>
          <p:cNvGrpSpPr/>
          <p:nvPr/>
        </p:nvGrpSpPr>
        <p:grpSpPr>
          <a:xfrm>
            <a:off x="2494080" y="1808280"/>
            <a:ext cx="228600" cy="228600"/>
            <a:chOff x="2494080" y="1808280"/>
            <a:chExt cx="228600" cy="228600"/>
          </a:xfrm>
        </p:grpSpPr>
        <p:sp>
          <p:nvSpPr>
            <p:cNvPr id="38" name=""/>
            <p:cNvSpPr/>
            <p:nvPr/>
          </p:nvSpPr>
          <p:spPr>
            <a:xfrm>
              <a:off x="2494080" y="180828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>
              <a:off x="2494080" y="180828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" name=""/>
          <p:cNvGrpSpPr/>
          <p:nvPr/>
        </p:nvGrpSpPr>
        <p:grpSpPr>
          <a:xfrm>
            <a:off x="6359400" y="1773360"/>
            <a:ext cx="228600" cy="228600"/>
            <a:chOff x="6359400" y="1773360"/>
            <a:chExt cx="228600" cy="228600"/>
          </a:xfrm>
        </p:grpSpPr>
        <p:sp>
          <p:nvSpPr>
            <p:cNvPr id="41" name=""/>
            <p:cNvSpPr/>
            <p:nvPr/>
          </p:nvSpPr>
          <p:spPr>
            <a:xfrm>
              <a:off x="6359400" y="17733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>
              <a:off x="6359400" y="17733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"/>
          <p:cNvSpPr/>
          <p:nvPr/>
        </p:nvSpPr>
        <p:spPr>
          <a:xfrm>
            <a:off x="2590920" y="190512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24520" y="134784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2329"/>
                </a:moveTo>
                <a:lnTo>
                  <a:pt x="0" y="2329"/>
                </a:lnTo>
                <a:cubicBezTo>
                  <a:pt x="132" y="2329"/>
                  <a:pt x="261" y="2221"/>
                  <a:pt x="376" y="2017"/>
                </a:cubicBezTo>
                <a:cubicBezTo>
                  <a:pt x="490" y="1813"/>
                  <a:pt x="584" y="1519"/>
                  <a:pt x="650" y="1164"/>
                </a:cubicBezTo>
                <a:cubicBezTo>
                  <a:pt x="716" y="810"/>
                  <a:pt x="751" y="409"/>
                  <a:pt x="751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33640" y="974880"/>
            <a:ext cx="302040" cy="1064160"/>
          </a:xfrm>
          <a:custGeom>
            <a:avLst/>
            <a:gdLst/>
            <a:ahLst/>
            <a:rect l="0" t="0" r="r" b="b"/>
            <a:pathLst>
              <a:path fill="none" w="839" h="2956">
                <a:moveTo>
                  <a:pt x="0" y="0"/>
                </a:moveTo>
                <a:lnTo>
                  <a:pt x="0" y="0"/>
                </a:lnTo>
                <a:cubicBezTo>
                  <a:pt x="0" y="519"/>
                  <a:pt x="39" y="1029"/>
                  <a:pt x="112" y="1478"/>
                </a:cubicBezTo>
                <a:cubicBezTo>
                  <a:pt x="186" y="1927"/>
                  <a:pt x="292" y="2301"/>
                  <a:pt x="420" y="2560"/>
                </a:cubicBezTo>
                <a:cubicBezTo>
                  <a:pt x="547" y="2819"/>
                  <a:pt x="692" y="2956"/>
                  <a:pt x="839" y="2956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36320" y="938160"/>
            <a:ext cx="282240" cy="1121040"/>
          </a:xfrm>
          <a:custGeom>
            <a:avLst/>
            <a:gdLst/>
            <a:ahLst/>
            <a:rect l="0" t="0" r="r" b="b"/>
            <a:pathLst>
              <a:path fill="none" w="784" h="3114">
                <a:moveTo>
                  <a:pt x="0" y="3114"/>
                </a:moveTo>
                <a:lnTo>
                  <a:pt x="0" y="3114"/>
                </a:lnTo>
                <a:cubicBezTo>
                  <a:pt x="138" y="3114"/>
                  <a:pt x="273" y="2970"/>
                  <a:pt x="392" y="2697"/>
                </a:cubicBezTo>
                <a:cubicBezTo>
                  <a:pt x="511" y="2423"/>
                  <a:pt x="610" y="2030"/>
                  <a:pt x="679" y="1557"/>
                </a:cubicBezTo>
                <a:cubicBezTo>
                  <a:pt x="748" y="1084"/>
                  <a:pt x="784" y="547"/>
                  <a:pt x="784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00520" y="136692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0"/>
                </a:moveTo>
                <a:lnTo>
                  <a:pt x="0" y="0"/>
                </a:lnTo>
                <a:cubicBezTo>
                  <a:pt x="0" y="409"/>
                  <a:pt x="35" y="810"/>
                  <a:pt x="101" y="1165"/>
                </a:cubicBezTo>
                <a:cubicBezTo>
                  <a:pt x="167" y="1519"/>
                  <a:pt x="261" y="1813"/>
                  <a:pt x="376" y="2017"/>
                </a:cubicBezTo>
                <a:cubicBezTo>
                  <a:pt x="490" y="2221"/>
                  <a:pt x="619" y="2329"/>
                  <a:pt x="751" y="2329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21932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51040" y="2389320"/>
            <a:ext cx="377820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CABLE ASSEMBLIES,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 CONNECTION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65040" y="1474920"/>
            <a:ext cx="219060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1 DRIVER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2 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NCLUDING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537240" y="1322280"/>
            <a:ext cx="212724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1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NCLUDING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2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676520"/>
            <a:ext cx="9144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856040" y="1793880"/>
            <a:ext cx="228600" cy="228600"/>
            <a:chOff x="4856040" y="1793880"/>
            <a:chExt cx="228600" cy="228600"/>
          </a:xfrm>
        </p:grpSpPr>
        <p:sp>
          <p:nvSpPr>
            <p:cNvPr id="54" name=""/>
            <p:cNvSpPr/>
            <p:nvPr/>
          </p:nvSpPr>
          <p:spPr>
            <a:xfrm>
              <a:off x="4856040" y="179388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856040" y="179388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941640" y="1773360"/>
            <a:ext cx="228600" cy="228600"/>
            <a:chOff x="3941640" y="1773360"/>
            <a:chExt cx="228600" cy="228600"/>
          </a:xfrm>
        </p:grpSpPr>
        <p:sp>
          <p:nvSpPr>
            <p:cNvPr id="57" name=""/>
            <p:cNvSpPr/>
            <p:nvPr/>
          </p:nvSpPr>
          <p:spPr>
            <a:xfrm>
              <a:off x="3941640" y="17733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3941640" y="17733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 txBox="1"/>
          <p:nvPr/>
        </p:nvSpPr>
        <p:spPr>
          <a:xfrm>
            <a:off x="4175280" y="1728720"/>
            <a:ext cx="666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57200" y="3352680"/>
            <a:ext cx="228600" cy="228600"/>
            <a:chOff x="457200" y="3352680"/>
            <a:chExt cx="228600" cy="228600"/>
          </a:xfrm>
        </p:grpSpPr>
        <p:sp>
          <p:nvSpPr>
            <p:cNvPr id="61" name=""/>
            <p:cNvSpPr/>
            <p:nvPr/>
          </p:nvSpPr>
          <p:spPr>
            <a:xfrm>
              <a:off x="457200" y="335268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57200" y="335268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 txBox="1"/>
          <p:nvPr/>
        </p:nvSpPr>
        <p:spPr>
          <a:xfrm>
            <a:off x="746280" y="3379680"/>
            <a:ext cx="185436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PCC 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403848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94080" y="4627440"/>
            <a:ext cx="228600" cy="228600"/>
            <a:chOff x="2494080" y="4627440"/>
            <a:chExt cx="228600" cy="228600"/>
          </a:xfrm>
        </p:grpSpPr>
        <p:sp>
          <p:nvSpPr>
            <p:cNvPr id="66" name=""/>
            <p:cNvSpPr/>
            <p:nvPr/>
          </p:nvSpPr>
          <p:spPr>
            <a:xfrm>
              <a:off x="2494080" y="46274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494080" y="46274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359400" y="4592520"/>
            <a:ext cx="228600" cy="228600"/>
            <a:chOff x="6359400" y="4592520"/>
            <a:chExt cx="228600" cy="228600"/>
          </a:xfrm>
        </p:grpSpPr>
        <p:sp>
          <p:nvSpPr>
            <p:cNvPr id="69" name=""/>
            <p:cNvSpPr/>
            <p:nvPr/>
          </p:nvSpPr>
          <p:spPr>
            <a:xfrm>
              <a:off x="6359400" y="459252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6359400" y="459252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590920" y="47242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468600" y="3948120"/>
            <a:ext cx="21528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PCC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24520" y="416736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2329"/>
                </a:moveTo>
                <a:lnTo>
                  <a:pt x="0" y="2329"/>
                </a:lnTo>
                <a:cubicBezTo>
                  <a:pt x="132" y="2329"/>
                  <a:pt x="261" y="2221"/>
                  <a:pt x="376" y="2017"/>
                </a:cubicBezTo>
                <a:cubicBezTo>
                  <a:pt x="490" y="1813"/>
                  <a:pt x="584" y="1519"/>
                  <a:pt x="650" y="1164"/>
                </a:cubicBezTo>
                <a:cubicBezTo>
                  <a:pt x="716" y="810"/>
                  <a:pt x="751" y="409"/>
                  <a:pt x="751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33640" y="3794040"/>
            <a:ext cx="302040" cy="1064160"/>
          </a:xfrm>
          <a:custGeom>
            <a:avLst/>
            <a:gdLst/>
            <a:ahLst/>
            <a:rect l="0" t="0" r="r" b="b"/>
            <a:pathLst>
              <a:path fill="none" w="839" h="2956">
                <a:moveTo>
                  <a:pt x="0" y="0"/>
                </a:moveTo>
                <a:lnTo>
                  <a:pt x="0" y="0"/>
                </a:lnTo>
                <a:cubicBezTo>
                  <a:pt x="0" y="519"/>
                  <a:pt x="39" y="1029"/>
                  <a:pt x="112" y="1478"/>
                </a:cubicBezTo>
                <a:cubicBezTo>
                  <a:pt x="186" y="1927"/>
                  <a:pt x="292" y="2301"/>
                  <a:pt x="420" y="2560"/>
                </a:cubicBezTo>
                <a:cubicBezTo>
                  <a:pt x="547" y="2819"/>
                  <a:pt x="692" y="2956"/>
                  <a:pt x="839" y="2956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36320" y="3757680"/>
            <a:ext cx="282240" cy="1121040"/>
          </a:xfrm>
          <a:custGeom>
            <a:avLst/>
            <a:gdLst/>
            <a:ahLst/>
            <a:rect l="0" t="0" r="r" b="b"/>
            <a:pathLst>
              <a:path fill="none" w="784" h="3114">
                <a:moveTo>
                  <a:pt x="0" y="3114"/>
                </a:moveTo>
                <a:lnTo>
                  <a:pt x="0" y="3114"/>
                </a:lnTo>
                <a:cubicBezTo>
                  <a:pt x="138" y="3114"/>
                  <a:pt x="273" y="2970"/>
                  <a:pt x="392" y="2697"/>
                </a:cubicBezTo>
                <a:cubicBezTo>
                  <a:pt x="511" y="2423"/>
                  <a:pt x="610" y="2030"/>
                  <a:pt x="679" y="1557"/>
                </a:cubicBezTo>
                <a:cubicBezTo>
                  <a:pt x="748" y="1084"/>
                  <a:pt x="784" y="547"/>
                  <a:pt x="784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00520" y="418608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0"/>
                </a:moveTo>
                <a:lnTo>
                  <a:pt x="0" y="0"/>
                </a:lnTo>
                <a:cubicBezTo>
                  <a:pt x="0" y="409"/>
                  <a:pt x="35" y="810"/>
                  <a:pt x="101" y="1165"/>
                </a:cubicBezTo>
                <a:cubicBezTo>
                  <a:pt x="167" y="1519"/>
                  <a:pt x="261" y="1813"/>
                  <a:pt x="376" y="2017"/>
                </a:cubicBezTo>
                <a:cubicBezTo>
                  <a:pt x="490" y="2221"/>
                  <a:pt x="619" y="2329"/>
                  <a:pt x="751" y="2329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403848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955960" y="5208480"/>
            <a:ext cx="3295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 CABLE ASSEMBL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PCC’S, FOUR 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ION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65040" y="4294080"/>
            <a:ext cx="219060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1 DRIVER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2 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NCLUDING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38480" y="4495680"/>
            <a:ext cx="9144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856040" y="4613400"/>
            <a:ext cx="228600" cy="228600"/>
            <a:chOff x="4856040" y="461340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856040" y="46134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4856040" y="46134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941640" y="4592520"/>
            <a:ext cx="228600" cy="228600"/>
            <a:chOff x="3941640" y="4592520"/>
            <a:chExt cx="228600" cy="228600"/>
          </a:xfrm>
        </p:grpSpPr>
        <p:sp>
          <p:nvSpPr>
            <p:cNvPr id="85" name=""/>
            <p:cNvSpPr/>
            <p:nvPr/>
          </p:nvSpPr>
          <p:spPr>
            <a:xfrm>
              <a:off x="3941640" y="459252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3941640" y="459252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 txBox="1"/>
          <p:nvPr/>
        </p:nvSpPr>
        <p:spPr>
          <a:xfrm>
            <a:off x="4175280" y="4548240"/>
            <a:ext cx="666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4495680"/>
            <a:ext cx="9144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713040" y="4613400"/>
            <a:ext cx="228600" cy="228600"/>
            <a:chOff x="3713040" y="4613400"/>
            <a:chExt cx="228600" cy="228600"/>
          </a:xfrm>
        </p:grpSpPr>
        <p:sp>
          <p:nvSpPr>
            <p:cNvPr id="90" name=""/>
            <p:cNvSpPr/>
            <p:nvPr/>
          </p:nvSpPr>
          <p:spPr>
            <a:xfrm>
              <a:off x="3713040" y="46134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713040" y="46134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798640" y="4592520"/>
            <a:ext cx="228600" cy="228600"/>
            <a:chOff x="2798640" y="4592520"/>
            <a:chExt cx="228600" cy="228600"/>
          </a:xfrm>
        </p:grpSpPr>
        <p:sp>
          <p:nvSpPr>
            <p:cNvPr id="93" name=""/>
            <p:cNvSpPr/>
            <p:nvPr/>
          </p:nvSpPr>
          <p:spPr>
            <a:xfrm>
              <a:off x="2798640" y="459252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798640" y="459252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032280" y="4548240"/>
            <a:ext cx="666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4495680"/>
            <a:ext cx="9144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075360" y="4613400"/>
            <a:ext cx="228600" cy="228600"/>
            <a:chOff x="6075360" y="4613400"/>
            <a:chExt cx="228600" cy="228600"/>
          </a:xfrm>
        </p:grpSpPr>
        <p:sp>
          <p:nvSpPr>
            <p:cNvPr id="98" name=""/>
            <p:cNvSpPr/>
            <p:nvPr/>
          </p:nvSpPr>
          <p:spPr>
            <a:xfrm>
              <a:off x="6075360" y="46134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075360" y="46134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160960" y="4592520"/>
            <a:ext cx="228600" cy="228600"/>
            <a:chOff x="5160960" y="4592520"/>
            <a:chExt cx="228600" cy="228600"/>
          </a:xfrm>
        </p:grpSpPr>
        <p:sp>
          <p:nvSpPr>
            <p:cNvPr id="101" name=""/>
            <p:cNvSpPr/>
            <p:nvPr/>
          </p:nvSpPr>
          <p:spPr>
            <a:xfrm>
              <a:off x="5160960" y="459252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5160960" y="459252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 txBox="1"/>
          <p:nvPr/>
        </p:nvSpPr>
        <p:spPr>
          <a:xfrm>
            <a:off x="5394240" y="4548240"/>
            <a:ext cx="666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613560" y="4141800"/>
            <a:ext cx="212724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1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NCLUDING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2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565440" y="1093680"/>
            <a:ext cx="15811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GLE P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bc</dc:creator>
  <dc:description/>
  <dc:language>en-US</dc:language>
  <cp:lastModifiedBy>abc</cp:lastModifiedBy>
  <cp:revision>0</cp:revision>
  <dc:subject/>
  <dc:title/>
</cp:coreProperties>
</file>