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" name=""/>
          <p:cNvGrpSpPr/>
          <p:nvPr/>
        </p:nvGrpSpPr>
        <p:grpSpPr>
          <a:xfrm>
            <a:off x="4648320" y="1925640"/>
            <a:ext cx="228600" cy="228600"/>
            <a:chOff x="4648320" y="1925640"/>
            <a:chExt cx="228600" cy="228600"/>
          </a:xfrm>
        </p:grpSpPr>
        <p:sp>
          <p:nvSpPr>
            <p:cNvPr id="37" name=""/>
            <p:cNvSpPr/>
            <p:nvPr/>
          </p:nvSpPr>
          <p:spPr>
            <a:xfrm>
              <a:off x="4648320" y="192564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flipH="1">
              <a:off x="4648320" y="192564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" name=""/>
          <p:cNvSpPr/>
          <p:nvPr/>
        </p:nvSpPr>
        <p:spPr>
          <a:xfrm>
            <a:off x="6553080" y="1371600"/>
            <a:ext cx="2286000" cy="2057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" name=""/>
          <p:cNvGrpSpPr/>
          <p:nvPr/>
        </p:nvGrpSpPr>
        <p:grpSpPr>
          <a:xfrm>
            <a:off x="2570040" y="1960560"/>
            <a:ext cx="228600" cy="228600"/>
            <a:chOff x="2570040" y="1960560"/>
            <a:chExt cx="228600" cy="228600"/>
          </a:xfrm>
        </p:grpSpPr>
        <p:sp>
          <p:nvSpPr>
            <p:cNvPr id="41" name=""/>
            <p:cNvSpPr/>
            <p:nvPr/>
          </p:nvSpPr>
          <p:spPr>
            <a:xfrm>
              <a:off x="2570040" y="196056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flipH="1">
              <a:off x="2570040" y="196056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" name=""/>
          <p:cNvGrpSpPr/>
          <p:nvPr/>
        </p:nvGrpSpPr>
        <p:grpSpPr>
          <a:xfrm>
            <a:off x="6435720" y="1925640"/>
            <a:ext cx="228600" cy="228600"/>
            <a:chOff x="6435720" y="1925640"/>
            <a:chExt cx="228600" cy="228600"/>
          </a:xfrm>
        </p:grpSpPr>
        <p:sp>
          <p:nvSpPr>
            <p:cNvPr id="44" name=""/>
            <p:cNvSpPr/>
            <p:nvPr/>
          </p:nvSpPr>
          <p:spPr>
            <a:xfrm>
              <a:off x="6435720" y="192564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435720" y="192564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666880" y="2057400"/>
            <a:ext cx="3886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164040" y="976320"/>
            <a:ext cx="29908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E FORM OF COMP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RT CONNE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00840" y="1500120"/>
            <a:ext cx="270360" cy="838440"/>
          </a:xfrm>
          <a:custGeom>
            <a:avLst/>
            <a:gdLst/>
            <a:ahLst/>
            <a:rect l="0" t="0" r="r" b="b"/>
            <a:pathLst>
              <a:path fill="none" w="751" h="2329">
                <a:moveTo>
                  <a:pt x="0" y="2329"/>
                </a:moveTo>
                <a:lnTo>
                  <a:pt x="0" y="2329"/>
                </a:lnTo>
                <a:cubicBezTo>
                  <a:pt x="132" y="2329"/>
                  <a:pt x="261" y="2221"/>
                  <a:pt x="376" y="2017"/>
                </a:cubicBezTo>
                <a:cubicBezTo>
                  <a:pt x="490" y="1813"/>
                  <a:pt x="584" y="1519"/>
                  <a:pt x="650" y="1164"/>
                </a:cubicBezTo>
                <a:cubicBezTo>
                  <a:pt x="716" y="810"/>
                  <a:pt x="751" y="409"/>
                  <a:pt x="751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09960" y="1127160"/>
            <a:ext cx="302040" cy="1064160"/>
          </a:xfrm>
          <a:custGeom>
            <a:avLst/>
            <a:gdLst/>
            <a:ahLst/>
            <a:rect l="0" t="0" r="r" b="b"/>
            <a:pathLst>
              <a:path fill="none" w="839" h="2956">
                <a:moveTo>
                  <a:pt x="0" y="0"/>
                </a:moveTo>
                <a:lnTo>
                  <a:pt x="0" y="0"/>
                </a:lnTo>
                <a:cubicBezTo>
                  <a:pt x="0" y="519"/>
                  <a:pt x="39" y="1029"/>
                  <a:pt x="112" y="1478"/>
                </a:cubicBezTo>
                <a:cubicBezTo>
                  <a:pt x="186" y="1927"/>
                  <a:pt x="292" y="2301"/>
                  <a:pt x="420" y="2560"/>
                </a:cubicBezTo>
                <a:cubicBezTo>
                  <a:pt x="547" y="2819"/>
                  <a:pt x="692" y="2956"/>
                  <a:pt x="839" y="2956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12640" y="1090440"/>
            <a:ext cx="282240" cy="1121040"/>
          </a:xfrm>
          <a:custGeom>
            <a:avLst/>
            <a:gdLst/>
            <a:ahLst/>
            <a:rect l="0" t="0" r="r" b="b"/>
            <a:pathLst>
              <a:path fill="none" w="784" h="3114">
                <a:moveTo>
                  <a:pt x="0" y="3114"/>
                </a:moveTo>
                <a:lnTo>
                  <a:pt x="0" y="3114"/>
                </a:lnTo>
                <a:cubicBezTo>
                  <a:pt x="138" y="3114"/>
                  <a:pt x="273" y="2970"/>
                  <a:pt x="392" y="2697"/>
                </a:cubicBezTo>
                <a:cubicBezTo>
                  <a:pt x="511" y="2423"/>
                  <a:pt x="610" y="2030"/>
                  <a:pt x="679" y="1557"/>
                </a:cubicBezTo>
                <a:cubicBezTo>
                  <a:pt x="748" y="1084"/>
                  <a:pt x="784" y="547"/>
                  <a:pt x="784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976480" y="1519200"/>
            <a:ext cx="270360" cy="838440"/>
          </a:xfrm>
          <a:custGeom>
            <a:avLst/>
            <a:gdLst/>
            <a:ahLst/>
            <a:rect l="0" t="0" r="r" b="b"/>
            <a:pathLst>
              <a:path fill="none" w="751" h="2329">
                <a:moveTo>
                  <a:pt x="0" y="0"/>
                </a:moveTo>
                <a:lnTo>
                  <a:pt x="0" y="0"/>
                </a:lnTo>
                <a:cubicBezTo>
                  <a:pt x="0" y="409"/>
                  <a:pt x="35" y="810"/>
                  <a:pt x="101" y="1165"/>
                </a:cubicBezTo>
                <a:cubicBezTo>
                  <a:pt x="167" y="1519"/>
                  <a:pt x="261" y="1813"/>
                  <a:pt x="376" y="2017"/>
                </a:cubicBezTo>
                <a:cubicBezTo>
                  <a:pt x="490" y="2221"/>
                  <a:pt x="619" y="2329"/>
                  <a:pt x="751" y="2329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371600"/>
            <a:ext cx="2286000" cy="2057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689880" y="1550880"/>
            <a:ext cx="2127240" cy="18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NE 1 RECE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INCLUDING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RMIN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NE 2 D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41360" y="1627200"/>
            <a:ext cx="2190600" cy="13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NE 1 DRIVER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NE 2  RECE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INCLUDING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RMIN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457200" y="1042920"/>
            <a:ext cx="2143440" cy="366840"/>
            <a:chOff x="457200" y="1042920"/>
            <a:chExt cx="2143440" cy="366840"/>
          </a:xfrm>
        </p:grpSpPr>
        <p:grpSp>
          <p:nvGrpSpPr>
            <p:cNvPr id="56" name=""/>
            <p:cNvGrpSpPr/>
            <p:nvPr/>
          </p:nvGrpSpPr>
          <p:grpSpPr>
            <a:xfrm>
              <a:off x="457200" y="1066680"/>
              <a:ext cx="228600" cy="228600"/>
              <a:chOff x="457200" y="1066680"/>
              <a:chExt cx="228600" cy="228600"/>
            </a:xfrm>
          </p:grpSpPr>
          <p:sp>
            <p:nvSpPr>
              <p:cNvPr id="57" name=""/>
              <p:cNvSpPr/>
              <p:nvPr/>
            </p:nvSpPr>
            <p:spPr>
              <a:xfrm>
                <a:off x="457200" y="1066680"/>
                <a:ext cx="22860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H="1">
                <a:off x="457200" y="1066680"/>
                <a:ext cx="22860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 txBox="1"/>
            <p:nvPr/>
          </p:nvSpPr>
          <p:spPr>
            <a:xfrm>
              <a:off x="746280" y="1042920"/>
              <a:ext cx="185436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CONNEC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bc</dc:creator>
  <dc:description/>
  <dc:language>en-US</dc:language>
  <cp:lastModifiedBy>abc</cp:lastModifiedBy>
  <cp:revision>0</cp:revision>
  <dc:subject/>
  <dc:title/>
</cp:coreProperties>
</file>